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9601-97BD-495E-935E-0D0D3B8DC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114A-F94B-4ED7-8618-21926379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51E5-6D26-4522-813E-1AC149CA2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08A7-1F46-4FDC-BDD2-FC1E0F27A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E155-71E5-428E-8862-5BD8D474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9715-0867-4B61-A087-9436C46F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4533-A87A-4FC5-9D84-6C1CF26F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0964-D340-4823-A3AA-345D8F6D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A0ED-A6E7-4BA2-A48D-8655B2D3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9E70-F9A2-4801-8F46-BAC99382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464B-50B3-4B7C-8B18-90DDF0F2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AFB3-B9B0-4511-AF3D-3102221D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BBA8-1E07-49E4-8409-3E6ED2497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3.xml"/><Relationship Id="rId14" Type="http://schemas.openxmlformats.org/officeDocument/2006/relationships/slide" Target="slide3.xml"/><Relationship Id="rId15" Type="http://schemas.openxmlformats.org/officeDocument/2006/relationships/slide" Target="slide3.xml"/><Relationship Id="rId16" Type="http://schemas.openxmlformats.org/officeDocument/2006/relationships/slide" Target="slide5.xml"/><Relationship Id="rId17" Type="http://schemas.openxmlformats.org/officeDocument/2006/relationships/slide" Target="slide5.xml"/><Relationship Id="rId18" Type="http://schemas.openxmlformats.org/officeDocument/2006/relationships/slide" Target="slide5.xml"/><Relationship Id="rId19" Type="http://schemas.openxmlformats.org/officeDocument/2006/relationships/slide" Target="slide5.xml"/><Relationship Id="rId2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6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5.png"/><Relationship Id="rId40" Type="http://schemas.openxmlformats.org/officeDocument/2006/relationships/image" Target="../media/image6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image" Target="../media/image1.png"/><Relationship Id="rId4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6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5.png"/><Relationship Id="rId40" Type="http://schemas.openxmlformats.org/officeDocument/2006/relationships/image" Target="../media/image6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image" Target="../media/image1.png"/><Relationship Id="rId47" Type="http://schemas.openxmlformats.org/officeDocument/2006/relationships/image" Target="../media/image7.png"/><Relationship Id="rId48" Type="http://schemas.openxmlformats.org/officeDocument/2006/relationships/image" Target="../media/image7.png"/><Relationship Id="rId4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5.png"/><Relationship Id="rId28" Type="http://schemas.openxmlformats.org/officeDocument/2006/relationships/image" Target="../media/image6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6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5.png"/><Relationship Id="rId36" Type="http://schemas.openxmlformats.org/officeDocument/2006/relationships/image" Target="../media/image6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7.png"/><Relationship Id="rId44" Type="http://schemas.openxmlformats.org/officeDocument/2006/relationships/image" Target="../media/image7.png"/><Relationship Id="rId4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6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5.png"/><Relationship Id="rId28" Type="http://schemas.openxmlformats.org/officeDocument/2006/relationships/image" Target="../media/image6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6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5.png"/><Relationship Id="rId36" Type="http://schemas.openxmlformats.org/officeDocument/2006/relationships/image" Target="../media/image6.png"/><Relationship Id="rId37" Type="http://schemas.openxmlformats.org/officeDocument/2006/relationships/image" Target="../media/image6.png"/><Relationship Id="rId38" Type="http://schemas.openxmlformats.org/officeDocument/2006/relationships/image" Target="../media/image5.png"/><Relationship Id="rId39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0840" y="2384280"/>
            <a:ext cx="8280360" cy="372456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1" lang="ru-RU" sz="6000" spc="-1" strike="noStrike">
                <a:solidFill>
                  <a:srgbClr val="a50021"/>
                </a:solidFill>
                <a:latin typeface="Book Antiqua"/>
              </a:rPr>
              <a:t>СТАТИЧЕСК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Book Antiqua"/>
              </a:rPr>
              <a:t>НЕОПРЕДЕЛИМЫЕ СИСТЕМ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9680" y="260280"/>
            <a:ext cx="828036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ru-RU" sz="5400" spc="-1" strike="noStrike">
                <a:solidFill>
                  <a:srgbClr val="333399"/>
                </a:solidFill>
                <a:latin typeface="New_Zelek"/>
              </a:rPr>
              <a:t>С</a:t>
            </a:r>
            <a:r>
              <a:rPr b="1" lang="ru-RU" sz="4400" spc="-1" strike="noStrike">
                <a:solidFill>
                  <a:srgbClr val="333399"/>
                </a:solidFill>
                <a:latin typeface="New_Zelek"/>
              </a:rPr>
              <a:t>ТРОИТЕЛЬНАЯ МЕХА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New_Zelek"/>
              </a:rPr>
              <a:t>Ч</a:t>
            </a:r>
            <a:r>
              <a:rPr b="1" lang="ru-RU" sz="4400" spc="-1" strike="noStrike">
                <a:solidFill>
                  <a:srgbClr val="333399"/>
                </a:solidFill>
                <a:latin typeface="New_Zelek"/>
              </a:rPr>
              <a:t>асть </a:t>
            </a:r>
            <a:r>
              <a:rPr b="1" lang="en-US" sz="5400" spc="-1" strike="noStrike">
                <a:solidFill>
                  <a:srgbClr val="333399"/>
                </a:solidFill>
                <a:latin typeface="New_Zelek"/>
              </a:rPr>
              <a:t>I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 rot="5400000">
            <a:off x="417240" y="176040"/>
            <a:ext cx="405000" cy="668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solidFill>
                <a:srgbClr val="993366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9640" y="371520"/>
            <a:ext cx="287280" cy="2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ВГ</a:t>
            </a:r>
            <a:endParaRPr b="1" lang="en-US" sz="1800" spc="1" strike="noStrike">
              <a:ln w="93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32000" y="5376960"/>
            <a:ext cx="648000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US" sz="4400" spc="-1" strike="noStrike">
                <a:solidFill>
                  <a:srgbClr val="333399"/>
                </a:solidFill>
                <a:latin typeface="Book Antiqua"/>
              </a:rPr>
              <a:t>Расчёт СН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ook Antiqua"/>
              </a:rPr>
              <a:t>смешанным метод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СМЕШАННЫЙ МЕТОД,  МЕТОД СИЛ  И  МЕТОД ПЕРЕМЕ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623880" y="762120"/>
                <a:ext cx="5964120" cy="20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  <m:e>
                              <m:sSubSup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,</m:t>
                                  </m:r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,</m:t>
                                  </m:r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  <m:e>
                              <m:sSubSup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,</m:t>
                                  </m:r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,</m:t>
                                  </m:r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p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nalignl</m:t>
                                      </m:r>
                                      <m:sSub>
                                        <m:e>
                                          <m:eqArr>
                                            <m:e>
                                              <m:r>
                                                <m:t xml:space="preserve">0</m:t>
                                              </m:r>
                                            </m:e>
                                          </m:eqArr>
                                        </m:e>
                                        <m:sub/>
                                      </m:sSub>
                                    </m:sub>
                                  </m:sSub>
                                </m:e>
                                <m:sup>
                                  <m:r>
                                    <m:t xml:space="preserve">'</m:t>
                                  </m:r>
                                </m:sup>
                              </m:sSup>
                            </m:e>
                          </m:mr>
                        </m:m>
                      </m:e>
                      <m:e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2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…</m:t>
                        </m:r>
                      </m:e>
                      <m:e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b>
                        </m:sSub>
                      </m:e>
                      <m:e/>
                      <m:e>
                        <m:sSubSup>
                          <m:e>
                            <m:r>
                              <m:t xml:space="preserve">δ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/>
                      <m:e>
                        <m:sSubSup>
                          <m:e>
                            <m:r>
                              <m:t xml:space="preserve">δ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/>
                      <m:e>
                        <m:r>
                          <m:t xml:space="preserve">…</m:t>
                        </m:r>
                      </m:e>
                      <m:e/>
                      <m:e>
                        <m:sSup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nalignl</m:t>
                                </m:r>
                                <m:sSub>
                                  <m:e>
                                    <m:eqArr>
                                      <m:e>
                                        <m:r>
                                          <m:t xml:space="preserve">0</m:t>
                                        </m:r>
                                      </m:e>
                                    </m:eqArr>
                                  </m:e>
                                  <m:sub/>
                                </m:sSub>
                              </m:sub>
                            </m:sSub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  <m:e/>
                      <m:e/>
                      <m:e/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/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/>
                      <m:e>
                        <m:r>
                          <m:t xml:space="preserve">…</m:t>
                        </m:r>
                      </m:e>
                      <m:e/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…</m:t>
                        </m:r>
                      </m:e>
                      <m:e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</m:sSub>
                      </m:e>
                      <m:e/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,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/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,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/>
                      <m:e>
                        <m:r>
                          <m:t xml:space="preserve">…</m:t>
                        </m:r>
                      </m:e>
                      <m:e/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…</m:t>
                        </m:r>
                      </m:e>
                      <m:e/>
                      <m:e>
                        <m:r>
                          <m:t xml:space="preserve">ralignl</m:t>
                        </m:r>
                        <m:sSub>
                          <m:e>
                            <m:eqAr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,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eqArr>
                          </m:e>
                          <m:sub/>
                        </m:sSub>
                      </m:e>
                      <m:e/>
                      <m:e/>
                      <m:e/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/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/>
                      <m:e>
                        <m:r>
                          <m:t xml:space="preserve">…</m:t>
                        </m:r>
                      </m:e>
                      <m:e/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…</m:t>
                        </m:r>
                      </m:e>
                      <m:e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</m:sSub>
                      </m:e>
                      <m:e/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Σ 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Σ  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Σ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Σ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Σ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Σ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6" name=""/>
          <p:cNvSpPr/>
          <p:nvPr/>
        </p:nvSpPr>
        <p:spPr>
          <a:xfrm>
            <a:off x="766800" y="1290600"/>
            <a:ext cx="394956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 .   .   .   .   .   .   .   .   .   .   .   .   .   .   .   .   .   . 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781200" y="2370240"/>
            <a:ext cx="3957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 .   .   .   .   .   .   .   .   .   .   .   .   .   .   .   .   .   .  .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2568600" y="836640"/>
            <a:ext cx="0" cy="19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698400" y="1811160"/>
            <a:ext cx="4106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4970520" y="18111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5638680" y="18064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504720" y="816120"/>
            <a:ext cx="71640" cy="971280"/>
          </a:xfrm>
          <a:custGeom>
            <a:avLst/>
            <a:gdLst>
              <a:gd name="textAreaLeft" fmla="*/ 45720 w 71640"/>
              <a:gd name="textAreaRight" fmla="*/ 72000 w 71640"/>
              <a:gd name="textAreaTop" fmla="*/ 25200 h 971280"/>
              <a:gd name="textAreaBottom" fmla="*/ 946080 h 97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507960" y="1825560"/>
            <a:ext cx="69840" cy="968400"/>
          </a:xfrm>
          <a:custGeom>
            <a:avLst/>
            <a:gdLst>
              <a:gd name="textAreaLeft" fmla="*/ 44640 w 69840"/>
              <a:gd name="textAreaRight" fmla="*/ 69840 w 69840"/>
              <a:gd name="textAreaTop" fmla="*/ 25200 h 968400"/>
              <a:gd name="textAreaBottom" fmla="*/ 943200 h 96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rot="16200000">
            <a:off x="1560240" y="1992240"/>
            <a:ext cx="109440" cy="1871640"/>
          </a:xfrm>
          <a:custGeom>
            <a:avLst/>
            <a:gdLst>
              <a:gd name="textAreaLeft" fmla="*/ 69840 w 109440"/>
              <a:gd name="textAreaRight" fmla="*/ 109800 w 10944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 rot="16200000">
            <a:off x="3675600" y="1835640"/>
            <a:ext cx="69840" cy="2195640"/>
          </a:xfrm>
          <a:custGeom>
            <a:avLst/>
            <a:gdLst>
              <a:gd name="textAreaLeft" fmla="*/ 44640 w 69840"/>
              <a:gd name="textAreaRight" fmla="*/ 69840 w 69840"/>
              <a:gd name="textAreaTop" fmla="*/ 57240 h 2195640"/>
              <a:gd name="textAreaBottom" fmla="*/ 2138400 h 21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 rot="16200000">
            <a:off x="114120" y="1046880"/>
            <a:ext cx="50508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1461960" y="287820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 rot="16200000">
            <a:off x="116280" y="2047680"/>
            <a:ext cx="50472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3537000" y="28782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0" name=""/>
              <p:cNvSpPr txBox="1"/>
              <p:nvPr/>
            </p:nvSpPr>
            <p:spPr>
              <a:xfrm>
                <a:off x="6642000" y="1481040"/>
                <a:ext cx="223200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</m:e>
                            <m:e>
                              <m:sSubSup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Z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X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Z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t xml:space="preserve">Σ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t xml:space="preserve">Σ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1" name=""/>
          <p:cNvSpPr/>
          <p:nvPr/>
        </p:nvSpPr>
        <p:spPr>
          <a:xfrm>
            <a:off x="6775560" y="2230560"/>
            <a:ext cx="1955520" cy="47520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XZ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2036880" y="3297240"/>
            <a:ext cx="969840" cy="426600"/>
          </a:xfrm>
          <a:prstGeom prst="rect">
            <a:avLst/>
          </a:prstGeom>
          <a:solidFill>
            <a:srgbClr val="c8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6600960" y="8222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КУ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1692360" y="3956040"/>
            <a:ext cx="1655640" cy="426600"/>
          </a:xfrm>
          <a:prstGeom prst="rect">
            <a:avLst/>
          </a:prstGeom>
          <a:solidFill>
            <a:srgbClr val="c8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n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2301840" y="3683160"/>
            <a:ext cx="432000" cy="288720"/>
          </a:xfrm>
          <a:prstGeom prst="downArrow">
            <a:avLst>
              <a:gd name="adj1" fmla="val 44120"/>
              <a:gd name="adj2" fmla="val 423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222120" y="735120"/>
            <a:ext cx="6132600" cy="2514600"/>
          </a:xfrm>
          <a:custGeom>
            <a:avLst/>
            <a:gdLst/>
            <a:ahLst/>
            <a:rect l="l" t="t" r="r" b="b"/>
            <a:pathLst>
              <a:path w="3732" h="1584">
                <a:moveTo>
                  <a:pt x="0" y="1362"/>
                </a:moveTo>
                <a:lnTo>
                  <a:pt x="0" y="678"/>
                </a:lnTo>
                <a:lnTo>
                  <a:pt x="1380" y="678"/>
                </a:lnTo>
                <a:lnTo>
                  <a:pt x="1374" y="0"/>
                </a:lnTo>
                <a:lnTo>
                  <a:pt x="2742" y="0"/>
                </a:lnTo>
                <a:lnTo>
                  <a:pt x="2742" y="672"/>
                </a:lnTo>
                <a:lnTo>
                  <a:pt x="2802" y="708"/>
                </a:lnTo>
                <a:lnTo>
                  <a:pt x="2862" y="672"/>
                </a:lnTo>
                <a:lnTo>
                  <a:pt x="3198" y="666"/>
                </a:lnTo>
                <a:lnTo>
                  <a:pt x="3258" y="792"/>
                </a:lnTo>
                <a:lnTo>
                  <a:pt x="3318" y="666"/>
                </a:lnTo>
                <a:lnTo>
                  <a:pt x="3731" y="676"/>
                </a:lnTo>
                <a:lnTo>
                  <a:pt x="3732" y="1374"/>
                </a:lnTo>
                <a:lnTo>
                  <a:pt x="2778" y="1374"/>
                </a:lnTo>
                <a:lnTo>
                  <a:pt x="2778" y="1584"/>
                </a:lnTo>
                <a:lnTo>
                  <a:pt x="1422" y="1584"/>
                </a:lnTo>
                <a:lnTo>
                  <a:pt x="1422" y="1362"/>
                </a:lnTo>
                <a:lnTo>
                  <a:pt x="0" y="1362"/>
                </a:lnTo>
                <a:close/>
              </a:path>
            </a:pathLst>
          </a:custGeom>
          <a:solidFill>
            <a:srgbClr val="ffffcc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1573200" y="4373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 Black"/>
              </a:rPr>
              <a:t>МЕТОД  С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1144440" y="5268960"/>
                <a:ext cx="317340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m>
                          <m:mr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 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Σ 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Σ  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t xml:space="preserve">nΣ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9" name=""/>
          <p:cNvSpPr/>
          <p:nvPr/>
        </p:nvSpPr>
        <p:spPr>
          <a:xfrm>
            <a:off x="1898640" y="4710240"/>
            <a:ext cx="13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КУМ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5924520" y="3297240"/>
            <a:ext cx="969840" cy="426600"/>
          </a:xfrm>
          <a:prstGeom prst="rect">
            <a:avLst/>
          </a:prstGeom>
          <a:solidFill>
            <a:srgbClr val="c8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5580000" y="3956040"/>
            <a:ext cx="1656000" cy="426600"/>
          </a:xfrm>
          <a:prstGeom prst="rect">
            <a:avLst/>
          </a:prstGeom>
          <a:solidFill>
            <a:srgbClr val="c8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n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Z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6189840" y="3683160"/>
            <a:ext cx="431640" cy="288720"/>
          </a:xfrm>
          <a:prstGeom prst="downArrow">
            <a:avLst>
              <a:gd name="adj1" fmla="val 44120"/>
              <a:gd name="adj2" fmla="val 423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4716360" y="4373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 Black"/>
              </a:rPr>
              <a:t>МЕТОД  ПЕРЕМЕ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4870440" y="5249880"/>
                <a:ext cx="3465360" cy="12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m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 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Σ 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Σ  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t xml:space="preserve">nΣ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5" name=""/>
          <p:cNvSpPr/>
          <p:nvPr/>
        </p:nvSpPr>
        <p:spPr>
          <a:xfrm>
            <a:off x="5786280" y="4711680"/>
            <a:ext cx="13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КУМ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279360" y="723960"/>
            <a:ext cx="6083280" cy="2514600"/>
          </a:xfrm>
          <a:custGeom>
            <a:avLst/>
            <a:gdLst/>
            <a:ahLst/>
            <a:rect l="l" t="t" r="r" b="b"/>
            <a:pathLst>
              <a:path w="3832" h="1584">
                <a:moveTo>
                  <a:pt x="216" y="1584"/>
                </a:moveTo>
                <a:lnTo>
                  <a:pt x="216" y="688"/>
                </a:lnTo>
                <a:lnTo>
                  <a:pt x="0" y="688"/>
                </a:lnTo>
                <a:lnTo>
                  <a:pt x="0" y="0"/>
                </a:lnTo>
                <a:lnTo>
                  <a:pt x="3826" y="2"/>
                </a:lnTo>
                <a:lnTo>
                  <a:pt x="3832" y="696"/>
                </a:lnTo>
                <a:lnTo>
                  <a:pt x="3373" y="696"/>
                </a:lnTo>
                <a:lnTo>
                  <a:pt x="3318" y="742"/>
                </a:lnTo>
                <a:lnTo>
                  <a:pt x="3256" y="707"/>
                </a:lnTo>
                <a:lnTo>
                  <a:pt x="2919" y="707"/>
                </a:lnTo>
                <a:lnTo>
                  <a:pt x="2864" y="742"/>
                </a:lnTo>
                <a:lnTo>
                  <a:pt x="2809" y="707"/>
                </a:lnTo>
                <a:lnTo>
                  <a:pt x="1431" y="707"/>
                </a:lnTo>
                <a:lnTo>
                  <a:pt x="1431" y="1567"/>
                </a:lnTo>
                <a:lnTo>
                  <a:pt x="216" y="1584"/>
                </a:lnTo>
                <a:close/>
              </a:path>
            </a:pathLst>
          </a:custGeom>
          <a:solidFill>
            <a:srgbClr val="ffffcc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8" dur="indefinite" restart="never" nodeType="tmRoot">
          <p:childTnLst>
            <p:seq>
              <p:cTn id="3289" dur="indefinite" nodeType="mainSeq">
                <p:childTnLst>
                  <p:par>
                    <p:cTn id="3290" fill="hold">
                      <p:stCondLst>
                        <p:cond delay="0"/>
                      </p:stCondLst>
                      <p:childTnLst>
                        <p:par>
                          <p:cTn id="3291" fill="hold">
                            <p:stCondLst>
                              <p:cond delay="0"/>
                            </p:stCondLst>
                            <p:childTnLst>
                              <p:par>
                                <p:cTn id="32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4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8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2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6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0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1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4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5" fill="hold">
                            <p:stCondLst>
                              <p:cond delay="6000"/>
                            </p:stCondLst>
                            <p:childTnLst>
                              <p:par>
                                <p:cTn id="33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8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9" fill="hold">
                            <p:stCondLst>
                              <p:cond delay="7000"/>
                            </p:stCondLst>
                            <p:childTnLst>
                              <p:par>
                                <p:cTn id="33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2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3" fill="hold">
                            <p:stCondLst>
                              <p:cond delay="8000"/>
                            </p:stCondLst>
                            <p:childTnLst>
                              <p:par>
                                <p:cTn id="33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6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7" fill="hold">
                            <p:stCondLst>
                              <p:cond delay="9000"/>
                            </p:stCondLst>
                            <p:childTnLst>
                              <p:par>
                                <p:cTn id="33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0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4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8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2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6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7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0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1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4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5" fill="hold">
                            <p:stCondLst>
                              <p:cond delay="16000"/>
                            </p:stCondLst>
                            <p:childTnLst>
                              <p:par>
                                <p:cTn id="33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8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9" fill="hold">
                            <p:stCondLst>
                              <p:cond delay="17000"/>
                            </p:stCondLst>
                            <p:childTnLst>
                              <p:par>
                                <p:cTn id="33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2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3" fill="hold">
                            <p:stCondLst>
                              <p:cond delay="18000"/>
                            </p:stCondLst>
                            <p:childTnLst>
                              <p:par>
                                <p:cTn id="33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6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7" fill="hold">
                      <p:stCondLst>
                        <p:cond delay="indefinite"/>
                      </p:stCondLst>
                      <p:childTnLst>
                        <p:par>
                          <p:cTn id="3368" fill="hold">
                            <p:stCondLst>
                              <p:cond delay="0"/>
                            </p:stCondLst>
                            <p:childTnLst>
                              <p:par>
                                <p:cTn id="33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1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2" dur="10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3" dur="10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6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7" dur="10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8" dur="10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1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2" dur="1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3" dur="1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6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7" dur="10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8" dur="10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9" fill="hold">
                      <p:stCondLst>
                        <p:cond delay="indefinite"/>
                      </p:stCondLst>
                      <p:childTnLst>
                        <p:par>
                          <p:cTn id="3390" fill="hold">
                            <p:stCondLst>
                              <p:cond delay="0"/>
                            </p:stCondLst>
                            <p:childTnLst>
                              <p:par>
                                <p:cTn id="33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3" dur="10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4" dur="10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5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8" dur="10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9" dur="10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0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1" fill="hold">
                      <p:stCondLst>
                        <p:cond delay="indefinite"/>
                      </p:stCondLst>
                      <p:childTnLst>
                        <p:par>
                          <p:cTn id="3402" fill="hold">
                            <p:stCondLst>
                              <p:cond delay="0"/>
                            </p:stCondLst>
                            <p:childTnLst>
                              <p:par>
                                <p:cTn id="34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5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6" dur="10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7" dur="10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8" fill="hold">
                      <p:stCondLst>
                        <p:cond delay="indefinite"/>
                      </p:stCondLst>
                      <p:childTnLst>
                        <p:par>
                          <p:cTn id="3409" fill="hold">
                            <p:stCondLst>
                              <p:cond delay="0"/>
                            </p:stCondLst>
                            <p:childTnLst>
                              <p:par>
                                <p:cTn id="34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2" dur="1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3" dur="10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4" dur="10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7" dur="1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8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9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2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3" dur="10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4" dur="10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7" dur="1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8" dur="10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9" dur="10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0" fill="hold">
                      <p:stCondLst>
                        <p:cond delay="indefinite"/>
                      </p:stCondLst>
                      <p:childTnLst>
                        <p:par>
                          <p:cTn id="3431" fill="hold">
                            <p:stCondLst>
                              <p:cond delay="0"/>
                            </p:stCondLst>
                            <p:childTnLst>
                              <p:par>
                                <p:cTn id="34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4" dur="10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5" dur="10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6" dur="10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9" dur="10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0" dur="10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1" dur="10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43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5" fill="hold">
                      <p:stCondLst>
                        <p:cond delay="indefinite"/>
                      </p:stCondLst>
                      <p:childTnLst>
                        <p:par>
                          <p:cTn id="3446" fill="hold">
                            <p:stCondLst>
                              <p:cond delay="0"/>
                            </p:stCondLst>
                            <p:childTnLst>
                              <p:par>
                                <p:cTn id="34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9" dur="10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0" dur="1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1" dur="1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СМЕШАННЫЙ МЕТОД,  МЕТОД СИЛ  И  МЕТОД ПЕРЕМЕ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623880" y="762120"/>
                <a:ext cx="5964120" cy="20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  <m:e>
                              <m:sSubSup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,</m:t>
                                  </m:r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,</m:t>
                                  </m:r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  <m:e>
                              <m:sSubSup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,</m:t>
                                  </m:r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,</m:t>
                                  </m:r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p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nalignl</m:t>
                                      </m:r>
                                      <m:sSub>
                                        <m:e>
                                          <m:eqArr>
                                            <m:e>
                                              <m:r>
                                                <m:t xml:space="preserve">0</m:t>
                                              </m:r>
                                            </m:e>
                                          </m:eqArr>
                                        </m:e>
                                        <m:sub/>
                                      </m:sSub>
                                    </m:sub>
                                  </m:sSub>
                                </m:e>
                                <m:sup>
                                  <m:r>
                                    <m:t xml:space="preserve">'</m:t>
                                  </m:r>
                                </m:sup>
                              </m:sSup>
                            </m:e>
                          </m:mr>
                        </m:m>
                      </m:e>
                      <m:e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2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…</m:t>
                        </m:r>
                      </m:e>
                      <m:e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b>
                        </m:sSub>
                      </m:e>
                      <m:e/>
                      <m:e>
                        <m:sSubSup>
                          <m:e>
                            <m:r>
                              <m:t xml:space="preserve">δ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/>
                      <m:e>
                        <m:sSubSup>
                          <m:e>
                            <m:r>
                              <m:t xml:space="preserve">δ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/>
                      <m:e>
                        <m:r>
                          <m:t xml:space="preserve">…</m:t>
                        </m:r>
                      </m:e>
                      <m:e/>
                      <m:e>
                        <m:sSup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nalignl</m:t>
                                </m:r>
                                <m:sSub>
                                  <m:e>
                                    <m:eqArr>
                                      <m:e>
                                        <m:r>
                                          <m:t xml:space="preserve">0</m:t>
                                        </m:r>
                                      </m:e>
                                    </m:eqArr>
                                  </m:e>
                                  <m:sub/>
                                </m:sSub>
                              </m:sub>
                            </m:sSub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  <m:e/>
                      <m:e/>
                      <m:e/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/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/>
                      <m:e>
                        <m:r>
                          <m:t xml:space="preserve">…</m:t>
                        </m:r>
                      </m:e>
                      <m:e/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…</m:t>
                        </m:r>
                      </m:e>
                      <m:e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</m:sSub>
                      </m:e>
                      <m:e/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,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/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,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/>
                      <m:e>
                        <m:r>
                          <m:t xml:space="preserve">…</m:t>
                        </m:r>
                      </m:e>
                      <m:e/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…</m:t>
                        </m:r>
                      </m:e>
                      <m:e/>
                      <m:e>
                        <m:r>
                          <m:t xml:space="preserve">ralignl</m:t>
                        </m:r>
                        <m:sSub>
                          <m:e>
                            <m:eqAr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,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eqArr>
                          </m:e>
                          <m:sub/>
                        </m:sSub>
                      </m:e>
                      <m:e/>
                      <m:e/>
                      <m:e/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/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/>
                      <m:e>
                        <m:r>
                          <m:t xml:space="preserve">…</m:t>
                        </m:r>
                      </m:e>
                      <m:e/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…</m:t>
                        </m:r>
                      </m:e>
                      <m:e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</m:sSub>
                      </m:e>
                      <m:e/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Σ 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Σ  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Σ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Σ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Σ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Σ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0" name=""/>
          <p:cNvSpPr/>
          <p:nvPr/>
        </p:nvSpPr>
        <p:spPr>
          <a:xfrm>
            <a:off x="774720" y="1293840"/>
            <a:ext cx="395748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 .   .   .   .   .   .   .   .   .   .   .   .   .   .   .   .   .   . 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781200" y="2376360"/>
            <a:ext cx="3957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 .   .   .   .   .   .   .   .   .   .   .   .   .   .   .   .   .   .  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2575080" y="836640"/>
            <a:ext cx="0" cy="19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698400" y="1805040"/>
            <a:ext cx="4106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4957920" y="180648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5653080" y="18129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506520" y="826920"/>
            <a:ext cx="71280" cy="971640"/>
          </a:xfrm>
          <a:custGeom>
            <a:avLst/>
            <a:gdLst>
              <a:gd name="textAreaLeft" fmla="*/ 45720 w 71280"/>
              <a:gd name="textAreaRight" fmla="*/ 71640 w 71280"/>
              <a:gd name="textAreaTop" fmla="*/ 25200 h 971640"/>
              <a:gd name="textAreaBottom" fmla="*/ 946440 h 9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515880" y="1828800"/>
            <a:ext cx="69840" cy="971640"/>
          </a:xfrm>
          <a:custGeom>
            <a:avLst/>
            <a:gdLst>
              <a:gd name="textAreaLeft" fmla="*/ 44640 w 69840"/>
              <a:gd name="textAreaRight" fmla="*/ 69840 w 69840"/>
              <a:gd name="textAreaTop" fmla="*/ 25200 h 971640"/>
              <a:gd name="textAreaBottom" fmla="*/ 946440 h 9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 rot="16200000">
            <a:off x="1559880" y="1996200"/>
            <a:ext cx="109440" cy="1860480"/>
          </a:xfrm>
          <a:custGeom>
            <a:avLst/>
            <a:gdLst>
              <a:gd name="textAreaLeft" fmla="*/ 69840 w 109440"/>
              <a:gd name="textAreaRight" fmla="*/ 109800 w 109440"/>
              <a:gd name="textAreaTop" fmla="*/ 48240 h 1860480"/>
              <a:gd name="textAreaBottom" fmla="*/ 1812240 h 186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 rot="16200000">
            <a:off x="3667680" y="1829520"/>
            <a:ext cx="69840" cy="2195640"/>
          </a:xfrm>
          <a:custGeom>
            <a:avLst/>
            <a:gdLst>
              <a:gd name="textAreaLeft" fmla="*/ 44640 w 69840"/>
              <a:gd name="textAreaRight" fmla="*/ 69840 w 69840"/>
              <a:gd name="textAreaTop" fmla="*/ 57240 h 2195640"/>
              <a:gd name="textAreaBottom" fmla="*/ 2138400 h 21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 rot="16200000">
            <a:off x="115920" y="1046880"/>
            <a:ext cx="50508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1461960" y="287820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 rot="16200000">
            <a:off x="117360" y="2042280"/>
            <a:ext cx="50508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3543480" y="28782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4" name=""/>
              <p:cNvSpPr txBox="1"/>
              <p:nvPr/>
            </p:nvSpPr>
            <p:spPr>
              <a:xfrm>
                <a:off x="6642000" y="1481040"/>
                <a:ext cx="22320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</m:e>
                            <m:e>
                              <m:sSubSup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Z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X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Z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t xml:space="preserve">Σ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t xml:space="preserve">Σ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5" name=""/>
          <p:cNvSpPr/>
          <p:nvPr/>
        </p:nvSpPr>
        <p:spPr>
          <a:xfrm>
            <a:off x="6775560" y="2230560"/>
            <a:ext cx="1955520" cy="47520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XZ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2036880" y="3297240"/>
            <a:ext cx="969840" cy="426600"/>
          </a:xfrm>
          <a:prstGeom prst="rect">
            <a:avLst/>
          </a:prstGeom>
          <a:solidFill>
            <a:srgbClr val="c8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6600960" y="8222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КУ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1692360" y="3956040"/>
            <a:ext cx="1655640" cy="426600"/>
          </a:xfrm>
          <a:prstGeom prst="rect">
            <a:avLst/>
          </a:prstGeom>
          <a:solidFill>
            <a:srgbClr val="c8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n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2301840" y="3683160"/>
            <a:ext cx="432000" cy="288720"/>
          </a:xfrm>
          <a:prstGeom prst="downArrow">
            <a:avLst>
              <a:gd name="adj1" fmla="val 44120"/>
              <a:gd name="adj2" fmla="val 423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1573200" y="4373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 Black"/>
              </a:rPr>
              <a:t>МЕТОД  С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1" name=""/>
              <p:cNvSpPr txBox="1"/>
              <p:nvPr/>
            </p:nvSpPr>
            <p:spPr>
              <a:xfrm>
                <a:off x="1144440" y="5268960"/>
                <a:ext cx="317340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m>
                          <m:mr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 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Σ 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Σ  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t xml:space="preserve">nΣ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2" name=""/>
          <p:cNvSpPr/>
          <p:nvPr/>
        </p:nvSpPr>
        <p:spPr>
          <a:xfrm>
            <a:off x="1898640" y="4710240"/>
            <a:ext cx="13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КУМ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5924520" y="3297240"/>
            <a:ext cx="969840" cy="426600"/>
          </a:xfrm>
          <a:prstGeom prst="rect">
            <a:avLst/>
          </a:prstGeom>
          <a:solidFill>
            <a:srgbClr val="c8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5580000" y="3956040"/>
            <a:ext cx="1656000" cy="426600"/>
          </a:xfrm>
          <a:prstGeom prst="rect">
            <a:avLst/>
          </a:prstGeom>
          <a:solidFill>
            <a:srgbClr val="c8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n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Z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6189840" y="3683160"/>
            <a:ext cx="431640" cy="288720"/>
          </a:xfrm>
          <a:prstGeom prst="downArrow">
            <a:avLst>
              <a:gd name="adj1" fmla="val 44120"/>
              <a:gd name="adj2" fmla="val 423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4716360" y="4373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 Black"/>
              </a:rPr>
              <a:t>МЕТОД  ПЕРЕМЕ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7" name=""/>
              <p:cNvSpPr txBox="1"/>
              <p:nvPr/>
            </p:nvSpPr>
            <p:spPr>
              <a:xfrm>
                <a:off x="4870440" y="5249880"/>
                <a:ext cx="3465360" cy="12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m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 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Σ 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Σ  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 </m:t>
                                  </m:r>
                                  <m:r>
                                    <m:t xml:space="preserve">nΣ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8" name=""/>
          <p:cNvSpPr/>
          <p:nvPr/>
        </p:nvSpPr>
        <p:spPr>
          <a:xfrm>
            <a:off x="5786280" y="4711680"/>
            <a:ext cx="13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КУМ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3165480" y="4784760"/>
            <a:ext cx="1728720" cy="39888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3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7118280" y="4784760"/>
            <a:ext cx="1630440" cy="39888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3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2" dur="indefinite" restart="never" nodeType="tmRoot">
          <p:childTnLst>
            <p:seq>
              <p:cTn id="3453" dur="indefinite" nodeType="mainSeq">
                <p:childTnLst>
                  <p:par>
                    <p:cTn id="3454" fill="hold">
                      <p:stCondLst>
                        <p:cond delay="0"/>
                      </p:stCondLst>
                      <p:childTnLst>
                        <p:par>
                          <p:cTn id="3455" fill="hold">
                            <p:stCondLst>
                              <p:cond delay="0"/>
                            </p:stCondLst>
                            <p:childTnLst>
                              <p:par>
                                <p:cTn id="34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8" fill="hold">
                            <p:stCondLst>
                              <p:cond delay="0"/>
                            </p:stCondLst>
                            <p:childTnLst>
                              <p:par>
                                <p:cTn id="34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1" fill="hold">
                            <p:stCondLst>
                              <p:cond delay="0"/>
                            </p:stCondLst>
                            <p:childTnLst>
                              <p:par>
                                <p:cTn id="34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4" fill="hold">
                            <p:stCondLst>
                              <p:cond delay="0"/>
                            </p:stCondLst>
                            <p:childTnLst>
                              <p:par>
                                <p:cTn id="34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7" fill="hold">
                            <p:stCondLst>
                              <p:cond delay="0"/>
                            </p:stCondLst>
                            <p:childTnLst>
                              <p:par>
                                <p:cTn id="34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0" fill="hold">
                            <p:stCondLst>
                              <p:cond delay="0"/>
                            </p:stCondLst>
                            <p:childTnLst>
                              <p:par>
                                <p:cTn id="34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3" fill="hold">
                            <p:stCondLst>
                              <p:cond delay="0"/>
                            </p:stCondLst>
                            <p:childTnLst>
                              <p:par>
                                <p:cTn id="34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6" fill="hold">
                            <p:stCondLst>
                              <p:cond delay="0"/>
                            </p:stCondLst>
                            <p:childTnLst>
                              <p:par>
                                <p:cTn id="34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9" fill="hold">
                            <p:stCondLst>
                              <p:cond delay="0"/>
                            </p:stCondLst>
                            <p:childTnLst>
                              <p:par>
                                <p:cTn id="3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2" fill="hold">
                            <p:stCondLst>
                              <p:cond delay="0"/>
                            </p:stCondLst>
                            <p:childTnLst>
                              <p:par>
                                <p:cTn id="3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5" fill="hold">
                            <p:stCondLst>
                              <p:cond delay="0"/>
                            </p:stCondLst>
                            <p:childTnLst>
                              <p:par>
                                <p:cTn id="34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8" fill="hold">
                            <p:stCondLst>
                              <p:cond delay="0"/>
                            </p:stCondLst>
                            <p:childTnLst>
                              <p:par>
                                <p:cTn id="34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1" fill="hold">
                            <p:stCondLst>
                              <p:cond delay="0"/>
                            </p:stCondLst>
                            <p:childTnLst>
                              <p:par>
                                <p:cTn id="34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4" fill="hold">
                            <p:stCondLst>
                              <p:cond delay="0"/>
                            </p:stCondLst>
                            <p:childTnLst>
                              <p:par>
                                <p:cTn id="3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7" fill="hold">
                            <p:stCondLst>
                              <p:cond delay="0"/>
                            </p:stCondLst>
                            <p:childTnLst>
                              <p:par>
                                <p:cTn id="3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0" fill="hold">
                            <p:stCondLst>
                              <p:cond delay="0"/>
                            </p:stCondLst>
                            <p:childTnLst>
                              <p:par>
                                <p:cTn id="3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3" fill="hold">
                            <p:stCondLst>
                              <p:cond delay="0"/>
                            </p:stCondLst>
                            <p:childTnLst>
                              <p:par>
                                <p:cTn id="3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6" fill="hold">
                            <p:stCondLst>
                              <p:cond delay="0"/>
                            </p:stCondLst>
                            <p:childTnLst>
                              <p:par>
                                <p:cTn id="3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9" fill="hold">
                            <p:stCondLst>
                              <p:cond delay="0"/>
                            </p:stCondLst>
                            <p:childTnLst>
                              <p:par>
                                <p:cTn id="35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2" fill="hold">
                            <p:stCondLst>
                              <p:cond delay="0"/>
                            </p:stCondLst>
                            <p:childTnLst>
                              <p:par>
                                <p:cTn id="35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5" fill="hold">
                            <p:stCondLst>
                              <p:cond delay="0"/>
                            </p:stCondLst>
                            <p:childTnLst>
                              <p:par>
                                <p:cTn id="3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8" fill="hold">
                            <p:stCondLst>
                              <p:cond delay="0"/>
                            </p:stCondLst>
                            <p:childTnLst>
                              <p:par>
                                <p:cTn id="35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1" fill="hold">
                            <p:stCondLst>
                              <p:cond delay="0"/>
                            </p:stCondLst>
                            <p:childTnLst>
                              <p:par>
                                <p:cTn id="35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4" fill="hold">
                            <p:stCondLst>
                              <p:cond delay="0"/>
                            </p:stCondLst>
                            <p:childTnLst>
                              <p:par>
                                <p:cTn id="35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7" fill="hold">
                            <p:stCondLst>
                              <p:cond delay="0"/>
                            </p:stCondLst>
                            <p:childTnLst>
                              <p:par>
                                <p:cTn id="3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0" fill="hold">
                            <p:stCondLst>
                              <p:cond delay="0"/>
                            </p:stCondLst>
                            <p:childTnLst>
                              <p:par>
                                <p:cTn id="3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3" fill="hold">
                            <p:stCondLst>
                              <p:cond delay="0"/>
                            </p:stCondLst>
                            <p:childTnLst>
                              <p:par>
                                <p:cTn id="35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6" fill="hold">
                            <p:stCondLst>
                              <p:cond delay="0"/>
                            </p:stCondLst>
                            <p:childTnLst>
                              <p:par>
                                <p:cTn id="35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9" fill="hold">
                            <p:stCondLst>
                              <p:cond delay="0"/>
                            </p:stCondLst>
                            <p:childTnLst>
                              <p:par>
                                <p:cTn id="3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2" fill="hold">
                            <p:stCondLst>
                              <p:cond delay="0"/>
                            </p:stCondLst>
                            <p:childTnLst>
                              <p:par>
                                <p:cTn id="35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5" fill="hold">
                      <p:stCondLst>
                        <p:cond delay="indefinite"/>
                      </p:stCondLst>
                      <p:childTnLst>
                        <p:par>
                          <p:cTn id="3546" fill="hold">
                            <p:stCondLst>
                              <p:cond delay="0"/>
                            </p:stCondLst>
                            <p:childTnLst>
                              <p:par>
                                <p:cTn id="35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9" dur="10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0" dur="10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1" dur="10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4" dur="10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5" dur="10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6" dur="10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СМЕШАННЫЙ МЕТОД,  МЕТОД СИЛ  И  МЕТОД ПЕРЕМЕ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3381480" y="59544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Р  е  з  ю  м  е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611280" y="955800"/>
            <a:ext cx="7994520" cy="999720"/>
          </a:xfrm>
          <a:prstGeom prst="rect">
            <a:avLst/>
          </a:prstGeom>
          <a:gradFill rotWithShape="0">
            <a:gsLst>
              <a:gs pos="0">
                <a:srgbClr val="d6ece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13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Канонические уравнения любого метода (</a:t>
            </a:r>
            <a:r>
              <a:rPr b="1" lang="ru-RU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ил, перемещений или смешанного</a:t>
            </a:r>
            <a:r>
              <a:rPr b="1" lang="ru-RU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) являются  </a:t>
            </a: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разрешающими уравнениями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задачи расчёта заданной деформ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мой системы, т.</a:t>
            </a:r>
            <a:r>
              <a:rPr b="1" lang="ru-RU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е. </a:t>
            </a: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синтезом</a:t>
            </a:r>
            <a:r>
              <a:rPr b="1" i="1" lang="ru-RU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статической,</a:t>
            </a:r>
            <a:r>
              <a:rPr b="1" i="1" lang="ru-RU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геометрической</a:t>
            </a:r>
            <a:r>
              <a:rPr b="1" i="1" lang="ru-RU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ru-RU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физиче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сторон задачи.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5" name=""/>
          <p:cNvGraphicFramePr/>
          <p:nvPr/>
        </p:nvGraphicFramePr>
        <p:xfrm>
          <a:off x="250920" y="2009880"/>
          <a:ext cx="8642160" cy="4587840"/>
        </p:xfrm>
        <a:graphic>
          <a:graphicData uri="http://schemas.openxmlformats.org/drawingml/2006/table">
            <a:tbl>
              <a:tblPr/>
              <a:tblGrid>
                <a:gridCol w="936360"/>
                <a:gridCol w="2448000"/>
                <a:gridCol w="2913120"/>
                <a:gridCol w="2344680"/>
              </a:tblGrid>
              <a:tr h="422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5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о в канонических уравнениях, где реализованы стороны зада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5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средственно или опосредованно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иче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метриче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че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 и 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использовании условий равновесия для определе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я силовых фактор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ОСМС от  единичных  основных неизвестны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 от заданных нагруз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изначальном геометрическ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нематическом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смысле усло-  вий  эквивалентности ОСМС и РСНС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нении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а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ука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определения методом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велла–Мора переме-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щений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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k</a:t>
                      </a:r>
                      <a:r>
                        <a:rPr b="1" i="1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и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F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а линейного температурно-го расширения для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113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ереме-щ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изначальном статичес-ком смысле условий экви-валентности ОСМП и РД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 обеспечении совместности  перемещений  (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формаций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ОСМП в единичных состояни-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х и от заданных воздействий,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 также в выполнении кинема- тических граничных услов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 стандартных  задачах для  типовых  элементов ОСМП (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шения на осно-ве закона Гука  и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а линейного температурно-го расширения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мешан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 в изначальном  стати-ческом смысле условий эквивалентности ОССМ и РСНС (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я группа КУСМ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использовании усл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й равновесия для опреде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ния силовых  факто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статически определим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ях ОССМ  от  единич-ных основных неизвестных и от заданных нагруз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начальном геометрическом (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нематическом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смысле усло-вий  эквивалентности  ОСС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 РСНС (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я группа КУСМ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 в  обеспечении  совместности перемещений (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формаций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ки-нематически  определимых  час-тей ОССМ  в  единичных состоя-ниях и от заданных воздействий,  а  также в  выполнении  кинема-тических  граничных условий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) в статически определи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ых частях ОССМ – ка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методе сил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) в кинематически опре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лимых частях ОССМ 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26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мещ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7" dur="indefinite" restart="never" nodeType="tmRoot">
          <p:childTnLst>
            <p:seq>
              <p:cTn id="3558" dur="indefinite" nodeType="mainSeq">
                <p:childTnLst>
                  <p:par>
                    <p:cTn id="3559" fill="hold">
                      <p:stCondLst>
                        <p:cond delay="0"/>
                      </p:stCondLst>
                      <p:childTnLst>
                        <p:par>
                          <p:cTn id="3560" fill="hold">
                            <p:stCondLst>
                              <p:cond delay="0"/>
                            </p:stCondLst>
                            <p:childTnLst>
                              <p:par>
                                <p:cTn id="35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3" dur="10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4" dur="10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5" dur="10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9" dur="80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0" dur="80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1" dur="80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2" fill="hold">
                            <p:stCondLst>
                              <p:cond delay="8880"/>
                            </p:stCondLst>
                            <p:childTnLst>
                              <p:par>
                                <p:cTn id="35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5" dur="20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СМЕШАННЫЙ МЕТОД,  МЕТОД СИЛ  И  МЕТОД ПЕРЕМЕ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3381480" y="59544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Р  е  з  ю  м  е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638280" y="955800"/>
            <a:ext cx="7750080" cy="2514240"/>
          </a:xfrm>
          <a:prstGeom prst="rect">
            <a:avLst/>
          </a:prstGeom>
          <a:gradFill rotWithShape="0">
            <a:gsLst>
              <a:gs pos="0">
                <a:srgbClr val="d6ece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2.   При выборе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метода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расчёта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деформируемой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истемы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лучае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рав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ru-RU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или близких</a:t>
            </a:r>
            <a:r>
              <a:rPr b="1" lang="ru-RU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) количеств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сновных неизвестных МС,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МП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М предпочт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ние следует отдавать </a:t>
            </a: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методу перемещений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из-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а) большей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равнении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другими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методами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формализованностью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расчётных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роцедур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следствие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использования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тандартных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ru-RU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таблич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ных</a:t>
            </a:r>
            <a:r>
              <a:rPr b="1" lang="ru-RU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)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данных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б) более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ысокой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информативности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результатов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расчёта: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наряду с ус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лиями в рассчитываемой системе определяются также и перемещ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её узлов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638280" y="3803760"/>
            <a:ext cx="7775640" cy="848160"/>
          </a:xfrm>
          <a:prstGeom prst="rect">
            <a:avLst/>
          </a:prstGeom>
          <a:gradFill rotWithShape="0">
            <a:gsLst>
              <a:gs pos="0">
                <a:srgbClr val="d6ece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3.   При равных количествах основных неизвестных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МС и СМ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рациональ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является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смешанный  метод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котором часть процедур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снована на ис-пользовании тех же табличных данных, что и в методе перемещ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649440" y="4994280"/>
            <a:ext cx="7738920" cy="848160"/>
          </a:xfrm>
          <a:prstGeom prst="rect">
            <a:avLst/>
          </a:prstGeom>
          <a:gradFill rotWithShape="0">
            <a:gsLst>
              <a:gs pos="0">
                <a:srgbClr val="d6ece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4.   Самый универсальный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–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метод перемещений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: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 его помощью могут рас-считываться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любые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деформируемые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истемы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–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как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татически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неопр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делимые, так и статически определим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6" dur="indefinite" restart="never" nodeType="tmRoot">
          <p:childTnLst>
            <p:seq>
              <p:cTn id="3577" dur="indefinite" nodeType="mainSeq">
                <p:childTnLst>
                  <p:par>
                    <p:cTn id="3578" fill="hold">
                      <p:stCondLst>
                        <p:cond delay="0"/>
                      </p:stCondLst>
                      <p:childTnLst>
                        <p:par>
                          <p:cTn id="3579" fill="hold">
                            <p:stCondLst>
                              <p:cond delay="0"/>
                            </p:stCondLst>
                            <p:childTnLst>
                              <p:par>
                                <p:cTn id="35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2" dur="80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3" dur="80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4" dur="80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5" fill="hold">
                      <p:stCondLst>
                        <p:cond delay="indefinite"/>
                      </p:stCondLst>
                      <p:childTnLst>
                        <p:par>
                          <p:cTn id="3586" fill="hold">
                            <p:stCondLst>
                              <p:cond delay="0"/>
                            </p:stCondLst>
                            <p:childTnLst>
                              <p:par>
                                <p:cTn id="35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9" dur="80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0" dur="80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1" dur="80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2" fill="hold">
                      <p:stCondLst>
                        <p:cond delay="indefinite"/>
                      </p:stCondLst>
                      <p:childTnLst>
                        <p:par>
                          <p:cTn id="3593" fill="hold">
                            <p:stCondLst>
                              <p:cond delay="0"/>
                            </p:stCondLst>
                            <p:childTnLst>
                              <p:par>
                                <p:cTn id="35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6" dur="80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7" dur="80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8" dur="80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/>
          </p:nvPr>
        </p:nvSpPr>
        <p:spPr>
          <a:xfrm>
            <a:off x="179280" y="235080"/>
            <a:ext cx="8785440" cy="63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 algn="ctr">
              <a:lnSpc>
                <a:spcPct val="70000"/>
              </a:lnSpc>
              <a:spcBef>
                <a:spcPts val="24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Book Antiqua"/>
              </a:rPr>
              <a:t>К о н т р о л ь н ы е    в о п р о с 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( в скобках даны номера слайдов, в которых можно найти ответы на вопрос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для перехода к слайду с ответом можно сделать щелчок мышью по номеру в скобках</a:t>
            </a:r>
            <a:r>
              <a:rPr b="1" i="1" lang="ru-RU" sz="1600" spc="-1" strike="noStrike" baseline="30000">
                <a:solidFill>
                  <a:srgbClr val="663300"/>
                </a:solidFill>
                <a:latin typeface="Book Antiqua"/>
              </a:rPr>
              <a:t>*)</a:t>
            </a: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для возврата к контрольным вопросам сделать щелчок правой кнопкой мыш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и выбрать «Перейти  к  слайду  14»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5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 Какие величины являются основными неизвестными смешанного метода (СМ)?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( 2 )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  Как формируется основная система смешанного метода (ОССМ) и каки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5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ображениями следует при этом руководствоваться?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( 2 )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5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.  Какими свойствами должна обладать рационально выбранная ОССМ?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( 2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5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 Из каких условий получаются канонические уравнения СМ?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6" action="ppaction://hlinksldjump"/>
              </a:rPr>
              <a:t>( 3 )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7" action="ppaction://hlinksldjump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5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.  Какие группы уравнений входят в систему КУСМ?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8" action="ppaction://hlinksldjump"/>
              </a:rPr>
              <a:t>( 3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.  Какие различные по смыслу величины являются коэффициентами КУСМ (перечис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5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лить)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9" action="ppaction://hlinksldjump"/>
              </a:rPr>
              <a:t>( 3 )</a:t>
            </a:r>
            <a:r>
              <a:rPr b="1" lang="ru-RU" sz="1600" spc="-1" strike="noStrike">
                <a:solidFill>
                  <a:srgbClr val="009999"/>
                </a:solidFill>
                <a:latin typeface="Times New Roman"/>
              </a:rPr>
              <a:t> 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0" action="ppaction://hlinksldjump"/>
              </a:rPr>
              <a:t>(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hlinkClick r:id="rId11" action="ppaction://hlinksldjump"/>
              </a:rPr>
              <a:t>4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2" action="ppaction://hlinksldjump"/>
              </a:rPr>
              <a:t> )</a:t>
            </a:r>
            <a:r>
              <a:rPr b="1" lang="ru-RU" sz="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   Какие из них не имеют аналогов в коэффициентах КУМС и КУМП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.  Раскрыть смысл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) системы КУСМ в целом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3" action="ppaction://hlinksldjump"/>
              </a:rPr>
              <a:t>( 3 )</a:t>
            </a:r>
            <a:r>
              <a:rPr b="1" lang="ru-RU" sz="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) произвольного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го) уравнения 1-й и 2-й групп КУМС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4" action="ppaction://hlinksldjump"/>
              </a:rPr>
              <a:t>( 3 )</a:t>
            </a:r>
            <a:r>
              <a:rPr b="1" lang="ru-RU" sz="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) свободных членов уравнений 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5" action="ppaction://hlinksldjump"/>
              </a:rPr>
              <a:t>( 3 )</a:t>
            </a:r>
            <a:r>
              <a:rPr b="1" lang="ru-RU" sz="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) слагаемых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1" i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1" i="1" lang="ru-RU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6" action="ppaction://hlinksldjump"/>
              </a:rPr>
              <a:t>( 5 )</a:t>
            </a:r>
            <a:r>
              <a:rPr b="1" lang="ru-RU" sz="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5000"/>
              </a:lnSpc>
              <a:spcBef>
                <a:spcPts val="3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) коэффициентов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k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 u="sng" baseline="-25000">
                <a:solidFill>
                  <a:srgbClr val="009999"/>
                </a:solidFill>
                <a:uFillTx/>
                <a:latin typeface="Times New Roman"/>
                <a:hlinkClick r:id="rId17" action="ppaction://hlinksldjump"/>
              </a:rPr>
              <a:t>( 5 )</a:t>
            </a:r>
            <a:r>
              <a:rPr b="1" lang="ru-RU" sz="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5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.  Свойства и способы определения коэффициентов канонических уравнений СМ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8" action="ppaction://hlinksldjump"/>
              </a:rPr>
              <a:t>( 5 )</a:t>
            </a:r>
            <a:r>
              <a:rPr b="1" lang="ru-RU" sz="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9.  Какие особенности имеет определение коэффициентов     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9" action="ppaction://hlinksldjump"/>
              </a:rPr>
              <a:t>( 5 )</a:t>
            </a:r>
            <a:r>
              <a:rPr b="1" lang="ru-RU" sz="16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Теорема Гвозде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5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 взаимности единичных перемещений и реакций.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*)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Только в режиме «Показ слайдов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395280" y="623880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9" name=""/>
              <p:cNvSpPr txBox="1"/>
              <p:nvPr/>
            </p:nvSpPr>
            <p:spPr>
              <a:xfrm>
                <a:off x="2746440" y="5003640"/>
                <a:ext cx="25704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0" name=""/>
              <p:cNvSpPr txBox="1"/>
              <p:nvPr/>
            </p:nvSpPr>
            <p:spPr>
              <a:xfrm>
                <a:off x="3086280" y="4751280"/>
                <a:ext cx="48708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1" name=""/>
              <p:cNvSpPr txBox="1"/>
              <p:nvPr/>
            </p:nvSpPr>
            <p:spPr>
              <a:xfrm>
                <a:off x="2516040" y="4757760"/>
                <a:ext cx="4986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2" name=""/>
              <p:cNvSpPr txBox="1"/>
              <p:nvPr/>
            </p:nvSpPr>
            <p:spPr>
              <a:xfrm>
                <a:off x="3097080" y="5005440"/>
                <a:ext cx="26064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3" name=""/>
              <p:cNvSpPr txBox="1"/>
              <p:nvPr/>
            </p:nvSpPr>
            <p:spPr>
              <a:xfrm>
                <a:off x="5762520" y="5584680"/>
                <a:ext cx="25740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/>
          </p:nvPr>
        </p:nvSpPr>
        <p:spPr>
          <a:xfrm>
            <a:off x="179280" y="235080"/>
            <a:ext cx="8785440" cy="63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ctr">
              <a:lnSpc>
                <a:spcPct val="70000"/>
              </a:lnSpc>
              <a:spcBef>
                <a:spcPts val="24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Book Antiqua"/>
              </a:rPr>
              <a:t>К о н т р о л ь н ы е    в о п р о с 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3300"/>
                </a:solidFill>
                <a:latin typeface="Book Antiqua"/>
              </a:rPr>
              <a:t>( в скобках даны номера слайдов, в которых можно найти ответы на вопрос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3300"/>
                </a:solidFill>
                <a:latin typeface="Book Antiqua"/>
              </a:rPr>
              <a:t>для перехода к слайду с ответом можно сделать щелчок мышью по номеру в скобках</a:t>
            </a:r>
            <a:r>
              <a:rPr b="1" i="1" lang="en-US" sz="1600" spc="-1" strike="noStrike" baseline="30000">
                <a:solidFill>
                  <a:srgbClr val="663300"/>
                </a:solidFill>
                <a:latin typeface="Book Antiqua"/>
              </a:rPr>
              <a:t>*)</a:t>
            </a:r>
            <a:r>
              <a:rPr b="1" i="1" lang="en-US" sz="1600" spc="-1" strike="noStrike">
                <a:solidFill>
                  <a:srgbClr val="663300"/>
                </a:solidFill>
                <a:latin typeface="Book Antiqu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3300"/>
                </a:solidFill>
                <a:latin typeface="Book Antiqua"/>
              </a:rPr>
              <a:t>для возврата к контрольным вопросам сделать щелчок правой кнопкой мыш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3300"/>
                </a:solidFill>
                <a:latin typeface="Book Antiqua"/>
              </a:rPr>
              <a:t>и выбрать «Перейти  к  слайду  15»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Почему канонические уравнения смешанного метода являются разрешающи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уравнениями задачи расчёта СНС (синтезом статической, геометрическ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 физической сторон задачи)? </a:t>
            </a:r>
            <a:r>
              <a:rPr b="1" lang="en-US" sz="1400" spc="-1" strike="noStrike">
                <a:solidFill>
                  <a:srgbClr val="009999"/>
                </a:solidFill>
                <a:latin typeface="Times New Roman"/>
              </a:rPr>
              <a:t>( 12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Как по найденным основным неизвестным  смешанного метода вычисляю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5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скомые усилия в заданной системе?  </a:t>
            </a: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( 5 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5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Взаимосвязь смешанного метода, метода сил и метода перемещений  </a:t>
            </a: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( 10 )</a:t>
            </a:r>
            <a:r>
              <a:rPr b="1" lang="en-US" sz="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3. Можно ли получи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а) канонические уравнения СМ формальным объединением КУМС и КУМП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5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) КУМС и КУМП из уравнений смешанного метод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(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4. Сравнительная оценка возможностей и рациональности применения методов си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еремещений и смешанного </a:t>
            </a: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( 13 )</a:t>
            </a:r>
            <a:r>
              <a:rPr b="1" lang="en-US" sz="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*)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Только в режиме «Показ слайдов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395280" y="623736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 Narrow"/>
              </a:rPr>
              <a:t>РАСЧЁТ СТАТИЧЕСКИ НЕОПРЕДЕЛИМЫХ СИСТЕМ СМЕШАННЫМ МЕТ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66760" y="666720"/>
            <a:ext cx="6769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Смешанный мет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метод расчёта деформируемых систе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в котором за основные неизвестные принимаются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одновремен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реакции лишних связей  и  перемещения расчётных уз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1844640"/>
            <a:ext cx="3456000" cy="720720"/>
          </a:xfrm>
          <a:custGeom>
            <a:avLst/>
            <a:gdLst/>
            <a:ahLst/>
            <a:rect l="l" t="t" r="r" b="b"/>
            <a:pathLst>
              <a:path w="2449" h="544">
                <a:moveTo>
                  <a:pt x="0" y="544"/>
                </a:moveTo>
                <a:lnTo>
                  <a:pt x="544" y="544"/>
                </a:lnTo>
                <a:lnTo>
                  <a:pt x="771" y="226"/>
                </a:lnTo>
                <a:lnTo>
                  <a:pt x="1225" y="0"/>
                </a:lnTo>
                <a:lnTo>
                  <a:pt x="1678" y="226"/>
                </a:lnTo>
                <a:lnTo>
                  <a:pt x="1905" y="544"/>
                </a:lnTo>
                <a:lnTo>
                  <a:pt x="2449" y="5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440" y="2558880"/>
            <a:ext cx="0" cy="6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44840" y="256536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09760" y="3213000"/>
            <a:ext cx="216000" cy="7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09760" y="32130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41520" y="3213000"/>
            <a:ext cx="216000" cy="7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41520" y="32130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610560" y="2523960"/>
            <a:ext cx="216000" cy="73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4139640" y="2523960"/>
            <a:ext cx="216000" cy="73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49160" y="24526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18120" y="24526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40080" y="1806480"/>
            <a:ext cx="90360" cy="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60680" y="2301840"/>
            <a:ext cx="165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t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 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60600" y="2736720"/>
            <a:ext cx="1655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920" y="1844640"/>
            <a:ext cx="3456000" cy="720720"/>
          </a:xfrm>
          <a:custGeom>
            <a:avLst/>
            <a:gdLst/>
            <a:ahLst/>
            <a:rect l="l" t="t" r="r" b="b"/>
            <a:pathLst>
              <a:path w="2449" h="544">
                <a:moveTo>
                  <a:pt x="0" y="544"/>
                </a:moveTo>
                <a:lnTo>
                  <a:pt x="544" y="544"/>
                </a:lnTo>
                <a:lnTo>
                  <a:pt x="771" y="226"/>
                </a:lnTo>
                <a:lnTo>
                  <a:pt x="1225" y="0"/>
                </a:lnTo>
                <a:lnTo>
                  <a:pt x="1678" y="226"/>
                </a:lnTo>
                <a:lnTo>
                  <a:pt x="1905" y="544"/>
                </a:lnTo>
                <a:lnTo>
                  <a:pt x="2449" y="5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97360" y="2558880"/>
            <a:ext cx="0" cy="6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0120" y="256536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84680" y="3213000"/>
            <a:ext cx="216000" cy="73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4680" y="32130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16800" y="3213000"/>
            <a:ext cx="216000" cy="73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16800" y="32130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4785840" y="2523960"/>
            <a:ext cx="216000" cy="73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5400000">
            <a:off x="8315280" y="2524320"/>
            <a:ext cx="216000" cy="72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24440" y="24526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93040" y="24526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15000" y="1806480"/>
            <a:ext cx="90720" cy="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72280" y="244008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42040" y="2119320"/>
            <a:ext cx="792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89440" y="2468520"/>
            <a:ext cx="9072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37320" y="2475000"/>
            <a:ext cx="9072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3612600">
            <a:off x="5410440" y="2264760"/>
            <a:ext cx="179280" cy="73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77040" y="2205000"/>
            <a:ext cx="215640" cy="360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7524000">
            <a:off x="7768440" y="2256480"/>
            <a:ext cx="179280" cy="730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7629480" y="2197080"/>
            <a:ext cx="249120" cy="360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956600">
            <a:off x="7285320" y="2235960"/>
            <a:ext cx="288000" cy="29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13668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136687"/>
              </a:path>
            </a:pathLst>
          </a:custGeom>
          <a:noFill/>
          <a:ln w="19080">
            <a:solidFill>
              <a:srgbClr val="99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rot="19782000">
            <a:off x="5747040" y="2234880"/>
            <a:ext cx="285120" cy="289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13668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136687"/>
              </a:path>
            </a:pathLst>
          </a:custGeom>
          <a:noFill/>
          <a:ln w="19080">
            <a:solidFill>
              <a:srgbClr val="99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rot="5607600">
            <a:off x="7463160" y="2583360"/>
            <a:ext cx="285120" cy="289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13668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136687"/>
              </a:path>
            </a:pathLst>
          </a:custGeom>
          <a:noFill/>
          <a:ln w="19080">
            <a:solidFill>
              <a:srgbClr val="99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5762600">
            <a:off x="5568840" y="2580120"/>
            <a:ext cx="288720" cy="298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13668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136687"/>
              </a:path>
            </a:pathLst>
          </a:custGeom>
          <a:noFill/>
          <a:ln w="19080">
            <a:solidFill>
              <a:srgbClr val="99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91000" y="2054160"/>
            <a:ext cx="130320" cy="21600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7824600" y="2063880"/>
            <a:ext cx="144360" cy="21564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7629480" y="1946160"/>
            <a:ext cx="60480" cy="57960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19600" y="1976400"/>
            <a:ext cx="73080" cy="57636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2009880"/>
            <a:ext cx="214560" cy="81000"/>
          </a:xfrm>
          <a:custGeom>
            <a:avLst/>
            <a:gdLst/>
            <a:ahLst/>
            <a:rect l="l" t="t" r="r" b="b"/>
            <a:pathLst>
              <a:path w="135" h="51">
                <a:moveTo>
                  <a:pt x="0" y="51"/>
                </a:moveTo>
                <a:cubicBezTo>
                  <a:pt x="10" y="46"/>
                  <a:pt x="38" y="26"/>
                  <a:pt x="60" y="18"/>
                </a:cubicBezTo>
                <a:cubicBezTo>
                  <a:pt x="82" y="10"/>
                  <a:pt x="120" y="4"/>
                  <a:pt x="135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7677000" y="1995480"/>
            <a:ext cx="270000" cy="104760"/>
          </a:xfrm>
          <a:custGeom>
            <a:avLst/>
            <a:gdLst/>
            <a:ahLst/>
            <a:rect l="l" t="t" r="r" b="b"/>
            <a:pathLst>
              <a:path w="135" h="51">
                <a:moveTo>
                  <a:pt x="0" y="51"/>
                </a:moveTo>
                <a:cubicBezTo>
                  <a:pt x="10" y="46"/>
                  <a:pt x="38" y="26"/>
                  <a:pt x="60" y="18"/>
                </a:cubicBezTo>
                <a:cubicBezTo>
                  <a:pt x="82" y="10"/>
                  <a:pt x="120" y="4"/>
                  <a:pt x="135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15080" y="243540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091280" y="24400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14960" y="167004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67640" y="167940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2819520"/>
            <a:ext cx="1584360" cy="343080"/>
          </a:xfrm>
          <a:prstGeom prst="rect">
            <a:avLst/>
          </a:prstGeom>
          <a:solidFill>
            <a:srgbClr val="c8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Z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02440" y="14716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 Black"/>
              </a:rPr>
              <a:t>ОС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00" y="3408480"/>
            <a:ext cx="842508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3399"/>
                </a:solidFill>
                <a:latin typeface="Arial"/>
              </a:rPr>
              <a:t>Основная система смешанного метода (ОССМ)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– геометрически неизменяем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истема,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олучаемая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из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рассчитываемой СНС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удалением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лишних связей,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реа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которых принимаются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за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иловые основные неизвестные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,  и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ведением угловых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линейных связей в расчётные узлы, перемещения которых принимаю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за неизвестные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1800" y="4737240"/>
            <a:ext cx="842508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3399"/>
                </a:solidFill>
                <a:latin typeface="Arial"/>
              </a:rPr>
              <a:t>Рекомендуется: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лишние связи удалять в тех частях системы, где их число меньше, чем количество неизвестных перемещений узлов;  а дополнительные связи ввод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 узлы тех частей системы,  где суммарное число перемещений узлов меньш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лишних связ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32280" y="2471760"/>
            <a:ext cx="1015920" cy="809640"/>
          </a:xfrm>
          <a:custGeom>
            <a:avLst/>
            <a:gdLst/>
            <a:ahLst/>
            <a:rect l="l" t="t" r="r" b="b"/>
            <a:pathLst>
              <a:path w="640" h="510">
                <a:moveTo>
                  <a:pt x="7" y="349"/>
                </a:moveTo>
                <a:cubicBezTo>
                  <a:pt x="7" y="317"/>
                  <a:pt x="7" y="252"/>
                  <a:pt x="7" y="203"/>
                </a:cubicBezTo>
                <a:cubicBezTo>
                  <a:pt x="7" y="155"/>
                  <a:pt x="0" y="90"/>
                  <a:pt x="7" y="58"/>
                </a:cubicBezTo>
                <a:cubicBezTo>
                  <a:pt x="15" y="25"/>
                  <a:pt x="7" y="17"/>
                  <a:pt x="55" y="8"/>
                </a:cubicBezTo>
                <a:cubicBezTo>
                  <a:pt x="103" y="0"/>
                  <a:pt x="226" y="5"/>
                  <a:pt x="296" y="4"/>
                </a:cubicBezTo>
                <a:cubicBezTo>
                  <a:pt x="367" y="3"/>
                  <a:pt x="427" y="0"/>
                  <a:pt x="475" y="4"/>
                </a:cubicBezTo>
                <a:cubicBezTo>
                  <a:pt x="523" y="8"/>
                  <a:pt x="559" y="12"/>
                  <a:pt x="584" y="27"/>
                </a:cubicBezTo>
                <a:cubicBezTo>
                  <a:pt x="609" y="42"/>
                  <a:pt x="618" y="56"/>
                  <a:pt x="626" y="93"/>
                </a:cubicBezTo>
                <a:cubicBezTo>
                  <a:pt x="634" y="130"/>
                  <a:pt x="631" y="196"/>
                  <a:pt x="632" y="249"/>
                </a:cubicBezTo>
                <a:cubicBezTo>
                  <a:pt x="633" y="302"/>
                  <a:pt x="640" y="370"/>
                  <a:pt x="632" y="411"/>
                </a:cubicBezTo>
                <a:cubicBezTo>
                  <a:pt x="624" y="452"/>
                  <a:pt x="628" y="480"/>
                  <a:pt x="586" y="495"/>
                </a:cubicBezTo>
                <a:cubicBezTo>
                  <a:pt x="544" y="510"/>
                  <a:pt x="450" y="500"/>
                  <a:pt x="380" y="501"/>
                </a:cubicBezTo>
                <a:cubicBezTo>
                  <a:pt x="310" y="502"/>
                  <a:pt x="216" y="503"/>
                  <a:pt x="164" y="501"/>
                </a:cubicBezTo>
                <a:cubicBezTo>
                  <a:pt x="112" y="499"/>
                  <a:pt x="92" y="496"/>
                  <a:pt x="67" y="487"/>
                </a:cubicBezTo>
                <a:cubicBezTo>
                  <a:pt x="42" y="478"/>
                  <a:pt x="19" y="471"/>
                  <a:pt x="10" y="448"/>
                </a:cubicBezTo>
                <a:cubicBezTo>
                  <a:pt x="0" y="426"/>
                  <a:pt x="7" y="370"/>
                  <a:pt x="7" y="349"/>
                </a:cubicBezTo>
                <a:close/>
              </a:path>
            </a:pathLst>
          </a:cu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461360" y="2473200"/>
            <a:ext cx="1015920" cy="809640"/>
          </a:xfrm>
          <a:custGeom>
            <a:avLst/>
            <a:gdLst/>
            <a:ahLst/>
            <a:rect l="l" t="t" r="r" b="b"/>
            <a:pathLst>
              <a:path w="640" h="510">
                <a:moveTo>
                  <a:pt x="7" y="349"/>
                </a:moveTo>
                <a:cubicBezTo>
                  <a:pt x="7" y="317"/>
                  <a:pt x="7" y="252"/>
                  <a:pt x="7" y="203"/>
                </a:cubicBezTo>
                <a:cubicBezTo>
                  <a:pt x="7" y="155"/>
                  <a:pt x="0" y="90"/>
                  <a:pt x="7" y="58"/>
                </a:cubicBezTo>
                <a:cubicBezTo>
                  <a:pt x="15" y="25"/>
                  <a:pt x="7" y="17"/>
                  <a:pt x="55" y="8"/>
                </a:cubicBezTo>
                <a:cubicBezTo>
                  <a:pt x="103" y="0"/>
                  <a:pt x="226" y="5"/>
                  <a:pt x="296" y="4"/>
                </a:cubicBezTo>
                <a:cubicBezTo>
                  <a:pt x="367" y="3"/>
                  <a:pt x="427" y="0"/>
                  <a:pt x="475" y="4"/>
                </a:cubicBezTo>
                <a:cubicBezTo>
                  <a:pt x="523" y="8"/>
                  <a:pt x="559" y="12"/>
                  <a:pt x="584" y="27"/>
                </a:cubicBezTo>
                <a:cubicBezTo>
                  <a:pt x="609" y="42"/>
                  <a:pt x="618" y="56"/>
                  <a:pt x="626" y="93"/>
                </a:cubicBezTo>
                <a:cubicBezTo>
                  <a:pt x="634" y="130"/>
                  <a:pt x="631" y="196"/>
                  <a:pt x="632" y="249"/>
                </a:cubicBezTo>
                <a:cubicBezTo>
                  <a:pt x="633" y="302"/>
                  <a:pt x="640" y="370"/>
                  <a:pt x="632" y="411"/>
                </a:cubicBezTo>
                <a:cubicBezTo>
                  <a:pt x="624" y="452"/>
                  <a:pt x="628" y="480"/>
                  <a:pt x="586" y="495"/>
                </a:cubicBezTo>
                <a:cubicBezTo>
                  <a:pt x="544" y="510"/>
                  <a:pt x="450" y="500"/>
                  <a:pt x="380" y="501"/>
                </a:cubicBezTo>
                <a:cubicBezTo>
                  <a:pt x="310" y="502"/>
                  <a:pt x="216" y="503"/>
                  <a:pt x="164" y="501"/>
                </a:cubicBezTo>
                <a:cubicBezTo>
                  <a:pt x="112" y="499"/>
                  <a:pt x="92" y="496"/>
                  <a:pt x="67" y="487"/>
                </a:cubicBezTo>
                <a:cubicBezTo>
                  <a:pt x="42" y="478"/>
                  <a:pt x="19" y="471"/>
                  <a:pt x="10" y="448"/>
                </a:cubicBezTo>
                <a:cubicBezTo>
                  <a:pt x="0" y="426"/>
                  <a:pt x="7" y="370"/>
                  <a:pt x="7" y="349"/>
                </a:cubicBezTo>
                <a:close/>
              </a:path>
            </a:pathLst>
          </a:cu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27600" y="1773360"/>
            <a:ext cx="1859040" cy="774720"/>
          </a:xfrm>
          <a:custGeom>
            <a:avLst/>
            <a:gdLst/>
            <a:ahLst/>
            <a:rect l="l" t="t" r="r" b="b"/>
            <a:pathLst>
              <a:path w="1171" h="488">
                <a:moveTo>
                  <a:pt x="6" y="345"/>
                </a:moveTo>
                <a:cubicBezTo>
                  <a:pt x="28" y="301"/>
                  <a:pt x="98" y="221"/>
                  <a:pt x="142" y="181"/>
                </a:cubicBezTo>
                <a:cubicBezTo>
                  <a:pt x="186" y="141"/>
                  <a:pt x="225" y="126"/>
                  <a:pt x="268" y="103"/>
                </a:cubicBezTo>
                <a:cubicBezTo>
                  <a:pt x="311" y="80"/>
                  <a:pt x="348" y="60"/>
                  <a:pt x="400" y="43"/>
                </a:cubicBezTo>
                <a:cubicBezTo>
                  <a:pt x="452" y="26"/>
                  <a:pt x="526" y="2"/>
                  <a:pt x="580" y="1"/>
                </a:cubicBezTo>
                <a:cubicBezTo>
                  <a:pt x="634" y="0"/>
                  <a:pt x="674" y="20"/>
                  <a:pt x="724" y="37"/>
                </a:cubicBezTo>
                <a:cubicBezTo>
                  <a:pt x="774" y="54"/>
                  <a:pt x="829" y="79"/>
                  <a:pt x="880" y="103"/>
                </a:cubicBezTo>
                <a:cubicBezTo>
                  <a:pt x="931" y="127"/>
                  <a:pt x="987" y="146"/>
                  <a:pt x="1030" y="181"/>
                </a:cubicBezTo>
                <a:cubicBezTo>
                  <a:pt x="1073" y="216"/>
                  <a:pt x="1116" y="275"/>
                  <a:pt x="1138" y="313"/>
                </a:cubicBezTo>
                <a:cubicBezTo>
                  <a:pt x="1160" y="351"/>
                  <a:pt x="1171" y="378"/>
                  <a:pt x="1162" y="407"/>
                </a:cubicBezTo>
                <a:cubicBezTo>
                  <a:pt x="1153" y="436"/>
                  <a:pt x="1123" y="488"/>
                  <a:pt x="1084" y="487"/>
                </a:cubicBezTo>
                <a:cubicBezTo>
                  <a:pt x="1045" y="486"/>
                  <a:pt x="1007" y="430"/>
                  <a:pt x="928" y="403"/>
                </a:cubicBezTo>
                <a:cubicBezTo>
                  <a:pt x="849" y="376"/>
                  <a:pt x="730" y="323"/>
                  <a:pt x="610" y="325"/>
                </a:cubicBezTo>
                <a:cubicBezTo>
                  <a:pt x="490" y="327"/>
                  <a:pt x="297" y="390"/>
                  <a:pt x="208" y="415"/>
                </a:cubicBezTo>
                <a:cubicBezTo>
                  <a:pt x="119" y="440"/>
                  <a:pt x="109" y="470"/>
                  <a:pt x="76" y="475"/>
                </a:cubicBezTo>
                <a:cubicBezTo>
                  <a:pt x="43" y="480"/>
                  <a:pt x="24" y="465"/>
                  <a:pt x="12" y="444"/>
                </a:cubicBezTo>
                <a:cubicBezTo>
                  <a:pt x="0" y="423"/>
                  <a:pt x="6" y="366"/>
                  <a:pt x="6" y="345"/>
                </a:cubicBezTo>
                <a:close/>
              </a:path>
            </a:pathLst>
          </a:custGeom>
          <a:solidFill>
            <a:srgbClr val="ff7c8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81640" y="2751120"/>
            <a:ext cx="1224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Кинематиче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определим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15080" y="2746440"/>
            <a:ext cx="11509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Кинематиче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определим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27920" y="2014560"/>
            <a:ext cx="10555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Статиче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определим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8510000">
            <a:off x="1491120" y="3796560"/>
            <a:ext cx="3578400" cy="728640"/>
          </a:xfrm>
          <a:custGeom>
            <a:avLst/>
            <a:gdLst>
              <a:gd name="textAreaLeft" fmla="*/ 823680 w 3578400"/>
              <a:gd name="textAreaRight" fmla="*/ 2633400 w 3578400"/>
              <a:gd name="textAreaTop" fmla="*/ 97560 h 728640"/>
              <a:gd name="textAreaBottom" fmla="*/ 631080 h 728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44" hR="21600" stAng="10800000" swAng="5400000"/>
                <a:lnTo>
                  <a:pt x="10923" y="0"/>
                </a:lnTo>
                <a:arcTo wR="9944" hR="21600" stAng="-5400000" swAng="3563729"/>
                <a:lnTo>
                  <a:pt x="21251" y="15925"/>
                </a:lnTo>
                <a:lnTo>
                  <a:pt x="20377" y="21600"/>
                </a:lnTo>
                <a:lnTo>
                  <a:pt x="18804" y="15925"/>
                </a:lnTo>
                <a:lnTo>
                  <a:pt x="19538" y="15925"/>
                </a:lnTo>
                <a:arcTo wR="9944" hR="21600" stAng="-1836271" swAng="-3485741"/>
                <a:lnTo>
                  <a:pt x="10433" y="26"/>
                </a:lnTo>
                <a:arcTo wR="9944" hR="21600" stAng="-5477988" swAng="-5322012"/>
                <a:close/>
              </a:path>
              <a:path fill="darkenLess" w="21600" h="21600">
                <a:moveTo>
                  <a:pt x="0" y="21600"/>
                </a:moveTo>
                <a:arcTo wR="9944" hR="21600" stAng="10800000" swAng="5400000"/>
                <a:lnTo>
                  <a:pt x="9944" y="0"/>
                </a:lnTo>
                <a:arcTo wR="9944" hR="21600" stAng="-5400000" swAng="77988"/>
                <a:lnTo>
                  <a:pt x="10433" y="26"/>
                </a:lnTo>
                <a:arcTo wR="9944" hR="21600" stAng="-5477988" swAng="-5322012"/>
                <a:close/>
              </a:path>
            </a:pathLst>
          </a:custGeom>
          <a:solidFill>
            <a:srgbClr val="009999">
              <a:alpha val="40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7480" y="5805360"/>
            <a:ext cx="786132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333399"/>
                </a:solidFill>
                <a:latin typeface="Arial"/>
              </a:rPr>
              <a:t>Свойство ОССМ: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в результате удаления лишних связей в ОССМ образу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статически определимые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(как правило) части;  а остальные части ОССМ,  г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ведены  дополнительные связи – как правило, </a:t>
            </a: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кинематически определимые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892840" y="3100320"/>
            <a:ext cx="1584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2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3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3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 Narrow"/>
              </a:rPr>
              <a:t>РАСЧЁТ СТАТИЧЕСКИ НЕОПРЕДЕЛИМЫХ СИСТЕМ СМЕШАННЫМ МЕТ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5640" y="1092240"/>
            <a:ext cx="3456000" cy="720720"/>
          </a:xfrm>
          <a:custGeom>
            <a:avLst/>
            <a:gdLst/>
            <a:ahLst/>
            <a:rect l="l" t="t" r="r" b="b"/>
            <a:pathLst>
              <a:path w="2449" h="544">
                <a:moveTo>
                  <a:pt x="0" y="544"/>
                </a:moveTo>
                <a:lnTo>
                  <a:pt x="544" y="544"/>
                </a:lnTo>
                <a:lnTo>
                  <a:pt x="771" y="226"/>
                </a:lnTo>
                <a:lnTo>
                  <a:pt x="1225" y="0"/>
                </a:lnTo>
                <a:lnTo>
                  <a:pt x="1678" y="226"/>
                </a:lnTo>
                <a:lnTo>
                  <a:pt x="1905" y="544"/>
                </a:lnTo>
                <a:lnTo>
                  <a:pt x="2449" y="5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2440" y="180648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44840" y="181296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09760" y="2460600"/>
            <a:ext cx="216000" cy="7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09760" y="24606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41520" y="2460600"/>
            <a:ext cx="216000" cy="7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41520" y="24606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610560" y="1771560"/>
            <a:ext cx="216000" cy="73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4139640" y="1771560"/>
            <a:ext cx="216000" cy="73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9160" y="1700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8120" y="1700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40080" y="105408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60680" y="1549440"/>
            <a:ext cx="165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t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 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60600" y="1984320"/>
            <a:ext cx="16556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30920" y="1092240"/>
            <a:ext cx="3456000" cy="720720"/>
          </a:xfrm>
          <a:custGeom>
            <a:avLst/>
            <a:gdLst/>
            <a:ahLst/>
            <a:rect l="l" t="t" r="r" b="b"/>
            <a:pathLst>
              <a:path w="2449" h="544">
                <a:moveTo>
                  <a:pt x="0" y="544"/>
                </a:moveTo>
                <a:lnTo>
                  <a:pt x="544" y="544"/>
                </a:lnTo>
                <a:lnTo>
                  <a:pt x="771" y="226"/>
                </a:lnTo>
                <a:lnTo>
                  <a:pt x="1225" y="0"/>
                </a:lnTo>
                <a:lnTo>
                  <a:pt x="1678" y="226"/>
                </a:lnTo>
                <a:lnTo>
                  <a:pt x="1905" y="544"/>
                </a:lnTo>
                <a:lnTo>
                  <a:pt x="2449" y="5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97360" y="180648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181296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84680" y="2460600"/>
            <a:ext cx="216000" cy="73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4680" y="24606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16800" y="2460600"/>
            <a:ext cx="216000" cy="73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16800" y="24606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4785840" y="1771560"/>
            <a:ext cx="216000" cy="73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8315280" y="1771920"/>
            <a:ext cx="216000" cy="72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24440" y="1700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93040" y="1700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15000" y="1054080"/>
            <a:ext cx="9072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72280" y="168768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42040" y="1366920"/>
            <a:ext cx="792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89440" y="1716120"/>
            <a:ext cx="9072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37320" y="1722600"/>
            <a:ext cx="9072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3612600">
            <a:off x="5410440" y="1512360"/>
            <a:ext cx="179280" cy="73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77040" y="1452600"/>
            <a:ext cx="215640" cy="360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7524000">
            <a:off x="7768080" y="1504080"/>
            <a:ext cx="179640" cy="730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7629480" y="1444680"/>
            <a:ext cx="249120" cy="360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956600">
            <a:off x="7285320" y="1483560"/>
            <a:ext cx="288000" cy="29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13668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136687"/>
              </a:path>
            </a:pathLst>
          </a:custGeom>
          <a:noFill/>
          <a:ln w="19080">
            <a:solidFill>
              <a:srgbClr val="99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rot="19782000">
            <a:off x="5747040" y="1482480"/>
            <a:ext cx="285120" cy="289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13668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136687"/>
              </a:path>
            </a:pathLst>
          </a:custGeom>
          <a:noFill/>
          <a:ln w="19080">
            <a:solidFill>
              <a:srgbClr val="99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rot="5607600">
            <a:off x="7463160" y="1830960"/>
            <a:ext cx="285120" cy="289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13668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136687"/>
              </a:path>
            </a:pathLst>
          </a:custGeom>
          <a:noFill/>
          <a:ln w="19080">
            <a:solidFill>
              <a:srgbClr val="99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5762600">
            <a:off x="5568840" y="1827720"/>
            <a:ext cx="288720" cy="298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13668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136687"/>
              </a:path>
            </a:pathLst>
          </a:custGeom>
          <a:noFill/>
          <a:ln w="19080">
            <a:solidFill>
              <a:srgbClr val="99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1000" y="1301760"/>
            <a:ext cx="130320" cy="21600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7824600" y="1311120"/>
            <a:ext cx="144360" cy="21600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7629480" y="1193760"/>
            <a:ext cx="60480" cy="57960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19600" y="1224000"/>
            <a:ext cx="73080" cy="57636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1257480"/>
            <a:ext cx="214560" cy="80640"/>
          </a:xfrm>
          <a:custGeom>
            <a:avLst/>
            <a:gdLst/>
            <a:ahLst/>
            <a:rect l="l" t="t" r="r" b="b"/>
            <a:pathLst>
              <a:path w="135" h="51">
                <a:moveTo>
                  <a:pt x="0" y="51"/>
                </a:moveTo>
                <a:cubicBezTo>
                  <a:pt x="10" y="46"/>
                  <a:pt x="38" y="26"/>
                  <a:pt x="60" y="18"/>
                </a:cubicBezTo>
                <a:cubicBezTo>
                  <a:pt x="82" y="10"/>
                  <a:pt x="120" y="4"/>
                  <a:pt x="135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7677000" y="1243080"/>
            <a:ext cx="270000" cy="104760"/>
          </a:xfrm>
          <a:custGeom>
            <a:avLst/>
            <a:gdLst/>
            <a:ahLst/>
            <a:rect l="l" t="t" r="r" b="b"/>
            <a:pathLst>
              <a:path w="135" h="51">
                <a:moveTo>
                  <a:pt x="0" y="51"/>
                </a:moveTo>
                <a:cubicBezTo>
                  <a:pt x="10" y="46"/>
                  <a:pt x="38" y="26"/>
                  <a:pt x="60" y="18"/>
                </a:cubicBezTo>
                <a:cubicBezTo>
                  <a:pt x="82" y="10"/>
                  <a:pt x="120" y="4"/>
                  <a:pt x="135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15080" y="168264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91280" y="16876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214960" y="91764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67640" y="92700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867280" y="2138400"/>
            <a:ext cx="1584360" cy="343080"/>
          </a:xfrm>
          <a:prstGeom prst="rect">
            <a:avLst/>
          </a:prstGeom>
          <a:solidFill>
            <a:srgbClr val="c8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Z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02440" y="692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 Black"/>
              </a:rPr>
              <a:t>ОС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19280" y="259092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Условия эквивалентности НДС РСНС и ОСС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2906640"/>
            <a:ext cx="6553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-я групп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инематическ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словия: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  i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0280" y="3319560"/>
            <a:ext cx="6913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я групп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татическ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словия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  i = n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1120" y="3797280"/>
            <a:ext cx="27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Z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4511520"/>
            <a:ext cx="27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Z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122640" y="3666960"/>
                <a:ext cx="269712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X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sup>
                      <m:e>
                        <m:r>
                          <m:t xml:space="preserve"> </m:t>
                        </m:r>
                        <m:r>
                          <m:t xml:space="preserve">Δ</m:t>
                        </m:r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884920" y="3675240"/>
                <a:ext cx="2892240" cy="80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Z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nary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143160" y="4365720"/>
                <a:ext cx="26766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X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867280" y="4362480"/>
                <a:ext cx="28479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Z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R</m:t>
                        </m:r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584360" y="5086440"/>
                <a:ext cx="42735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sSubSup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,    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584360" y="5816520"/>
                <a:ext cx="47275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sup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  <m:r>
                              <m:t xml:space="preserve"> 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t xml:space="preserve">Σ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,    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6593040" y="5299200"/>
            <a:ext cx="215640" cy="1224000"/>
          </a:xfrm>
          <a:custGeom>
            <a:avLst/>
            <a:gdLst>
              <a:gd name="textAreaLeft" fmla="*/ 0 w 215640"/>
              <a:gd name="textAreaRight" fmla="*/ 77760 w 2156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00760" y="5792760"/>
            <a:ext cx="19447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анониче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рав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мешан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тода (КУС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32720" y="2886120"/>
            <a:ext cx="223200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(отрицание перемеще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по направления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удалённых лишних связе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091280" y="3384720"/>
            <a:ext cx="1716120" cy="3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(отрицание реакц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введённых связе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840"/>
                            </p:stCondLst>
                            <p:childTnLst>
                              <p:par>
                                <p:cTn id="5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840"/>
                            </p:stCondLst>
                            <p:childTnLst>
                              <p:par>
                                <p:cTn id="5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 Narrow"/>
              </a:rPr>
              <a:t>РАСЧЁТ СТАТИЧЕСКИ НЕОПРЕДЕЛИМЫХ СИСТЕМ СМЕШАННЫМ МЕТ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620640"/>
            <a:ext cx="66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Система канонических уравнений смешанного метод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9360" y="1014480"/>
            <a:ext cx="165240" cy="2041560"/>
          </a:xfrm>
          <a:custGeom>
            <a:avLst/>
            <a:gdLst>
              <a:gd name="textAreaLeft" fmla="*/ 105480 w 165240"/>
              <a:gd name="textAreaRight" fmla="*/ 165600 w 165240"/>
              <a:gd name="textAreaTop" fmla="*/ 52920 h 2041560"/>
              <a:gd name="textAreaBottom" fmla="*/ 1988640 h 2041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44840" y="102384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80960" y="205884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6200000">
            <a:off x="8204400" y="1304280"/>
            <a:ext cx="1008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-я груп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рав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6200000">
            <a:off x="8202960" y="2325240"/>
            <a:ext cx="100800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-я груп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рав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00360" y="328464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матричной форм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38040" y="1023840"/>
                <a:ext cx="8175600" cy="20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m>
                      <m:mr>
                        <m:e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δ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δ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+</m:t>
                          </m:r>
                        </m:e>
                        <m:e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δ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</m:t>
                          </m:r>
                          <m:r>
                            <m:t xml:space="preserve"> </m:t>
                          </m:r>
                          <m:sSubSup>
                            <m:e>
                              <m:r>
                                <m:t xml:space="preserve">δ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,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</m:t>
                          </m:r>
                          <m:sSubSup>
                            <m:e>
                              <m:r>
                                <m:t xml:space="preserve">δ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,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+</m:t>
                          </m:r>
                        </m:e>
                        <m:e>
                          <m:r>
                            <m:t xml:space="preserve"> </m:t>
                          </m:r>
                          <m:sSubSup>
                            <m:e>
                              <m:r>
                                <m:t xml:space="preserve">δ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Δ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Σ</m:t>
                              </m:r>
                            </m:sub>
                          </m:sSub>
                        </m:e>
                        <m:e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,</m:t>
                          </m:r>
                        </m:e>
                      </m:mr>
                      <m:mr>
                        <m:e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δ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δ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+</m:t>
                          </m:r>
                        </m:e>
                        <m:e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δ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</m:t>
                          </m:r>
                          <m:sSubSup>
                            <m:e>
                              <m:r>
                                <m:t xml:space="preserve">δ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,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</m:t>
                          </m:r>
                          <m:sSubSup>
                            <m:e>
                              <m:r>
                                <m:t xml:space="preserve">δ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,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+</m:t>
                          </m:r>
                        </m:e>
                        <m:e>
                          <m:r>
                            <m:t xml:space="preserve"> </m:t>
                          </m:r>
                          <m:sSubSup>
                            <m:e>
                              <m:r>
                                <m:t xml:space="preserve">δ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Δ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Σ</m:t>
                              </m:r>
                            </m:sub>
                          </m:sSub>
                        </m:e>
                        <m:e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,</m:t>
                          </m:r>
                        </m:e>
                      </m:mr>
                      <m:mr>
                        <m:e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δ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δ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+</m:t>
                          </m:r>
                        </m:e>
                        <m:e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δ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Sup>
                            <m:e>
                              <m:r>
                                <m:t xml:space="preserve">δ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sSubSup>
                            <m:e>
                              <m:r>
                                <m:t xml:space="preserve">δ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+</m:t>
                          </m:r>
                        </m:e>
                        <m:e>
                          <m:r>
                            <m:t xml:space="preserve"> </m:t>
                          </m:r>
                          <m:sSubSup>
                            <m:e>
                              <m:r>
                                <m:t xml:space="preserve">δ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</m:t>
                          </m:r>
                          <m:sSub>
                            <m:e>
                              <m:r>
                                <m:t xml:space="preserve">Δ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Σ</m:t>
                              </m:r>
                            </m:sub>
                          </m:sSub>
                        </m:e>
                        <m:e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,</m:t>
                          </m:r>
                        </m:e>
                      </m:mr>
                      <m:mr>
                        <m:e>
                          <m:sSubSup>
                            <m:e>
                              <m:r>
                                <m:t xml:space="preserve">r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,</m:t>
                              </m:r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Sup>
                            <m:e>
                              <m:r>
                                <m:t xml:space="preserve">r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,</m:t>
                              </m:r>
                              <m:r>
                                <m:t xml:space="preserve"> </m:t>
                              </m:r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+</m:t>
                          </m:r>
                        </m:e>
                        <m:e>
                          <m:sSubSup>
                            <m:e>
                              <m:r>
                                <m:t xml:space="preserve">r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,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,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,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,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sub>
                          </m:sSub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,</m:t>
                              </m:r>
                              <m:r>
                                <m:t xml:space="preserve"> </m:t>
                              </m:r>
                              <m:r>
                                <m:t xml:space="preserve">Σ</m:t>
                              </m:r>
                            </m:sub>
                          </m:sSub>
                        </m:e>
                        <m:e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,</m:t>
                          </m:r>
                        </m:e>
                      </m:mr>
                      <m:mr>
                        <m:e>
                          <m:sSubSup>
                            <m:e>
                              <m:r>
                                <m:t xml:space="preserve">r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,</m:t>
                              </m:r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Sup>
                            <m:e>
                              <m:r>
                                <m:t xml:space="preserve">r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,</m:t>
                              </m:r>
                              <m:r>
                                <m:t xml:space="preserve"> </m:t>
                              </m:r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+</m:t>
                          </m:r>
                        </m:e>
                        <m:e>
                          <m:sSubSup>
                            <m:e>
                              <m:r>
                                <m:t xml:space="preserve">r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,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,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,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,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sub>
                          </m:sSub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,</m:t>
                              </m:r>
                              <m:r>
                                <m:t xml:space="preserve"> </m:t>
                              </m:r>
                              <m:r>
                                <m:t xml:space="preserve">Σ</m:t>
                              </m:r>
                            </m:sub>
                          </m:sSub>
                        </m:e>
                        <m:e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,</m:t>
                          </m:r>
                        </m:e>
                      </m:mr>
                      <m:mr>
                        <m:e>
                          <m:r>
                            <m:t xml:space="preserve"> </m:t>
                          </m:r>
                          <m:sSubSup>
                            <m:e>
                              <m:r>
                                <m:t xml:space="preserve">r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sSubSup>
                            <m:e>
                              <m:r>
                                <m:t xml:space="preserve">r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+</m:t>
                          </m:r>
                        </m:e>
                        <m:e>
                          <m:r>
                            <m:t xml:space="preserve"> </m:t>
                          </m:r>
                          <m:sSubSup>
                            <m:e>
                              <m:r>
                                <m:t xml:space="preserve">r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+</m:t>
                          </m:r>
                        </m:e>
                        <m:e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sub>
                          </m:sSub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Σ</m:t>
                              </m:r>
                            </m:sub>
                          </m:sSub>
                        </m:e>
                        <m:e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330120" y="2627280"/>
            <a:ext cx="8209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 .   .   .   .   .   .   .   .   .   .   .   .   .   .   .   .   .   .   .   .   .   .   .   .   .   .   .   .   .   .   .   .   .   .   .   .   .   .   .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5760" y="1595520"/>
            <a:ext cx="8208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 .   .   .   .   .   .   .   .   .   .   .   .   .   .   .   .   .   .   .   .   .   .   .   .   .   .   .   .   .   .   .   .   .   .   .   .   .   .   .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88960" y="3662280"/>
                <a:ext cx="6308640" cy="255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  <m:e>
                              <m:sSubSup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,</m:t>
                                  </m:r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,</m:t>
                                  </m:r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p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nalignl</m:t>
                                      </m:r>
                                      <m:sSub>
                                        <m:e>
                                          <m:eqArr>
                                            <m:e>
                                              <m:r>
                                                <m:t xml:space="preserve">0</m:t>
                                              </m:r>
                                            </m:e>
                                          </m:eqArr>
                                        </m:e>
                                        <m:sub/>
                                      </m:sSub>
                                    </m:sub>
                                  </m:sSub>
                                </m:e>
                                <m:sup>
                                  <m:r>
                                    <m:t xml:space="preserve">'</m:t>
                                  </m:r>
                                </m:sup>
                              </m:sSup>
                            </m:e>
                          </m:mr>
                        </m:m>
                      </m:e>
                      <m:e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…</m:t>
                        </m:r>
                      </m:e>
                      <m:e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b>
                        </m:sSub>
                      </m:e>
                      <m:e/>
                      <m:e>
                        <m:sSubSup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/>
                      <m:e>
                        <m:sSubSup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/>
                      <m:e>
                        <m:r>
                          <m:t xml:space="preserve">…</m:t>
                        </m:r>
                      </m:e>
                      <m:e/>
                      <m:e>
                        <m:r>
                          <m:t xml:space="preserve">δalignl</m:t>
                        </m:r>
                        <m:sSup>
                          <m:e>
                            <m:eqArr>
                              <m:e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eqArr>
                          </m:e>
                          <m:sup/>
                        </m:sSup>
                      </m:e>
                      <m:e/>
                      <m:e>
                        <m:r>
                          <m:t xml:space="preserve">'</m:t>
                        </m:r>
                      </m:e>
                      <m:e/>
                      <m:e/>
                      <m:e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2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…</m:t>
                        </m:r>
                      </m:e>
                      <m:e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b>
                        </m:sSub>
                      </m:e>
                      <m:e/>
                      <m:e>
                        <m:sSubSup>
                          <m:e>
                            <m:r>
                              <m:t xml:space="preserve">δ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/>
                      <m:e>
                        <m:sSubSup>
                          <m:e>
                            <m:r>
                              <m:t xml:space="preserve">δ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/>
                      <m:e>
                        <m:r>
                          <m:t xml:space="preserve">…</m:t>
                        </m:r>
                      </m:e>
                      <m:e/>
                      <m:e>
                        <m:sSup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nalignl</m:t>
                                </m:r>
                                <m:sSub>
                                  <m:e>
                                    <m:eqArr>
                                      <m:e>
                                        <m:r>
                                          <m:t xml:space="preserve">0</m:t>
                                        </m:r>
                                      </m:e>
                                    </m:eqArr>
                                  </m:e>
                                  <m:sub/>
                                </m:sSub>
                              </m:sub>
                            </m:sSub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  <m:e/>
                      <m:e/>
                      <m:e/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/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/>
                      <m:e>
                        <m:r>
                          <m:t xml:space="preserve">…</m:t>
                        </m:r>
                      </m:e>
                      <m:e/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…</m:t>
                        </m:r>
                      </m:e>
                      <m:e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  <m:r>
                              <m:t xml:space="preserve"> </m:t>
                            </m:r>
                            <m:r>
                              <m:t xml:space="preserve">nalignl</m:t>
                            </m:r>
                            <m:sSub>
                              <m:e>
                                <m:eqArr>
                                  <m:e>
                                    <m:r>
                                      <m:t xml:space="preserve">0</m:t>
                                    </m:r>
                                  </m:e>
                                </m:eqArr>
                              </m:e>
                              <m:sub/>
                            </m:sSub>
                          </m:sub>
                        </m:sSub>
                      </m:e>
                      <m:e/>
                      <m:e/>
                      <m:e/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,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/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,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/>
                      <m:e>
                        <m:r>
                          <m:t xml:space="preserve">…</m:t>
                        </m:r>
                      </m:e>
                      <m:e/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…</m:t>
                        </m:r>
                      </m:e>
                      <m:e/>
                      <m:e>
                        <m:sSub>
                          <m:e>
                            <m:r>
                              <m:t xml:space="preserve">ralignl</m:t>
                            </m:r>
                            <m:sSub>
                              <m:e>
                                <m:sSub>
                                  <m:e>
                                    <m:eqArr>
                                      <m:e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X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,</m:t>
                                        </m:r>
                                        <m:r>
                                          <m:t xml:space="preserve"> </m:t>
                                        </m:r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e>
                                    </m:eqArr>
                                  </m:e>
                                  <m:sub/>
                                </m:sSub>
                              </m:e>
                              <m:sub/>
                            </m:sSub>
                          </m:e>
                          <m:sub/>
                        </m:sSub>
                      </m:e>
                      <m:e/>
                      <m:e/>
                      <m:e/>
                      <m:e/>
                      <m:e/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/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/>
                      <m:e>
                        <m:r>
                          <m:t xml:space="preserve">…</m:t>
                        </m:r>
                      </m:e>
                      <m:e/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…</m:t>
                        </m:r>
                      </m:e>
                      <m:e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</m:sSub>
                      </m:e>
                      <m:e/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Σ 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Σ  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Σ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Σ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Σ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Σ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714240" y="4344840"/>
            <a:ext cx="4299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   .   .   .   .   .   .   .   .   .   .   .   .   .   .   .   .   .   .   .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.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04880" y="5661000"/>
            <a:ext cx="42987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   .   .   .   .   .   .   .   .   .   .   .   .   .   .   .   .   .   .   .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.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660760" y="373860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4400" y="4919760"/>
            <a:ext cx="4391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95880" y="49291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0360" y="49291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8360" y="3718080"/>
            <a:ext cx="71280" cy="1187280"/>
          </a:xfrm>
          <a:custGeom>
            <a:avLst/>
            <a:gdLst>
              <a:gd name="textAreaLeft" fmla="*/ 45720 w 71280"/>
              <a:gd name="textAreaRight" fmla="*/ 71640 w 71280"/>
              <a:gd name="textAreaTop" fmla="*/ 30960 h 1187280"/>
              <a:gd name="textAreaBottom" fmla="*/ 1156320 h 11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8360" y="4967280"/>
            <a:ext cx="71280" cy="1187280"/>
          </a:xfrm>
          <a:custGeom>
            <a:avLst/>
            <a:gdLst>
              <a:gd name="textAreaLeft" fmla="*/ 45720 w 71280"/>
              <a:gd name="textAreaRight" fmla="*/ 71640 w 71280"/>
              <a:gd name="textAreaTop" fmla="*/ 30960 h 1187280"/>
              <a:gd name="textAreaBottom" fmla="*/ 1156320 h 11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6200000">
            <a:off x="1555560" y="5321160"/>
            <a:ext cx="71280" cy="1979640"/>
          </a:xfrm>
          <a:custGeom>
            <a:avLst/>
            <a:gdLst>
              <a:gd name="textAreaLeft" fmla="*/ 45720 w 71280"/>
              <a:gd name="textAreaRight" fmla="*/ 71640 w 71280"/>
              <a:gd name="textAreaTop" fmla="*/ 51480 h 1979640"/>
              <a:gd name="textAreaBottom" fmla="*/ 1928160 h 19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762360" y="5176800"/>
            <a:ext cx="71280" cy="2268360"/>
          </a:xfrm>
          <a:custGeom>
            <a:avLst/>
            <a:gdLst>
              <a:gd name="textAreaLeft" fmla="*/ 45720 w 71280"/>
              <a:gd name="textAreaRight" fmla="*/ 71640 w 71280"/>
              <a:gd name="textAreaTop" fmla="*/ 59040 h 2268360"/>
              <a:gd name="textAreaBottom" fmla="*/ 2209320 h 22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89280" y="4043160"/>
            <a:ext cx="50472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428840" y="623088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90720" y="5292360"/>
            <a:ext cx="50472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635280" y="62308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6740640" y="3938760"/>
                <a:ext cx="20923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</m:e>
                            <m:e>
                              <m:sSubSup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Z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X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Z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t xml:space="preserve">Σ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Σ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 flipV="1" rot="16200000">
            <a:off x="7227000" y="4435200"/>
            <a:ext cx="360360" cy="720720"/>
          </a:xfrm>
          <a:custGeom>
            <a:avLst/>
            <a:gdLst>
              <a:gd name="textAreaLeft" fmla="*/ 0 w 360360"/>
              <a:gd name="textAreaRight" fmla="*/ 360720 w 360360"/>
              <a:gd name="textAreaTop" fmla="*/ 360 h 720720"/>
              <a:gd name="textAreaBottom" fmla="*/ 7214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925" stAng="10800000" swAng="5400000"/>
                <a:lnTo>
                  <a:pt x="12750" y="3235"/>
                </a:lnTo>
                <a:lnTo>
                  <a:pt x="12750" y="0"/>
                </a:lnTo>
                <a:lnTo>
                  <a:pt x="21600" y="6079"/>
                </a:lnTo>
                <a:lnTo>
                  <a:pt x="12750" y="12158"/>
                </a:lnTo>
                <a:lnTo>
                  <a:pt x="12750" y="8923"/>
                </a:lnTo>
                <a:lnTo>
                  <a:pt x="12427" y="8923"/>
                </a:lnTo>
                <a:arcTo wR="6739" hR="3237" stAng="16200000" swAng="-5400000"/>
                <a:lnTo>
                  <a:pt x="568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 rot="16200000">
            <a:off x="8319600" y="3741480"/>
            <a:ext cx="71280" cy="360360"/>
          </a:xfrm>
          <a:custGeom>
            <a:avLst/>
            <a:gdLst>
              <a:gd name="textAreaLeft" fmla="*/ 0 w 71280"/>
              <a:gd name="textAreaRight" fmla="*/ 25560 w 7128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 rot="16200000">
            <a:off x="7813080" y="3736800"/>
            <a:ext cx="71280" cy="360360"/>
          </a:xfrm>
          <a:custGeom>
            <a:avLst/>
            <a:gdLst>
              <a:gd name="textAreaLeft" fmla="*/ 0 w 71280"/>
              <a:gd name="textAreaRight" fmla="*/ 25560 w 7128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 rot="16200000">
            <a:off x="7164000" y="3517560"/>
            <a:ext cx="71280" cy="792360"/>
          </a:xfrm>
          <a:custGeom>
            <a:avLst/>
            <a:gdLst>
              <a:gd name="textAreaLeft" fmla="*/ 0 w 71280"/>
              <a:gd name="textAreaRight" fmla="*/ 25560 w 7128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902280" y="346248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X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655040" y="34750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140680" y="347508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64480" y="4162320"/>
            <a:ext cx="1726920" cy="43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64480" y="4162320"/>
            <a:ext cx="1798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XZ</a:t>
            </a:r>
            <a:r>
              <a:rPr b="1" i="1" lang="en-US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7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9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7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8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 Narrow"/>
              </a:rPr>
              <a:t>РАСЧЁТ СТАТИЧЕСКИ НЕОПРЕДЕЛИМЫХ СИСТЕМ СМЕШАННЫМ МЕТ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8360" y="3718080"/>
            <a:ext cx="71280" cy="1187280"/>
          </a:xfrm>
          <a:custGeom>
            <a:avLst/>
            <a:gdLst>
              <a:gd name="textAreaLeft" fmla="*/ 45720 w 71280"/>
              <a:gd name="textAreaRight" fmla="*/ 71640 w 71280"/>
              <a:gd name="textAreaTop" fmla="*/ 30960 h 1187280"/>
              <a:gd name="textAreaBottom" fmla="*/ 1156320 h 11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68360" y="4967280"/>
            <a:ext cx="71280" cy="1187280"/>
          </a:xfrm>
          <a:custGeom>
            <a:avLst/>
            <a:gdLst>
              <a:gd name="textAreaLeft" fmla="*/ 45720 w 71280"/>
              <a:gd name="textAreaRight" fmla="*/ 71640 w 71280"/>
              <a:gd name="textAreaTop" fmla="*/ 30960 h 1187280"/>
              <a:gd name="textAreaBottom" fmla="*/ 1156320 h 11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6200000">
            <a:off x="1555560" y="5321160"/>
            <a:ext cx="71280" cy="1979640"/>
          </a:xfrm>
          <a:custGeom>
            <a:avLst/>
            <a:gdLst>
              <a:gd name="textAreaLeft" fmla="*/ 45720 w 71280"/>
              <a:gd name="textAreaRight" fmla="*/ 71640 w 71280"/>
              <a:gd name="textAreaTop" fmla="*/ 51480 h 1979640"/>
              <a:gd name="textAreaBottom" fmla="*/ 1928160 h 19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3762360" y="5176800"/>
            <a:ext cx="71280" cy="2268360"/>
          </a:xfrm>
          <a:custGeom>
            <a:avLst/>
            <a:gdLst>
              <a:gd name="textAreaLeft" fmla="*/ 45720 w 71280"/>
              <a:gd name="textAreaRight" fmla="*/ 71640 w 71280"/>
              <a:gd name="textAreaTop" fmla="*/ 59040 h 2268360"/>
              <a:gd name="textAreaBottom" fmla="*/ 2209320 h 22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16200000">
            <a:off x="89280" y="4043160"/>
            <a:ext cx="50472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428840" y="623088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90720" y="5292360"/>
            <a:ext cx="504720" cy="3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635280" y="62308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032600" y="5192640"/>
            <a:ext cx="1460520" cy="324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314280" y="995400"/>
                <a:ext cx="234144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4557600" y="998640"/>
                <a:ext cx="2813040" cy="11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,</m:t>
                                  </m:r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,</m:t>
                                  </m:r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,</m:t>
                                  </m:r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,</m:t>
                                  </m:r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,</m:t>
                                  </m:r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,</m:t>
                                  </m:r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931080" y="4632480"/>
                <a:ext cx="18669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</m:e>
                            <m:e>
                              <m:sSubSup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Z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X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Z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t xml:space="preserve">Σ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Σ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24000" y="2455920"/>
                <a:ext cx="267156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,</m:t>
                                  </m:r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,</m:t>
                                  </m:r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572000" y="2473200"/>
                <a:ext cx="308772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Z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,</m:t>
                                  </m:r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,</m:t>
                                  </m:r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,</m:t>
                                  </m:r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,</m:t>
                                  </m:r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,</m:t>
                                  </m:r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,</m:t>
                                  </m:r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r>
                                <m:t xml:space="preserve">…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928800" y="630360"/>
            <a:ext cx="6553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Перемещения в ОССМ по направлениям силовых основных неизвестных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768240"/>
            <a:ext cx="235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от единичных сил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757080"/>
            <a:ext cx="30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от единичных перемещени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Z =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5280" y="2089080"/>
            <a:ext cx="46083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Реакции введенных связей в расчётных узлах ОСС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1280" y="223200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от единичных сил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223200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от единичных перемещени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Z =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66760" y="1617840"/>
                <a:ext cx="45540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4568760" y="1633680"/>
                <a:ext cx="42696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85840" y="3106800"/>
                <a:ext cx="42696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4533840" y="3111480"/>
                <a:ext cx="41760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2655720" y="1028880"/>
            <a:ext cx="719280" cy="576000"/>
          </a:xfrm>
          <a:prstGeom prst="rect">
            <a:avLst/>
          </a:prstGeom>
          <a:solidFill>
            <a:srgbClr val="c8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657520" y="990720"/>
            <a:ext cx="8636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1700" spc="-1" strike="noStrike" baseline="-25000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89120" y="1225440"/>
            <a:ext cx="86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1700" spc="-1" strike="noStrike" baseline="-25000">
                <a:solidFill>
                  <a:srgbClr val="000000"/>
                </a:solidFill>
                <a:latin typeface="Times New Roman"/>
              </a:rPr>
              <a:t>ik </a:t>
            </a:r>
            <a:r>
              <a:rPr b="1" i="1" lang="en-US" sz="17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60680" y="1658880"/>
            <a:ext cx="20826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 Narrow"/>
              </a:rPr>
              <a:t>Вычисление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ik </a:t>
            </a:r>
            <a:r>
              <a:rPr b="1" lang="ru-RU" sz="1300" spc="-1" strike="noStrike">
                <a:solidFill>
                  <a:srgbClr val="000000"/>
                </a:solidFill>
                <a:latin typeface="Arial Narrow"/>
              </a:rPr>
              <a:t>– методо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 Narrow"/>
              </a:rPr>
              <a:t>Максвелла</a:t>
            </a:r>
            <a:r>
              <a:rPr b="1" lang="ru-RU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Arial Narrow"/>
              </a:rPr>
              <a:t>–</a:t>
            </a:r>
            <a:r>
              <a:rPr b="1" lang="ru-RU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Arial Narrow"/>
              </a:rPr>
              <a:t>Мора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385040" y="990720"/>
            <a:ext cx="1297080" cy="647640"/>
          </a:xfrm>
          <a:prstGeom prst="rect">
            <a:avLst/>
          </a:prstGeom>
          <a:solidFill>
            <a:srgbClr val="c8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7477200" y="1306440"/>
                <a:ext cx="11412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7645320" y="977760"/>
                <a:ext cx="74160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 flipV="1">
            <a:off x="7856640" y="1305720"/>
            <a:ext cx="360360" cy="71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72440" y="1690560"/>
            <a:ext cx="1520640" cy="474840"/>
          </a:xfrm>
          <a:prstGeom prst="rect">
            <a:avLst/>
          </a:prstGeom>
          <a:solidFill>
            <a:srgbClr val="ffb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Вычисление         –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только через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8352000" y="1641600"/>
                <a:ext cx="271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8434440" y="1854360"/>
                <a:ext cx="35388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3006720" y="2362320"/>
            <a:ext cx="1297080" cy="647640"/>
          </a:xfrm>
          <a:prstGeom prst="rect">
            <a:avLst/>
          </a:prstGeom>
          <a:solidFill>
            <a:srgbClr val="c8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100320" y="2687760"/>
                <a:ext cx="113976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т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241800" y="2349360"/>
                <a:ext cx="79200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 flipV="1">
            <a:off x="3478320" y="2687760"/>
            <a:ext cx="360360" cy="712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16360" y="3033720"/>
            <a:ext cx="158904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Вычисление         –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статическим или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кинематическим способам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924360" y="2952720"/>
                <a:ext cx="237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7696080" y="2492280"/>
            <a:ext cx="719280" cy="576360"/>
          </a:xfrm>
          <a:prstGeom prst="rect">
            <a:avLst/>
          </a:prstGeom>
          <a:solidFill>
            <a:srgbClr val="c8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716960" y="2454120"/>
            <a:ext cx="8636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700" spc="-1" strike="noStrike" baseline="-25000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648560" y="2689200"/>
            <a:ext cx="86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700" spc="-1" strike="noStrike" baseline="-25000">
                <a:solidFill>
                  <a:srgbClr val="000000"/>
                </a:solidFill>
                <a:latin typeface="Times New Roman"/>
              </a:rPr>
              <a:t>ik </a:t>
            </a:r>
            <a:r>
              <a:rPr b="1" i="1" lang="en-US" sz="17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567560" y="3036960"/>
            <a:ext cx="1468440" cy="7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 Narrow"/>
              </a:rPr>
              <a:t>Вычисление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ik </a:t>
            </a:r>
            <a:r>
              <a:rPr b="1" lang="ru-RU" sz="1300" spc="-1" strike="noStrike">
                <a:solidFill>
                  <a:srgbClr val="000000"/>
                </a:solidFill>
                <a:latin typeface="Arial Narrow"/>
              </a:rPr>
              <a:t>–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 Narrow"/>
              </a:rPr>
              <a:t>статическим или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 Narrow"/>
              </a:rPr>
              <a:t>кинематическим способам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864480" y="4162320"/>
            <a:ext cx="1726920" cy="43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64480" y="4162320"/>
            <a:ext cx="1798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XZ</a:t>
            </a:r>
            <a:r>
              <a:rPr b="1" i="1" lang="en-US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7093080" y="5170320"/>
                <a:ext cx="130788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6854760" y="5516640"/>
            <a:ext cx="1800360" cy="1081080"/>
          </a:xfrm>
          <a:prstGeom prst="rect">
            <a:avLst/>
          </a:prstGeom>
          <a:solidFill>
            <a:srgbClr val="d9f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889680" y="5432400"/>
                <a:ext cx="172872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Σ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588960" y="3662280"/>
                <a:ext cx="6308640" cy="255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  <m:e>
                              <m:sSubSup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,</m:t>
                                  </m:r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,</m:t>
                                  </m:r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…</m:t>
                              </m:r>
                            </m:e>
                            <m:e>
                              <m:sSup>
                                <m:e>
                                  <m:sSub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nalignl</m:t>
                                      </m:r>
                                      <m:sSub>
                                        <m:e>
                                          <m:eqArr>
                                            <m:e>
                                              <m:r>
                                                <m:t xml:space="preserve">0</m:t>
                                              </m:r>
                                            </m:e>
                                          </m:eqArr>
                                        </m:e>
                                        <m:sub/>
                                      </m:sSub>
                                    </m:sub>
                                  </m:sSub>
                                </m:e>
                                <m:sup>
                                  <m:r>
                                    <m:t xml:space="preserve">'</m:t>
                                  </m:r>
                                </m:sup>
                              </m:sSup>
                            </m:e>
                          </m:mr>
                        </m:m>
                      </m:e>
                      <m:e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…</m:t>
                        </m:r>
                      </m:e>
                      <m:e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b>
                        </m:sSub>
                      </m:e>
                      <m:e/>
                      <m:e>
                        <m:sSubSup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/>
                      <m:e>
                        <m:sSubSup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/>
                      <m:e>
                        <m:r>
                          <m:t xml:space="preserve">…</m:t>
                        </m:r>
                      </m:e>
                      <m:e/>
                      <m:e>
                        <m:r>
                          <m:t xml:space="preserve">δalignl</m:t>
                        </m:r>
                        <m:sSup>
                          <m:e>
                            <m:eqArr>
                              <m:e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eqArr>
                          </m:e>
                          <m:sup/>
                        </m:sSup>
                      </m:e>
                      <m:e/>
                      <m:e>
                        <m:r>
                          <m:t xml:space="preserve">'</m:t>
                        </m:r>
                      </m:e>
                      <m:e/>
                      <m:e/>
                      <m:e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2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…</m:t>
                        </m:r>
                      </m:e>
                      <m:e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b>
                        </m:sSub>
                      </m:e>
                      <m:e/>
                      <m:e>
                        <m:sSubSup>
                          <m:e>
                            <m:r>
                              <m:t xml:space="preserve">δ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/>
                      <m:e>
                        <m:sSubSup>
                          <m:e>
                            <m:r>
                              <m:t xml:space="preserve">δ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/>
                      <m:e>
                        <m:r>
                          <m:t xml:space="preserve">…</m:t>
                        </m:r>
                      </m:e>
                      <m:e/>
                      <m:e>
                        <m:sSup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nalignl</m:t>
                                </m:r>
                                <m:sSub>
                                  <m:e>
                                    <m:eqArr>
                                      <m:e>
                                        <m:r>
                                          <m:t xml:space="preserve">0</m:t>
                                        </m:r>
                                      </m:e>
                                    </m:eqArr>
                                  </m:e>
                                  <m:sub/>
                                </m:sSub>
                              </m:sub>
                            </m:sSub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  <m:e/>
                      <m:e/>
                      <m:e/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/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/>
                      <m:e>
                        <m:r>
                          <m:t xml:space="preserve">…</m:t>
                        </m:r>
                      </m:e>
                      <m:e/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…</m:t>
                        </m:r>
                      </m:e>
                      <m:e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  <m:r>
                              <m:t xml:space="preserve"> </m:t>
                            </m:r>
                            <m:r>
                              <m:t xml:space="preserve">nalignl</m:t>
                            </m:r>
                            <m:sSub>
                              <m:e>
                                <m:eqArr>
                                  <m:e>
                                    <m:r>
                                      <m:t xml:space="preserve">0</m:t>
                                    </m:r>
                                  </m:e>
                                </m:eqArr>
                              </m:e>
                              <m:sub/>
                            </m:sSub>
                          </m:sub>
                        </m:sSub>
                      </m:e>
                      <m:e/>
                      <m:e/>
                      <m:e/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,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/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,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/>
                      <m:e>
                        <m:r>
                          <m:t xml:space="preserve">…</m:t>
                        </m:r>
                      </m:e>
                      <m:e/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…</m:t>
                        </m:r>
                      </m:e>
                      <m:e/>
                      <m:e>
                        <m:sSub>
                          <m:e>
                            <m:r>
                              <m:t xml:space="preserve">ralignl</m:t>
                            </m:r>
                            <m:sSub>
                              <m:e>
                                <m:sSub>
                                  <m:e>
                                    <m:eqArr>
                                      <m:e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X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,</m:t>
                                        </m:r>
                                        <m:r>
                                          <m:t xml:space="preserve"> </m:t>
                                        </m:r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e>
                                    </m:eqArr>
                                  </m:e>
                                  <m:sub/>
                                </m:sSub>
                              </m:e>
                              <m:sub/>
                            </m:sSub>
                          </m:e>
                          <m:sub/>
                        </m:sSub>
                      </m:e>
                      <m:e/>
                      <m:e/>
                      <m:e/>
                      <m:e/>
                      <m:e/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/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/>
                      <m:e>
                        <m:r>
                          <m:t xml:space="preserve">…</m:t>
                        </m:r>
                      </m:e>
                      <m:e/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e>
                      <m:e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…</m:t>
                        </m:r>
                      </m:e>
                      <m:e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</m:sSub>
                      </m:e>
                      <m:e/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Σ 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Σ  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Σ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Σ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,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Σ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Σ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2660760" y="373860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44400" y="4919760"/>
            <a:ext cx="4391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195880" y="49291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40360" y="49291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3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4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5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6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7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8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4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5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 Narrow"/>
              </a:rPr>
              <a:t>РАСЧЁТ СТАТИЧЕСКИ НЕОПРЕДЕЛИМЫХ СИСТЕМ СМЕШАННЫМ МЕТ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720960" y="58248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П р и м е 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42920" y="1268280"/>
            <a:ext cx="1295640" cy="1295640"/>
          </a:xfrm>
          <a:custGeom>
            <a:avLst/>
            <a:gdLst/>
            <a:ahLst/>
            <a:rect l="l" t="t" r="r" b="b"/>
            <a:pathLst>
              <a:path w="953" h="862">
                <a:moveTo>
                  <a:pt x="0" y="862"/>
                </a:moveTo>
                <a:lnTo>
                  <a:pt x="0" y="0"/>
                </a:lnTo>
                <a:lnTo>
                  <a:pt x="953" y="0"/>
                </a:lnTo>
                <a:lnTo>
                  <a:pt x="953" y="86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38560" y="1700280"/>
            <a:ext cx="1296720" cy="863640"/>
          </a:xfrm>
          <a:custGeom>
            <a:avLst/>
            <a:gdLst/>
            <a:ahLst/>
            <a:rect l="l" t="t" r="r" b="b"/>
            <a:pathLst>
              <a:path w="817" h="544">
                <a:moveTo>
                  <a:pt x="0" y="0"/>
                </a:moveTo>
                <a:lnTo>
                  <a:pt x="817" y="0"/>
                </a:lnTo>
                <a:lnTo>
                  <a:pt x="817" y="5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28800" y="2563920"/>
            <a:ext cx="215640" cy="7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28800" y="25639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24080" y="2563920"/>
            <a:ext cx="216000" cy="7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24080" y="25639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521160" y="2563920"/>
            <a:ext cx="215640" cy="73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521160" y="25639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5400000">
            <a:off x="3869640" y="1657080"/>
            <a:ext cx="216000" cy="73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948120" y="15858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683160" y="1658880"/>
            <a:ext cx="215640" cy="71640"/>
          </a:xfrm>
          <a:custGeom>
            <a:avLst/>
            <a:gdLst/>
            <a:ahLst/>
            <a:rect l="l" t="t" r="r" b="b"/>
            <a:pathLst>
              <a:path w="318" h="136">
                <a:moveTo>
                  <a:pt x="0" y="90"/>
                </a:moveTo>
                <a:lnTo>
                  <a:pt x="45" y="0"/>
                </a:lnTo>
                <a:lnTo>
                  <a:pt x="91" y="136"/>
                </a:lnTo>
                <a:lnTo>
                  <a:pt x="136" y="0"/>
                </a:lnTo>
                <a:lnTo>
                  <a:pt x="182" y="136"/>
                </a:lnTo>
                <a:lnTo>
                  <a:pt x="227" y="0"/>
                </a:lnTo>
                <a:lnTo>
                  <a:pt x="272" y="136"/>
                </a:lnTo>
                <a:lnTo>
                  <a:pt x="318" y="4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647720" y="1217520"/>
            <a:ext cx="90720" cy="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592440" y="1647720"/>
            <a:ext cx="90720" cy="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95560" y="1644480"/>
            <a:ext cx="90720" cy="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26920" y="12700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26920" y="127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26920" y="1486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6920" y="170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26920" y="191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26920" y="213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26920" y="234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692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95400" y="251316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987640" y="133200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42920" y="2781360"/>
            <a:ext cx="2592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042920" y="2637000"/>
            <a:ext cx="0" cy="215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2360" y="2637000"/>
            <a:ext cx="0" cy="215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340000" y="2637000"/>
            <a:ext cx="0" cy="215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987640" y="2637000"/>
            <a:ext cx="0" cy="215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635280" y="2637000"/>
            <a:ext cx="0" cy="215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211640" y="1270080"/>
            <a:ext cx="0" cy="1295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068720" y="1701720"/>
            <a:ext cx="216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51280" y="2565360"/>
            <a:ext cx="431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851280" y="1270080"/>
            <a:ext cx="431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1009800" y="2738520"/>
            <a:ext cx="712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649520" y="2738520"/>
            <a:ext cx="712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2297160" y="2738520"/>
            <a:ext cx="712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2944800" y="2738520"/>
            <a:ext cx="712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3592440" y="2738520"/>
            <a:ext cx="7164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4179960" y="1231920"/>
            <a:ext cx="79200" cy="79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4177800" y="1660680"/>
            <a:ext cx="79560" cy="79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4168800" y="2523600"/>
            <a:ext cx="79200" cy="79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592440" y="19796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969920" y="1773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06560" y="1773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438200" y="1251000"/>
            <a:ext cx="5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735280" y="1662120"/>
            <a:ext cx="5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74720" y="917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 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Н/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646360" y="104760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616200" y="1332000"/>
            <a:ext cx="43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16000" y="249408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835280" y="2494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482920" y="2494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132000" y="2494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6200000">
            <a:off x="3917520" y="1979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3912840" y="13096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603600" y="927000"/>
            <a:ext cx="1366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,5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–3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620800" y="1979640"/>
            <a:ext cx="755640" cy="554040"/>
          </a:xfrm>
          <a:prstGeom prst="rect">
            <a:avLst/>
          </a:prstGeom>
          <a:solidFill>
            <a:srgbClr val="c8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180040" y="1084320"/>
            <a:ext cx="1611360" cy="1670040"/>
          </a:xfrm>
          <a:custGeom>
            <a:avLst/>
            <a:gdLst/>
            <a:ahLst/>
            <a:rect l="l" t="t" r="r" b="b"/>
            <a:pathLst>
              <a:path w="962" h="1052">
                <a:moveTo>
                  <a:pt x="221" y="1004"/>
                </a:moveTo>
                <a:cubicBezTo>
                  <a:pt x="211" y="1032"/>
                  <a:pt x="199" y="1034"/>
                  <a:pt x="173" y="1040"/>
                </a:cubicBezTo>
                <a:cubicBezTo>
                  <a:pt x="147" y="1046"/>
                  <a:pt x="91" y="1052"/>
                  <a:pt x="64" y="1042"/>
                </a:cubicBezTo>
                <a:cubicBezTo>
                  <a:pt x="37" y="1032"/>
                  <a:pt x="21" y="1033"/>
                  <a:pt x="11" y="980"/>
                </a:cubicBezTo>
                <a:cubicBezTo>
                  <a:pt x="1" y="927"/>
                  <a:pt x="6" y="823"/>
                  <a:pt x="5" y="722"/>
                </a:cubicBezTo>
                <a:cubicBezTo>
                  <a:pt x="4" y="621"/>
                  <a:pt x="3" y="481"/>
                  <a:pt x="5" y="374"/>
                </a:cubicBezTo>
                <a:cubicBezTo>
                  <a:pt x="7" y="267"/>
                  <a:pt x="0" y="140"/>
                  <a:pt x="17" y="80"/>
                </a:cubicBezTo>
                <a:cubicBezTo>
                  <a:pt x="34" y="20"/>
                  <a:pt x="36" y="26"/>
                  <a:pt x="106" y="13"/>
                </a:cubicBezTo>
                <a:cubicBezTo>
                  <a:pt x="176" y="0"/>
                  <a:pt x="335" y="4"/>
                  <a:pt x="437" y="2"/>
                </a:cubicBezTo>
                <a:cubicBezTo>
                  <a:pt x="539" y="0"/>
                  <a:pt x="640" y="0"/>
                  <a:pt x="719" y="2"/>
                </a:cubicBezTo>
                <a:cubicBezTo>
                  <a:pt x="798" y="4"/>
                  <a:pt x="874" y="0"/>
                  <a:pt x="913" y="13"/>
                </a:cubicBezTo>
                <a:cubicBezTo>
                  <a:pt x="952" y="26"/>
                  <a:pt x="946" y="30"/>
                  <a:pt x="953" y="80"/>
                </a:cubicBezTo>
                <a:cubicBezTo>
                  <a:pt x="960" y="130"/>
                  <a:pt x="962" y="268"/>
                  <a:pt x="955" y="314"/>
                </a:cubicBezTo>
                <a:cubicBezTo>
                  <a:pt x="948" y="360"/>
                  <a:pt x="941" y="350"/>
                  <a:pt x="913" y="356"/>
                </a:cubicBezTo>
                <a:cubicBezTo>
                  <a:pt x="885" y="363"/>
                  <a:pt x="820" y="363"/>
                  <a:pt x="786" y="356"/>
                </a:cubicBezTo>
                <a:cubicBezTo>
                  <a:pt x="752" y="349"/>
                  <a:pt x="742" y="322"/>
                  <a:pt x="707" y="314"/>
                </a:cubicBezTo>
                <a:cubicBezTo>
                  <a:pt x="672" y="306"/>
                  <a:pt x="618" y="309"/>
                  <a:pt x="575" y="308"/>
                </a:cubicBezTo>
                <a:cubicBezTo>
                  <a:pt x="532" y="307"/>
                  <a:pt x="499" y="307"/>
                  <a:pt x="449" y="308"/>
                </a:cubicBezTo>
                <a:cubicBezTo>
                  <a:pt x="399" y="309"/>
                  <a:pt x="310" y="301"/>
                  <a:pt x="275" y="314"/>
                </a:cubicBezTo>
                <a:cubicBezTo>
                  <a:pt x="240" y="327"/>
                  <a:pt x="246" y="336"/>
                  <a:pt x="239" y="386"/>
                </a:cubicBezTo>
                <a:cubicBezTo>
                  <a:pt x="232" y="436"/>
                  <a:pt x="234" y="547"/>
                  <a:pt x="233" y="613"/>
                </a:cubicBezTo>
                <a:cubicBezTo>
                  <a:pt x="232" y="679"/>
                  <a:pt x="233" y="743"/>
                  <a:pt x="233" y="785"/>
                </a:cubicBezTo>
                <a:cubicBezTo>
                  <a:pt x="233" y="828"/>
                  <a:pt x="235" y="834"/>
                  <a:pt x="233" y="870"/>
                </a:cubicBezTo>
                <a:cubicBezTo>
                  <a:pt x="231" y="906"/>
                  <a:pt x="232" y="976"/>
                  <a:pt x="221" y="1004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507000" y="1512720"/>
            <a:ext cx="1949760" cy="1224000"/>
          </a:xfrm>
          <a:custGeom>
            <a:avLst/>
            <a:gdLst/>
            <a:ahLst/>
            <a:rect l="l" t="t" r="r" b="b"/>
            <a:pathLst>
              <a:path w="1157" h="707">
                <a:moveTo>
                  <a:pt x="7" y="554"/>
                </a:moveTo>
                <a:cubicBezTo>
                  <a:pt x="7" y="486"/>
                  <a:pt x="6" y="318"/>
                  <a:pt x="7" y="237"/>
                </a:cubicBezTo>
                <a:cubicBezTo>
                  <a:pt x="8" y="156"/>
                  <a:pt x="0" y="108"/>
                  <a:pt x="15" y="70"/>
                </a:cubicBezTo>
                <a:cubicBezTo>
                  <a:pt x="30" y="32"/>
                  <a:pt x="54" y="20"/>
                  <a:pt x="98" y="10"/>
                </a:cubicBezTo>
                <a:cubicBezTo>
                  <a:pt x="142" y="0"/>
                  <a:pt x="166" y="10"/>
                  <a:pt x="279" y="10"/>
                </a:cubicBezTo>
                <a:cubicBezTo>
                  <a:pt x="392" y="10"/>
                  <a:pt x="642" y="10"/>
                  <a:pt x="778" y="10"/>
                </a:cubicBezTo>
                <a:cubicBezTo>
                  <a:pt x="914" y="10"/>
                  <a:pt x="1035" y="2"/>
                  <a:pt x="1096" y="10"/>
                </a:cubicBezTo>
                <a:cubicBezTo>
                  <a:pt x="1157" y="18"/>
                  <a:pt x="1134" y="25"/>
                  <a:pt x="1141" y="55"/>
                </a:cubicBezTo>
                <a:cubicBezTo>
                  <a:pt x="1148" y="85"/>
                  <a:pt x="1155" y="164"/>
                  <a:pt x="1141" y="191"/>
                </a:cubicBezTo>
                <a:cubicBezTo>
                  <a:pt x="1127" y="218"/>
                  <a:pt x="1074" y="182"/>
                  <a:pt x="1059" y="220"/>
                </a:cubicBezTo>
                <a:cubicBezTo>
                  <a:pt x="1044" y="258"/>
                  <a:pt x="1051" y="355"/>
                  <a:pt x="1050" y="418"/>
                </a:cubicBezTo>
                <a:cubicBezTo>
                  <a:pt x="1049" y="481"/>
                  <a:pt x="1057" y="555"/>
                  <a:pt x="1050" y="600"/>
                </a:cubicBezTo>
                <a:cubicBezTo>
                  <a:pt x="1043" y="645"/>
                  <a:pt x="1080" y="673"/>
                  <a:pt x="1005" y="690"/>
                </a:cubicBezTo>
                <a:cubicBezTo>
                  <a:pt x="930" y="707"/>
                  <a:pt x="724" y="698"/>
                  <a:pt x="597" y="700"/>
                </a:cubicBezTo>
                <a:cubicBezTo>
                  <a:pt x="470" y="702"/>
                  <a:pt x="334" y="702"/>
                  <a:pt x="243" y="700"/>
                </a:cubicBezTo>
                <a:cubicBezTo>
                  <a:pt x="152" y="698"/>
                  <a:pt x="91" y="699"/>
                  <a:pt x="52" y="690"/>
                </a:cubicBezTo>
                <a:cubicBezTo>
                  <a:pt x="13" y="681"/>
                  <a:pt x="14" y="668"/>
                  <a:pt x="7" y="645"/>
                </a:cubicBezTo>
                <a:cubicBezTo>
                  <a:pt x="0" y="622"/>
                  <a:pt x="7" y="622"/>
                  <a:pt x="7" y="554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97480" y="1268280"/>
            <a:ext cx="1295280" cy="1295640"/>
          </a:xfrm>
          <a:custGeom>
            <a:avLst/>
            <a:gdLst/>
            <a:ahLst/>
            <a:rect l="l" t="t" r="r" b="b"/>
            <a:pathLst>
              <a:path w="953" h="862">
                <a:moveTo>
                  <a:pt x="0" y="862"/>
                </a:moveTo>
                <a:lnTo>
                  <a:pt x="0" y="0"/>
                </a:lnTo>
                <a:lnTo>
                  <a:pt x="953" y="0"/>
                </a:lnTo>
                <a:lnTo>
                  <a:pt x="953" y="86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692760" y="1700280"/>
            <a:ext cx="1297080" cy="863640"/>
          </a:xfrm>
          <a:custGeom>
            <a:avLst/>
            <a:gdLst/>
            <a:ahLst/>
            <a:rect l="l" t="t" r="r" b="b"/>
            <a:pathLst>
              <a:path w="817" h="544">
                <a:moveTo>
                  <a:pt x="0" y="0"/>
                </a:moveTo>
                <a:lnTo>
                  <a:pt x="817" y="0"/>
                </a:lnTo>
                <a:lnTo>
                  <a:pt x="817" y="5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83360" y="2563920"/>
            <a:ext cx="215640" cy="73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283360" y="25639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578640" y="2563920"/>
            <a:ext cx="216000" cy="73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578640" y="25639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875720" y="2563920"/>
            <a:ext cx="215640" cy="73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875720" y="25639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5400000">
            <a:off x="8224200" y="1657080"/>
            <a:ext cx="216000" cy="730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302680" y="15858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037360" y="1658880"/>
            <a:ext cx="216000" cy="71640"/>
          </a:xfrm>
          <a:custGeom>
            <a:avLst/>
            <a:gdLst/>
            <a:ahLst/>
            <a:rect l="l" t="t" r="r" b="b"/>
            <a:pathLst>
              <a:path w="318" h="136">
                <a:moveTo>
                  <a:pt x="0" y="90"/>
                </a:moveTo>
                <a:lnTo>
                  <a:pt x="45" y="0"/>
                </a:lnTo>
                <a:lnTo>
                  <a:pt x="91" y="136"/>
                </a:lnTo>
                <a:lnTo>
                  <a:pt x="136" y="0"/>
                </a:lnTo>
                <a:lnTo>
                  <a:pt x="182" y="136"/>
                </a:lnTo>
                <a:lnTo>
                  <a:pt x="227" y="0"/>
                </a:lnTo>
                <a:lnTo>
                  <a:pt x="272" y="136"/>
                </a:lnTo>
                <a:lnTo>
                  <a:pt x="318" y="4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002280" y="1217520"/>
            <a:ext cx="90720" cy="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947000" y="1647720"/>
            <a:ext cx="90360" cy="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250120" y="1644480"/>
            <a:ext cx="90720" cy="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181480" y="12700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181480" y="127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181480" y="1486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181480" y="170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181480" y="191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181480" y="213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181480" y="234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18148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349960" y="251316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342200" y="133200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129280" y="917640"/>
            <a:ext cx="3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178760" y="1047600"/>
            <a:ext cx="3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970760" y="1330200"/>
            <a:ext cx="43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642000" y="121608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5400000">
            <a:off x="6200640" y="1666800"/>
            <a:ext cx="215640" cy="73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353280" y="159552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353280" y="1700280"/>
            <a:ext cx="287280" cy="0"/>
          </a:xfrm>
          <a:prstGeom prst="line">
            <a:avLst/>
          </a:prstGeom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310440" y="165420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588000" y="1657440"/>
            <a:ext cx="9072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3612600">
            <a:off x="6750360" y="1967760"/>
            <a:ext cx="179280" cy="730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699240" y="1704960"/>
            <a:ext cx="216000" cy="360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409080" y="1144440"/>
            <a:ext cx="215280" cy="22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13668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136687"/>
              </a:path>
            </a:pathLst>
          </a:custGeom>
          <a:noFill/>
          <a:ln w="19080">
            <a:solidFill>
              <a:srgbClr val="99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 rot="5184600">
            <a:off x="6594840" y="1323000"/>
            <a:ext cx="215280" cy="21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13668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136687"/>
              </a:path>
            </a:pathLst>
          </a:custGeom>
          <a:noFill/>
          <a:ln w="19080">
            <a:solidFill>
              <a:srgbClr val="99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251400" y="1263600"/>
            <a:ext cx="4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908760" y="1832040"/>
            <a:ext cx="4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877080" y="1523880"/>
            <a:ext cx="0" cy="216000"/>
          </a:xfrm>
          <a:prstGeom prst="line">
            <a:avLst/>
          </a:prstGeom>
          <a:ln w="64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702480" y="1571760"/>
            <a:ext cx="179280" cy="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718320" y="1719360"/>
            <a:ext cx="360360" cy="144360"/>
          </a:xfrm>
          <a:prstGeom prst="line">
            <a:avLst/>
          </a:prstGeom>
          <a:ln w="64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891480" y="1847880"/>
            <a:ext cx="142560" cy="166680"/>
          </a:xfrm>
          <a:custGeom>
            <a:avLst/>
            <a:gdLst/>
            <a:ahLst/>
            <a:rect l="l" t="t" r="r" b="b"/>
            <a:pathLst>
              <a:path w="90" h="105">
                <a:moveTo>
                  <a:pt x="0" y="105"/>
                </a:moveTo>
                <a:cubicBezTo>
                  <a:pt x="9" y="97"/>
                  <a:pt x="39" y="77"/>
                  <a:pt x="54" y="60"/>
                </a:cubicBezTo>
                <a:cubicBezTo>
                  <a:pt x="69" y="43"/>
                  <a:pt x="83" y="12"/>
                  <a:pt x="90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827760" y="1357200"/>
            <a:ext cx="4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668920" y="1835280"/>
            <a:ext cx="755640" cy="769680"/>
          </a:xfrm>
          <a:prstGeom prst="rect">
            <a:avLst/>
          </a:prstGeom>
          <a:solidFill>
            <a:srgbClr val="c8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506920" y="736560"/>
            <a:ext cx="10810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Статиче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определим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773760" y="2185920"/>
            <a:ext cx="11527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Кинематиче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определим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48360" y="765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 Black"/>
              </a:rPr>
              <a:t>ОС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048280" y="2708280"/>
            <a:ext cx="3809880" cy="2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Канонические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уравнения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 c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мешанного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метода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6520" y="2952720"/>
            <a:ext cx="86328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114880" y="3024360"/>
            <a:ext cx="142920" cy="684000"/>
          </a:xfrm>
          <a:custGeom>
            <a:avLst/>
            <a:gdLst>
              <a:gd name="textAreaLeft" fmla="*/ 91440 w 142920"/>
              <a:gd name="textAreaRight" fmla="*/ 143280 w 142920"/>
              <a:gd name="textAreaTop" fmla="*/ 17640 h 684000"/>
              <a:gd name="textAreaBottom" fmla="*/ 666360 h 68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6110280" y="2908440"/>
                <a:ext cx="267336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  <m:r>
                                  <m:t xml:space="preserve"> 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 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8" name=""/>
          <p:cNvSpPr/>
          <p:nvPr/>
        </p:nvSpPr>
        <p:spPr>
          <a:xfrm rot="5400000">
            <a:off x="5646960" y="3288240"/>
            <a:ext cx="652320" cy="127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09560" y="3300480"/>
            <a:ext cx="863640" cy="863640"/>
          </a:xfrm>
          <a:custGeom>
            <a:avLst/>
            <a:gdLst/>
            <a:ahLst/>
            <a:rect l="l" t="t" r="r" b="b"/>
            <a:pathLst>
              <a:path w="590" h="499">
                <a:moveTo>
                  <a:pt x="0" y="499"/>
                </a:moveTo>
                <a:lnTo>
                  <a:pt x="0" y="0"/>
                </a:lnTo>
                <a:lnTo>
                  <a:pt x="590" y="0"/>
                </a:lnTo>
                <a:lnTo>
                  <a:pt x="590" y="49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573200" y="3587760"/>
            <a:ext cx="863640" cy="576360"/>
          </a:xfrm>
          <a:custGeom>
            <a:avLst/>
            <a:gdLst/>
            <a:ahLst/>
            <a:rect l="l" t="t" r="r" b="b"/>
            <a:pathLst>
              <a:path w="544" h="363">
                <a:moveTo>
                  <a:pt x="0" y="363"/>
                </a:moveTo>
                <a:lnTo>
                  <a:pt x="0" y="0"/>
                </a:lnTo>
                <a:lnTo>
                  <a:pt x="544" y="0"/>
                </a:lnTo>
                <a:lnTo>
                  <a:pt x="544" y="36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03360" y="4145040"/>
            <a:ext cx="215640" cy="730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04800" y="41432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467000" y="4167360"/>
            <a:ext cx="215640" cy="727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467000" y="416556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330280" y="4165560"/>
            <a:ext cx="216000" cy="730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330280" y="41655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71400" y="4092480"/>
            <a:ext cx="79560" cy="7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096920" y="3262320"/>
            <a:ext cx="79560" cy="79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rot="5400000">
            <a:off x="2608200" y="3544920"/>
            <a:ext cx="216000" cy="7272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685960" y="3473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459160" y="3546360"/>
            <a:ext cx="215640" cy="71640"/>
          </a:xfrm>
          <a:custGeom>
            <a:avLst/>
            <a:gdLst/>
            <a:ahLst/>
            <a:rect l="l" t="t" r="r" b="b"/>
            <a:pathLst>
              <a:path w="318" h="136">
                <a:moveTo>
                  <a:pt x="0" y="90"/>
                </a:moveTo>
                <a:lnTo>
                  <a:pt x="45" y="0"/>
                </a:lnTo>
                <a:lnTo>
                  <a:pt x="91" y="136"/>
                </a:lnTo>
                <a:lnTo>
                  <a:pt x="136" y="0"/>
                </a:lnTo>
                <a:lnTo>
                  <a:pt x="182" y="136"/>
                </a:lnTo>
                <a:lnTo>
                  <a:pt x="227" y="0"/>
                </a:lnTo>
                <a:lnTo>
                  <a:pt x="272" y="136"/>
                </a:lnTo>
                <a:lnTo>
                  <a:pt x="318" y="4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403360" y="3544920"/>
            <a:ext cx="79560" cy="79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652840" y="354492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5400000">
            <a:off x="1159920" y="3554280"/>
            <a:ext cx="216000" cy="730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312920" y="34830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312920" y="3592440"/>
            <a:ext cx="216000" cy="0"/>
          </a:xfrm>
          <a:prstGeom prst="line">
            <a:avLst/>
          </a:prstGeom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270080" y="3551400"/>
            <a:ext cx="79200" cy="79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476360" y="3549600"/>
            <a:ext cx="79560" cy="7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3612600">
            <a:off x="1628280" y="3799440"/>
            <a:ext cx="144360" cy="5400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582560" y="3589200"/>
            <a:ext cx="179640" cy="28764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8120" y="4448160"/>
            <a:ext cx="863640" cy="863640"/>
          </a:xfrm>
          <a:custGeom>
            <a:avLst/>
            <a:gdLst/>
            <a:ahLst/>
            <a:rect l="l" t="t" r="r" b="b"/>
            <a:pathLst>
              <a:path w="590" h="499">
                <a:moveTo>
                  <a:pt x="0" y="499"/>
                </a:moveTo>
                <a:lnTo>
                  <a:pt x="0" y="0"/>
                </a:lnTo>
                <a:lnTo>
                  <a:pt x="590" y="0"/>
                </a:lnTo>
                <a:lnTo>
                  <a:pt x="590" y="49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571760" y="4735440"/>
            <a:ext cx="863640" cy="576360"/>
          </a:xfrm>
          <a:custGeom>
            <a:avLst/>
            <a:gdLst/>
            <a:ahLst/>
            <a:rect l="l" t="t" r="r" b="b"/>
            <a:pathLst>
              <a:path w="544" h="363">
                <a:moveTo>
                  <a:pt x="0" y="363"/>
                </a:moveTo>
                <a:lnTo>
                  <a:pt x="0" y="0"/>
                </a:lnTo>
                <a:lnTo>
                  <a:pt x="544" y="0"/>
                </a:lnTo>
                <a:lnTo>
                  <a:pt x="544" y="36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01560" y="5292720"/>
            <a:ext cx="216000" cy="730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03360" y="529128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65200" y="5300640"/>
            <a:ext cx="216000" cy="730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65200" y="53132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328840" y="5300640"/>
            <a:ext cx="216000" cy="730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328840" y="53132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69960" y="5240160"/>
            <a:ext cx="79200" cy="7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095480" y="4410000"/>
            <a:ext cx="79200" cy="7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528920" y="4410000"/>
            <a:ext cx="79200" cy="7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5400000">
            <a:off x="2606400" y="4692600"/>
            <a:ext cx="215640" cy="730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684520" y="462132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457360" y="4694400"/>
            <a:ext cx="216000" cy="71280"/>
          </a:xfrm>
          <a:custGeom>
            <a:avLst/>
            <a:gdLst/>
            <a:ahLst/>
            <a:rect l="l" t="t" r="r" b="b"/>
            <a:pathLst>
              <a:path w="318" h="136">
                <a:moveTo>
                  <a:pt x="0" y="90"/>
                </a:moveTo>
                <a:lnTo>
                  <a:pt x="45" y="0"/>
                </a:lnTo>
                <a:lnTo>
                  <a:pt x="91" y="136"/>
                </a:lnTo>
                <a:lnTo>
                  <a:pt x="136" y="0"/>
                </a:lnTo>
                <a:lnTo>
                  <a:pt x="182" y="136"/>
                </a:lnTo>
                <a:lnTo>
                  <a:pt x="227" y="0"/>
                </a:lnTo>
                <a:lnTo>
                  <a:pt x="272" y="136"/>
                </a:lnTo>
                <a:lnTo>
                  <a:pt x="318" y="4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401920" y="4692600"/>
            <a:ext cx="79200" cy="7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651040" y="469260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rot="5400000">
            <a:off x="1158840" y="4702320"/>
            <a:ext cx="216000" cy="7272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311120" y="46306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311120" y="4740120"/>
            <a:ext cx="216000" cy="0"/>
          </a:xfrm>
          <a:prstGeom prst="line">
            <a:avLst/>
          </a:prstGeom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268280" y="4699080"/>
            <a:ext cx="79560" cy="79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474920" y="4697280"/>
            <a:ext cx="79200" cy="7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98400" y="5607000"/>
            <a:ext cx="863640" cy="863640"/>
          </a:xfrm>
          <a:custGeom>
            <a:avLst/>
            <a:gdLst/>
            <a:ahLst/>
            <a:rect l="l" t="t" r="r" b="b"/>
            <a:pathLst>
              <a:path w="590" h="499">
                <a:moveTo>
                  <a:pt x="0" y="499"/>
                </a:moveTo>
                <a:lnTo>
                  <a:pt x="0" y="0"/>
                </a:lnTo>
                <a:lnTo>
                  <a:pt x="590" y="0"/>
                </a:lnTo>
                <a:lnTo>
                  <a:pt x="590" y="49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562040" y="5894280"/>
            <a:ext cx="863640" cy="576360"/>
          </a:xfrm>
          <a:custGeom>
            <a:avLst/>
            <a:gdLst/>
            <a:ahLst/>
            <a:rect l="l" t="t" r="r" b="b"/>
            <a:pathLst>
              <a:path w="544" h="363">
                <a:moveTo>
                  <a:pt x="0" y="363"/>
                </a:moveTo>
                <a:lnTo>
                  <a:pt x="0" y="0"/>
                </a:lnTo>
                <a:lnTo>
                  <a:pt x="544" y="0"/>
                </a:lnTo>
                <a:lnTo>
                  <a:pt x="544" y="36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92200" y="6451560"/>
            <a:ext cx="216000" cy="730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93640" y="64501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455840" y="6473880"/>
            <a:ext cx="215640" cy="7308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455840" y="647208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319480" y="6472080"/>
            <a:ext cx="215640" cy="7308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319480" y="647208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60240" y="6399360"/>
            <a:ext cx="79560" cy="79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085760" y="5568840"/>
            <a:ext cx="79560" cy="7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rot="5400000">
            <a:off x="2596680" y="5851440"/>
            <a:ext cx="216000" cy="7308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674800" y="57801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448000" y="5853240"/>
            <a:ext cx="216000" cy="71280"/>
          </a:xfrm>
          <a:custGeom>
            <a:avLst/>
            <a:gdLst/>
            <a:ahLst/>
            <a:rect l="l" t="t" r="r" b="b"/>
            <a:pathLst>
              <a:path w="318" h="136">
                <a:moveTo>
                  <a:pt x="0" y="90"/>
                </a:moveTo>
                <a:lnTo>
                  <a:pt x="45" y="0"/>
                </a:lnTo>
                <a:lnTo>
                  <a:pt x="91" y="136"/>
                </a:lnTo>
                <a:lnTo>
                  <a:pt x="136" y="0"/>
                </a:lnTo>
                <a:lnTo>
                  <a:pt x="182" y="136"/>
                </a:lnTo>
                <a:lnTo>
                  <a:pt x="227" y="0"/>
                </a:lnTo>
                <a:lnTo>
                  <a:pt x="272" y="136"/>
                </a:lnTo>
                <a:lnTo>
                  <a:pt x="318" y="4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392200" y="5851440"/>
            <a:ext cx="79560" cy="7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641680" y="585144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rot="5400000">
            <a:off x="1148760" y="5860800"/>
            <a:ext cx="216000" cy="7308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301760" y="578952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301760" y="5899320"/>
            <a:ext cx="216000" cy="0"/>
          </a:xfrm>
          <a:prstGeom prst="line">
            <a:avLst/>
          </a:prstGeom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258920" y="5857920"/>
            <a:ext cx="79200" cy="79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465200" y="5856120"/>
            <a:ext cx="79560" cy="7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89040" y="3292560"/>
            <a:ext cx="974520" cy="793800"/>
          </a:xfrm>
          <a:custGeom>
            <a:avLst/>
            <a:gdLst/>
            <a:ahLst/>
            <a:rect l="l" t="t" r="r" b="b"/>
            <a:pathLst>
              <a:path w="614" h="500">
                <a:moveTo>
                  <a:pt x="8" y="500"/>
                </a:moveTo>
                <a:cubicBezTo>
                  <a:pt x="7" y="476"/>
                  <a:pt x="0" y="409"/>
                  <a:pt x="2" y="356"/>
                </a:cubicBezTo>
                <a:cubicBezTo>
                  <a:pt x="4" y="303"/>
                  <a:pt x="13" y="226"/>
                  <a:pt x="20" y="179"/>
                </a:cubicBezTo>
                <a:cubicBezTo>
                  <a:pt x="27" y="132"/>
                  <a:pt x="39" y="103"/>
                  <a:pt x="47" y="74"/>
                </a:cubicBezTo>
                <a:cubicBezTo>
                  <a:pt x="55" y="45"/>
                  <a:pt x="56" y="44"/>
                  <a:pt x="68" y="5"/>
                </a:cubicBezTo>
                <a:cubicBezTo>
                  <a:pt x="101" y="14"/>
                  <a:pt x="119" y="20"/>
                  <a:pt x="140" y="26"/>
                </a:cubicBezTo>
                <a:cubicBezTo>
                  <a:pt x="161" y="33"/>
                  <a:pt x="168" y="37"/>
                  <a:pt x="197" y="50"/>
                </a:cubicBezTo>
                <a:cubicBezTo>
                  <a:pt x="226" y="63"/>
                  <a:pt x="266" y="80"/>
                  <a:pt x="314" y="107"/>
                </a:cubicBezTo>
                <a:cubicBezTo>
                  <a:pt x="368" y="101"/>
                  <a:pt x="355" y="102"/>
                  <a:pt x="383" y="95"/>
                </a:cubicBezTo>
                <a:cubicBezTo>
                  <a:pt x="411" y="89"/>
                  <a:pt x="455" y="78"/>
                  <a:pt x="485" y="68"/>
                </a:cubicBezTo>
                <a:cubicBezTo>
                  <a:pt x="515" y="58"/>
                  <a:pt x="545" y="46"/>
                  <a:pt x="566" y="35"/>
                </a:cubicBezTo>
                <a:cubicBezTo>
                  <a:pt x="587" y="24"/>
                  <a:pt x="611" y="0"/>
                  <a:pt x="614" y="5"/>
                </a:cubicBezTo>
                <a:cubicBezTo>
                  <a:pt x="584" y="56"/>
                  <a:pt x="593" y="46"/>
                  <a:pt x="584" y="68"/>
                </a:cubicBezTo>
                <a:cubicBezTo>
                  <a:pt x="575" y="90"/>
                  <a:pt x="567" y="118"/>
                  <a:pt x="563" y="137"/>
                </a:cubicBezTo>
                <a:cubicBezTo>
                  <a:pt x="559" y="156"/>
                  <a:pt x="558" y="175"/>
                  <a:pt x="557" y="185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530360" y="3262320"/>
            <a:ext cx="79200" cy="79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298880" y="3176640"/>
            <a:ext cx="215280" cy="22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13668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136687"/>
              </a:path>
            </a:pathLst>
          </a:custGeom>
          <a:noFill/>
          <a:ln w="19080">
            <a:solidFill>
              <a:srgbClr val="99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 rot="5184600">
            <a:off x="1484640" y="3354840"/>
            <a:ext cx="215280" cy="21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13668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136687"/>
              </a:path>
            </a:pathLst>
          </a:custGeom>
          <a:noFill/>
          <a:ln w="19080">
            <a:solidFill>
              <a:srgbClr val="99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673280" y="3295800"/>
            <a:ext cx="287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1649520" y="3160440"/>
            <a:ext cx="269640" cy="14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1660680" y="307188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1658880" y="3103200"/>
            <a:ext cx="125640" cy="198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068480" y="2925720"/>
            <a:ext cx="647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633680" y="3290760"/>
            <a:ext cx="666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901880" y="3171960"/>
            <a:ext cx="33120" cy="123840"/>
          </a:xfrm>
          <a:custGeom>
            <a:avLst/>
            <a:gdLst/>
            <a:ahLst/>
            <a:rect l="l" t="t" r="r" b="b"/>
            <a:pathLst>
              <a:path w="21" h="78">
                <a:moveTo>
                  <a:pt x="0" y="0"/>
                </a:moveTo>
                <a:cubicBezTo>
                  <a:pt x="3" y="6"/>
                  <a:pt x="15" y="26"/>
                  <a:pt x="18" y="39"/>
                </a:cubicBezTo>
                <a:cubicBezTo>
                  <a:pt x="21" y="52"/>
                  <a:pt x="21" y="70"/>
                  <a:pt x="21" y="78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658880" y="3089160"/>
            <a:ext cx="114480" cy="32040"/>
          </a:xfrm>
          <a:custGeom>
            <a:avLst/>
            <a:gdLst/>
            <a:ahLst/>
            <a:rect l="l" t="t" r="r" b="b"/>
            <a:pathLst>
              <a:path w="72" h="20">
                <a:moveTo>
                  <a:pt x="0" y="0"/>
                </a:moveTo>
                <a:cubicBezTo>
                  <a:pt x="7" y="0"/>
                  <a:pt x="29" y="2"/>
                  <a:pt x="41" y="5"/>
                </a:cubicBezTo>
                <a:cubicBezTo>
                  <a:pt x="53" y="8"/>
                  <a:pt x="66" y="17"/>
                  <a:pt x="72" y="2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601640" y="2871720"/>
            <a:ext cx="40968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882800" y="3100320"/>
            <a:ext cx="40968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rot="2768400">
            <a:off x="1647720" y="3753360"/>
            <a:ext cx="214560" cy="22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279828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2798284"/>
              </a:path>
            </a:pathLst>
          </a:custGeom>
          <a:noFill/>
          <a:ln w="19080">
            <a:solidFill>
              <a:srgbClr val="99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3612600">
            <a:off x="1626480" y="4950360"/>
            <a:ext cx="144360" cy="54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577880" y="4740120"/>
            <a:ext cx="179640" cy="28764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rot="4122000">
            <a:off x="1637280" y="4899960"/>
            <a:ext cx="216000" cy="22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275452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2754529"/>
              </a:path>
            </a:pathLst>
          </a:custGeom>
          <a:noFill/>
          <a:ln w="19080">
            <a:solidFill>
              <a:srgbClr val="99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rot="3612600">
            <a:off x="1620360" y="6111000"/>
            <a:ext cx="144360" cy="5400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571760" y="5900760"/>
            <a:ext cx="179280" cy="28728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rot="2768400">
            <a:off x="1636560" y="6064560"/>
            <a:ext cx="214560" cy="22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279828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2798284"/>
              </a:path>
            </a:pathLst>
          </a:custGeom>
          <a:noFill/>
          <a:ln w="19080">
            <a:solidFill>
              <a:srgbClr val="99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049400" y="3597120"/>
            <a:ext cx="216000" cy="0"/>
          </a:xfrm>
          <a:prstGeom prst="line">
            <a:avLst/>
          </a:prstGeom>
          <a:ln w="28440">
            <a:solidFill>
              <a:srgbClr val="99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044720" y="4743360"/>
            <a:ext cx="215640" cy="0"/>
          </a:xfrm>
          <a:prstGeom prst="line">
            <a:avLst/>
          </a:prstGeom>
          <a:ln w="28440">
            <a:solidFill>
              <a:srgbClr val="99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035000" y="5900760"/>
            <a:ext cx="216000" cy="0"/>
          </a:xfrm>
          <a:prstGeom prst="line">
            <a:avLst/>
          </a:prstGeom>
          <a:ln w="28440">
            <a:solidFill>
              <a:srgbClr val="99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93640" y="4368960"/>
            <a:ext cx="974880" cy="863280"/>
          </a:xfrm>
          <a:custGeom>
            <a:avLst/>
            <a:gdLst/>
            <a:ahLst/>
            <a:rect l="l" t="t" r="r" b="b"/>
            <a:pathLst>
              <a:path w="614" h="544">
                <a:moveTo>
                  <a:pt x="65" y="544"/>
                </a:moveTo>
                <a:lnTo>
                  <a:pt x="0" y="45"/>
                </a:lnTo>
                <a:lnTo>
                  <a:pt x="272" y="0"/>
                </a:lnTo>
                <a:lnTo>
                  <a:pt x="544" y="49"/>
                </a:lnTo>
                <a:lnTo>
                  <a:pt x="614" y="223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573200" y="4638600"/>
            <a:ext cx="824040" cy="669960"/>
          </a:xfrm>
          <a:custGeom>
            <a:avLst/>
            <a:gdLst/>
            <a:ahLst/>
            <a:rect l="l" t="t" r="r" b="b"/>
            <a:pathLst>
              <a:path w="519" h="422">
                <a:moveTo>
                  <a:pt x="0" y="422"/>
                </a:moveTo>
                <a:cubicBezTo>
                  <a:pt x="1" y="408"/>
                  <a:pt x="3" y="365"/>
                  <a:pt x="9" y="332"/>
                </a:cubicBezTo>
                <a:cubicBezTo>
                  <a:pt x="15" y="299"/>
                  <a:pt x="34" y="256"/>
                  <a:pt x="36" y="221"/>
                </a:cubicBezTo>
                <a:cubicBezTo>
                  <a:pt x="38" y="186"/>
                  <a:pt x="27" y="145"/>
                  <a:pt x="21" y="119"/>
                </a:cubicBezTo>
                <a:cubicBezTo>
                  <a:pt x="15" y="93"/>
                  <a:pt x="9" y="92"/>
                  <a:pt x="0" y="62"/>
                </a:cubicBezTo>
                <a:cubicBezTo>
                  <a:pt x="54" y="41"/>
                  <a:pt x="59" y="37"/>
                  <a:pt x="93" y="26"/>
                </a:cubicBezTo>
                <a:cubicBezTo>
                  <a:pt x="128" y="16"/>
                  <a:pt x="170" y="4"/>
                  <a:pt x="213" y="2"/>
                </a:cubicBezTo>
                <a:cubicBezTo>
                  <a:pt x="256" y="0"/>
                  <a:pt x="303" y="3"/>
                  <a:pt x="354" y="11"/>
                </a:cubicBezTo>
                <a:cubicBezTo>
                  <a:pt x="405" y="19"/>
                  <a:pt x="485" y="42"/>
                  <a:pt x="519" y="5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587600" y="4748040"/>
            <a:ext cx="230040" cy="125640"/>
          </a:xfrm>
          <a:prstGeom prst="line">
            <a:avLst/>
          </a:prstGeom>
          <a:ln w="64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706400" y="4862520"/>
            <a:ext cx="8604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0"/>
                </a:moveTo>
                <a:cubicBezTo>
                  <a:pt x="50" y="6"/>
                  <a:pt x="37" y="27"/>
                  <a:pt x="28" y="36"/>
                </a:cubicBezTo>
                <a:cubicBezTo>
                  <a:pt x="19" y="45"/>
                  <a:pt x="6" y="50"/>
                  <a:pt x="0" y="54"/>
                </a:cubicBezTo>
              </a:path>
            </a:pathLst>
          </a:custGeom>
          <a:noFill/>
          <a:ln w="6480">
            <a:solidFill>
              <a:srgbClr val="990033"/>
            </a:solidFill>
            <a:round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851120" y="4775040"/>
            <a:ext cx="623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754280" y="4916520"/>
            <a:ext cx="169920" cy="22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184480" y="3005280"/>
            <a:ext cx="777960" cy="45396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213080" y="3587760"/>
            <a:ext cx="863640" cy="576360"/>
          </a:xfrm>
          <a:custGeom>
            <a:avLst/>
            <a:gdLst/>
            <a:ahLst/>
            <a:rect l="l" t="t" r="r" b="b"/>
            <a:pathLst>
              <a:path w="544" h="363">
                <a:moveTo>
                  <a:pt x="0" y="363"/>
                </a:moveTo>
                <a:lnTo>
                  <a:pt x="0" y="0"/>
                </a:lnTo>
                <a:lnTo>
                  <a:pt x="544" y="0"/>
                </a:lnTo>
                <a:lnTo>
                  <a:pt x="544" y="36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1800360" y="3841920"/>
                <a:ext cx="27936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793800" y="3390840"/>
                <a:ext cx="2840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1763640" y="4994280"/>
                <a:ext cx="3031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770040" y="4537080"/>
                <a:ext cx="2998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781200" y="5713560"/>
                <a:ext cx="2826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89" name=""/>
          <p:cNvSpPr/>
          <p:nvPr/>
        </p:nvSpPr>
        <p:spPr>
          <a:xfrm>
            <a:off x="714240" y="5603760"/>
            <a:ext cx="976320" cy="795600"/>
          </a:xfrm>
          <a:custGeom>
            <a:avLst/>
            <a:gdLst/>
            <a:ahLst/>
            <a:rect l="l" t="t" r="r" b="b"/>
            <a:pathLst>
              <a:path w="615" h="501">
                <a:moveTo>
                  <a:pt x="0" y="501"/>
                </a:moveTo>
                <a:lnTo>
                  <a:pt x="81" y="3"/>
                </a:lnTo>
                <a:lnTo>
                  <a:pt x="336" y="63"/>
                </a:lnTo>
                <a:lnTo>
                  <a:pt x="615" y="0"/>
                </a:lnTo>
                <a:lnTo>
                  <a:pt x="615" y="183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519200" y="5568840"/>
            <a:ext cx="79560" cy="7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711440" y="612288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65280" y="5899320"/>
            <a:ext cx="125280" cy="571320"/>
          </a:xfrm>
          <a:custGeom>
            <a:avLst/>
            <a:gdLst/>
            <a:ahLst/>
            <a:rect l="l" t="t" r="r" b="b"/>
            <a:pathLst>
              <a:path w="79" h="360">
                <a:moveTo>
                  <a:pt x="1" y="360"/>
                </a:moveTo>
                <a:cubicBezTo>
                  <a:pt x="2" y="350"/>
                  <a:pt x="0" y="323"/>
                  <a:pt x="4" y="300"/>
                </a:cubicBezTo>
                <a:cubicBezTo>
                  <a:pt x="8" y="277"/>
                  <a:pt x="16" y="248"/>
                  <a:pt x="25" y="219"/>
                </a:cubicBezTo>
                <a:cubicBezTo>
                  <a:pt x="34" y="190"/>
                  <a:pt x="53" y="154"/>
                  <a:pt x="61" y="126"/>
                </a:cubicBezTo>
                <a:cubicBezTo>
                  <a:pt x="69" y="98"/>
                  <a:pt x="73" y="72"/>
                  <a:pt x="76" y="51"/>
                </a:cubicBezTo>
                <a:cubicBezTo>
                  <a:pt x="79" y="30"/>
                  <a:pt x="78" y="11"/>
                  <a:pt x="79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427120" y="5899320"/>
            <a:ext cx="123840" cy="571320"/>
          </a:xfrm>
          <a:custGeom>
            <a:avLst/>
            <a:gdLst/>
            <a:ahLst/>
            <a:rect l="l" t="t" r="r" b="b"/>
            <a:pathLst>
              <a:path w="78" h="360">
                <a:moveTo>
                  <a:pt x="0" y="360"/>
                </a:moveTo>
                <a:cubicBezTo>
                  <a:pt x="1" y="350"/>
                  <a:pt x="1" y="322"/>
                  <a:pt x="3" y="300"/>
                </a:cubicBezTo>
                <a:cubicBezTo>
                  <a:pt x="5" y="278"/>
                  <a:pt x="8" y="257"/>
                  <a:pt x="13" y="228"/>
                </a:cubicBezTo>
                <a:cubicBezTo>
                  <a:pt x="18" y="199"/>
                  <a:pt x="27" y="156"/>
                  <a:pt x="34" y="126"/>
                </a:cubicBezTo>
                <a:cubicBezTo>
                  <a:pt x="41" y="96"/>
                  <a:pt x="51" y="66"/>
                  <a:pt x="58" y="45"/>
                </a:cubicBezTo>
                <a:cubicBezTo>
                  <a:pt x="65" y="24"/>
                  <a:pt x="74" y="9"/>
                  <a:pt x="78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2719440" y="58910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557360" y="5784840"/>
            <a:ext cx="144360" cy="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643040" y="5610240"/>
            <a:ext cx="623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646360" y="5510160"/>
            <a:ext cx="5954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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349800" y="4441680"/>
            <a:ext cx="863280" cy="863640"/>
          </a:xfrm>
          <a:custGeom>
            <a:avLst/>
            <a:gdLst/>
            <a:ahLst/>
            <a:rect l="l" t="t" r="r" b="b"/>
            <a:pathLst>
              <a:path w="590" h="499">
                <a:moveTo>
                  <a:pt x="0" y="499"/>
                </a:moveTo>
                <a:lnTo>
                  <a:pt x="0" y="0"/>
                </a:lnTo>
                <a:lnTo>
                  <a:pt x="590" y="0"/>
                </a:lnTo>
                <a:lnTo>
                  <a:pt x="590" y="49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348000" y="5592600"/>
            <a:ext cx="863640" cy="863640"/>
          </a:xfrm>
          <a:custGeom>
            <a:avLst/>
            <a:gdLst/>
            <a:ahLst/>
            <a:rect l="l" t="t" r="r" b="b"/>
            <a:pathLst>
              <a:path w="590" h="499">
                <a:moveTo>
                  <a:pt x="0" y="499"/>
                </a:moveTo>
                <a:lnTo>
                  <a:pt x="0" y="0"/>
                </a:lnTo>
                <a:lnTo>
                  <a:pt x="590" y="0"/>
                </a:lnTo>
                <a:lnTo>
                  <a:pt x="590" y="49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995640" y="3300480"/>
            <a:ext cx="216000" cy="28728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136" y="181"/>
                </a:moveTo>
                <a:lnTo>
                  <a:pt x="0" y="181"/>
                </a:lnTo>
                <a:lnTo>
                  <a:pt x="45" y="0"/>
                </a:lnTo>
                <a:lnTo>
                  <a:pt x="136" y="0"/>
                </a:lnTo>
              </a:path>
            </a:pathLst>
          </a:custGeom>
          <a:blipFill rotWithShape="0">
            <a:blip r:embed="rId31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348000" y="3110040"/>
            <a:ext cx="863640" cy="368280"/>
          </a:xfrm>
          <a:custGeom>
            <a:avLst/>
            <a:gdLst/>
            <a:ahLst/>
            <a:rect l="l" t="t" r="r" b="b"/>
            <a:pathLst>
              <a:path w="544" h="232">
                <a:moveTo>
                  <a:pt x="543" y="123"/>
                </a:moveTo>
                <a:lnTo>
                  <a:pt x="544" y="232"/>
                </a:lnTo>
                <a:lnTo>
                  <a:pt x="0" y="0"/>
                </a:lnTo>
                <a:lnTo>
                  <a:pt x="0" y="120"/>
                </a:lnTo>
              </a:path>
            </a:pathLst>
          </a:custGeom>
          <a:blipFill rotWithShape="0">
            <a:blip r:embed="rId32">
              <a:alphaModFix amt="26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157560" y="3305160"/>
            <a:ext cx="190440" cy="863640"/>
          </a:xfrm>
          <a:custGeom>
            <a:avLst/>
            <a:gdLst/>
            <a:ahLst/>
            <a:rect l="l" t="t" r="r" b="b"/>
            <a:pathLst>
              <a:path w="120" h="544">
                <a:moveTo>
                  <a:pt x="120" y="0"/>
                </a:moveTo>
                <a:lnTo>
                  <a:pt x="0" y="0"/>
                </a:lnTo>
                <a:lnTo>
                  <a:pt x="120" y="544"/>
                </a:lnTo>
              </a:path>
            </a:pathLst>
          </a:custGeom>
          <a:blipFill rotWithShape="0">
            <a:blip r:embed="rId33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349800" y="3300480"/>
            <a:ext cx="863280" cy="863640"/>
          </a:xfrm>
          <a:custGeom>
            <a:avLst/>
            <a:gdLst/>
            <a:ahLst/>
            <a:rect l="l" t="t" r="r" b="b"/>
            <a:pathLst>
              <a:path w="590" h="499">
                <a:moveTo>
                  <a:pt x="0" y="499"/>
                </a:moveTo>
                <a:lnTo>
                  <a:pt x="0" y="0"/>
                </a:lnTo>
                <a:lnTo>
                  <a:pt x="590" y="0"/>
                </a:lnTo>
                <a:lnTo>
                  <a:pt x="590" y="49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086360" y="4727520"/>
            <a:ext cx="352440" cy="571680"/>
          </a:xfrm>
          <a:custGeom>
            <a:avLst/>
            <a:gdLst/>
            <a:ahLst/>
            <a:rect l="l" t="t" r="r" b="b"/>
            <a:pathLst>
              <a:path w="222" h="360">
                <a:moveTo>
                  <a:pt x="81" y="360"/>
                </a:moveTo>
                <a:lnTo>
                  <a:pt x="0" y="360"/>
                </a:lnTo>
                <a:lnTo>
                  <a:pt x="222" y="0"/>
                </a:lnTo>
                <a:lnTo>
                  <a:pt x="79" y="1"/>
                </a:lnTo>
              </a:path>
            </a:pathLst>
          </a:custGeom>
          <a:blipFill rotWithShape="0">
            <a:blip r:embed="rId34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211640" y="4513320"/>
            <a:ext cx="865080" cy="216000"/>
          </a:xfrm>
          <a:custGeom>
            <a:avLst/>
            <a:gdLst/>
            <a:ahLst/>
            <a:rect l="l" t="t" r="r" b="b"/>
            <a:pathLst>
              <a:path w="545" h="136">
                <a:moveTo>
                  <a:pt x="0" y="136"/>
                </a:moveTo>
                <a:lnTo>
                  <a:pt x="0" y="0"/>
                </a:lnTo>
                <a:lnTo>
                  <a:pt x="545" y="136"/>
                </a:lnTo>
              </a:path>
            </a:pathLst>
          </a:custGeom>
          <a:blipFill rotWithShape="0">
            <a:blip r:embed="rId35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213080" y="4729320"/>
            <a:ext cx="863640" cy="576000"/>
          </a:xfrm>
          <a:custGeom>
            <a:avLst/>
            <a:gdLst/>
            <a:ahLst/>
            <a:rect l="l" t="t" r="r" b="b"/>
            <a:pathLst>
              <a:path w="544" h="363">
                <a:moveTo>
                  <a:pt x="0" y="363"/>
                </a:moveTo>
                <a:lnTo>
                  <a:pt x="0" y="0"/>
                </a:lnTo>
                <a:lnTo>
                  <a:pt x="544" y="0"/>
                </a:lnTo>
                <a:lnTo>
                  <a:pt x="544" y="36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95640" y="5880240"/>
            <a:ext cx="438120" cy="571320"/>
          </a:xfrm>
          <a:custGeom>
            <a:avLst/>
            <a:gdLst/>
            <a:ahLst/>
            <a:rect l="l" t="t" r="r" b="b"/>
            <a:pathLst>
              <a:path w="276" h="360">
                <a:moveTo>
                  <a:pt x="135" y="360"/>
                </a:moveTo>
                <a:lnTo>
                  <a:pt x="0" y="360"/>
                </a:lnTo>
                <a:lnTo>
                  <a:pt x="276" y="0"/>
                </a:lnTo>
                <a:lnTo>
                  <a:pt x="133" y="1"/>
                </a:lnTo>
              </a:path>
            </a:pathLst>
          </a:custGeom>
          <a:blipFill rotWithShape="0">
            <a:blip r:embed="rId36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932360" y="5875200"/>
            <a:ext cx="141120" cy="569880"/>
          </a:xfrm>
          <a:custGeom>
            <a:avLst/>
            <a:gdLst/>
            <a:ahLst/>
            <a:rect l="l" t="t" r="r" b="b"/>
            <a:pathLst>
              <a:path w="135" h="359">
                <a:moveTo>
                  <a:pt x="135" y="359"/>
                </a:moveTo>
                <a:lnTo>
                  <a:pt x="0" y="359"/>
                </a:lnTo>
                <a:lnTo>
                  <a:pt x="133" y="0"/>
                </a:lnTo>
              </a:path>
            </a:pathLst>
          </a:custGeom>
          <a:blipFill rotWithShape="0">
            <a:blip r:embed="rId37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211640" y="5880240"/>
            <a:ext cx="863640" cy="576000"/>
          </a:xfrm>
          <a:custGeom>
            <a:avLst/>
            <a:gdLst/>
            <a:ahLst/>
            <a:rect l="l" t="t" r="r" b="b"/>
            <a:pathLst>
              <a:path w="544" h="363">
                <a:moveTo>
                  <a:pt x="0" y="363"/>
                </a:moveTo>
                <a:lnTo>
                  <a:pt x="0" y="0"/>
                </a:lnTo>
                <a:lnTo>
                  <a:pt x="544" y="0"/>
                </a:lnTo>
                <a:lnTo>
                  <a:pt x="544" y="36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885960" y="3762360"/>
            <a:ext cx="503280" cy="35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76240" y="3768840"/>
            <a:ext cx="59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890640" y="4913280"/>
            <a:ext cx="503280" cy="35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871560" y="4919760"/>
            <a:ext cx="59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95320" y="6067440"/>
            <a:ext cx="503280" cy="35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76240" y="6073920"/>
            <a:ext cx="59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rot="16200000">
            <a:off x="-1395360" y="4618080"/>
            <a:ext cx="360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Единичные состояния ОСС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559320" y="3736800"/>
            <a:ext cx="436320" cy="432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554280" y="3751200"/>
            <a:ext cx="517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808440" y="3587760"/>
            <a:ext cx="431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933720" y="3097080"/>
            <a:ext cx="2602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149720" y="3365640"/>
            <a:ext cx="2602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213000" y="2909880"/>
            <a:ext cx="2602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963880" y="3189240"/>
            <a:ext cx="2602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1457280" y="4444920"/>
            <a:ext cx="0" cy="144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460520" y="4451400"/>
            <a:ext cx="31680" cy="84240"/>
          </a:xfrm>
          <a:custGeom>
            <a:avLst/>
            <a:gdLst/>
            <a:ahLst/>
            <a:rect l="l" t="t" r="r" b="b"/>
            <a:pathLst>
              <a:path w="20" h="53">
                <a:moveTo>
                  <a:pt x="0" y="0"/>
                </a:moveTo>
                <a:lnTo>
                  <a:pt x="2" y="53"/>
                </a:lnTo>
                <a:lnTo>
                  <a:pt x="20" y="4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324080" y="4421160"/>
            <a:ext cx="126720" cy="31680"/>
          </a:xfrm>
          <a:custGeom>
            <a:avLst/>
            <a:gdLst/>
            <a:ahLst/>
            <a:rect l="l" t="t" r="r" b="b"/>
            <a:pathLst>
              <a:path w="80" h="20">
                <a:moveTo>
                  <a:pt x="80" y="14"/>
                </a:moveTo>
                <a:lnTo>
                  <a:pt x="0" y="0"/>
                </a:lnTo>
                <a:lnTo>
                  <a:pt x="2" y="20"/>
                </a:lnTo>
                <a:lnTo>
                  <a:pt x="80" y="1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231920" y="4452840"/>
            <a:ext cx="3776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204920" y="4173480"/>
            <a:ext cx="40968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1693800" y="4287960"/>
                <a:ext cx="103680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30" name=""/>
          <p:cNvSpPr/>
          <p:nvPr/>
        </p:nvSpPr>
        <p:spPr>
          <a:xfrm>
            <a:off x="1638360" y="4302000"/>
            <a:ext cx="1133280" cy="287640"/>
          </a:xfrm>
          <a:prstGeom prst="rect">
            <a:avLst/>
          </a:prstGeom>
          <a:noFill/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564000" y="4686480"/>
            <a:ext cx="436680" cy="43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559320" y="4700520"/>
            <a:ext cx="517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168800" y="428004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332240" y="4680000"/>
            <a:ext cx="69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530520" y="5124600"/>
            <a:ext cx="69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1402560" y="5489640"/>
            <a:ext cx="17640" cy="10800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0"/>
                </a:moveTo>
                <a:cubicBezTo>
                  <a:pt x="50" y="6"/>
                  <a:pt x="37" y="27"/>
                  <a:pt x="28" y="36"/>
                </a:cubicBezTo>
                <a:cubicBezTo>
                  <a:pt x="19" y="45"/>
                  <a:pt x="6" y="50"/>
                  <a:pt x="0" y="54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419120" y="5664240"/>
            <a:ext cx="34920" cy="96840"/>
          </a:xfrm>
          <a:custGeom>
            <a:avLst/>
            <a:gdLst/>
            <a:ahLst/>
            <a:rect l="l" t="t" r="r" b="b"/>
            <a:pathLst>
              <a:path w="22" h="61">
                <a:moveTo>
                  <a:pt x="0" y="0"/>
                </a:moveTo>
                <a:cubicBezTo>
                  <a:pt x="2" y="7"/>
                  <a:pt x="10" y="35"/>
                  <a:pt x="14" y="45"/>
                </a:cubicBezTo>
                <a:cubicBezTo>
                  <a:pt x="18" y="55"/>
                  <a:pt x="20" y="58"/>
                  <a:pt x="22" y="6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116000" y="5292720"/>
            <a:ext cx="40968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1787400" y="5391000"/>
                <a:ext cx="59868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0" name=""/>
          <p:cNvSpPr/>
          <p:nvPr/>
        </p:nvSpPr>
        <p:spPr>
          <a:xfrm>
            <a:off x="1744560" y="5424480"/>
            <a:ext cx="665280" cy="252360"/>
          </a:xfrm>
          <a:prstGeom prst="rect">
            <a:avLst/>
          </a:prstGeom>
          <a:noFill/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568680" y="5856120"/>
            <a:ext cx="436680" cy="432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564000" y="5870520"/>
            <a:ext cx="517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200480" y="5673600"/>
            <a:ext cx="7192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313160" y="6305400"/>
            <a:ext cx="83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5148360" y="3730680"/>
                <a:ext cx="18968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09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5156280" y="4302000"/>
                <a:ext cx="130644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4/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5183280" y="4562640"/>
                <a:ext cx="1157040" cy="30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/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5202360" y="4807080"/>
                <a:ext cx="93636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EI</m:t>
                    </m:r>
                    <m:f>
                      <m:fPr>
                        <m:type m:val="lin"/>
                      </m:fPr>
                      <m:num>
                        <m:r>
                          <m:t xml:space="preserve"> </m:t>
                        </m:r>
                      </m:num>
                      <m:den>
                        <m:r>
                          <m:t xml:space="preserve"> </m:t>
                        </m:r>
                      </m:den>
                    </m:f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5203800" y="5003640"/>
                <a:ext cx="128124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EI</m:t>
                    </m:r>
                    <m:f>
                      <m:fPr>
                        <m:type m:val="lin"/>
                      </m:fPr>
                      <m:num>
                        <m:r>
                          <m:t xml:space="preserve"> </m:t>
                        </m:r>
                      </m:num>
                      <m:den>
                        <m:r>
                          <m:t xml:space="preserve"> </m:t>
                        </m:r>
                      </m:den>
                    </m:f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5200560" y="5234040"/>
                <a:ext cx="113508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rPr>
                        <m:lit/>
                        <m:nor/>
                      </m:rPr>
                      <m:t xml:space="preserve">EI</m:t>
                    </m:r>
                    <m:f>
                      <m:fPr>
                        <m:type m:val="lin"/>
                      </m:fPr>
                      <m:num>
                        <m:r>
                          <m:t xml:space="preserve"> </m:t>
                        </m:r>
                      </m:num>
                      <m:den>
                        <m:r>
                          <m:t xml:space="preserve">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1" name=""/>
          <p:cNvSpPr/>
          <p:nvPr/>
        </p:nvSpPr>
        <p:spPr>
          <a:xfrm>
            <a:off x="7507440" y="5656320"/>
            <a:ext cx="214200" cy="280800"/>
          </a:xfrm>
          <a:custGeom>
            <a:avLst/>
            <a:gdLst/>
            <a:ahLst/>
            <a:rect l="l" t="t" r="r" b="b"/>
            <a:pathLst>
              <a:path w="135" h="359">
                <a:moveTo>
                  <a:pt x="135" y="359"/>
                </a:moveTo>
                <a:lnTo>
                  <a:pt x="0" y="359"/>
                </a:lnTo>
                <a:lnTo>
                  <a:pt x="133" y="0"/>
                </a:lnTo>
              </a:path>
            </a:pathLst>
          </a:custGeom>
          <a:blipFill rotWithShape="0">
            <a:blip r:embed="rId38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885080" y="6073920"/>
            <a:ext cx="541440" cy="36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792920" y="6046920"/>
            <a:ext cx="7556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(кН</a:t>
            </a:r>
            <a:r>
              <a:rPr b="1" lang="ru-RU" sz="800" spc="-1" strike="noStrike" baseline="-25000">
                <a:solidFill>
                  <a:srgbClr val="000000"/>
                </a:solidFill>
                <a:latin typeface="Times New Roman"/>
              </a:rPr>
              <a:t> * 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853320" y="5662440"/>
            <a:ext cx="147600" cy="857520"/>
          </a:xfrm>
          <a:custGeom>
            <a:avLst/>
            <a:gdLst/>
            <a:ahLst/>
            <a:rect l="l" t="t" r="r" b="b"/>
            <a:pathLst>
              <a:path w="93" h="540">
                <a:moveTo>
                  <a:pt x="0" y="0"/>
                </a:moveTo>
                <a:cubicBezTo>
                  <a:pt x="8" y="16"/>
                  <a:pt x="37" y="67"/>
                  <a:pt x="51" y="99"/>
                </a:cubicBezTo>
                <a:cubicBezTo>
                  <a:pt x="65" y="131"/>
                  <a:pt x="77" y="167"/>
                  <a:pt x="84" y="195"/>
                </a:cubicBezTo>
                <a:cubicBezTo>
                  <a:pt x="91" y="223"/>
                  <a:pt x="93" y="246"/>
                  <a:pt x="93" y="270"/>
                </a:cubicBezTo>
                <a:cubicBezTo>
                  <a:pt x="93" y="294"/>
                  <a:pt x="93" y="313"/>
                  <a:pt x="87" y="342"/>
                </a:cubicBezTo>
                <a:cubicBezTo>
                  <a:pt x="81" y="371"/>
                  <a:pt x="68" y="411"/>
                  <a:pt x="54" y="444"/>
                </a:cubicBezTo>
                <a:cubicBezTo>
                  <a:pt x="40" y="477"/>
                  <a:pt x="11" y="520"/>
                  <a:pt x="0" y="540"/>
                </a:cubicBezTo>
              </a:path>
            </a:pathLst>
          </a:custGeom>
          <a:blipFill rotWithShape="0">
            <a:blip r:embed="rId39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851520" y="5656320"/>
            <a:ext cx="863640" cy="863640"/>
          </a:xfrm>
          <a:custGeom>
            <a:avLst/>
            <a:gdLst/>
            <a:ahLst/>
            <a:rect l="l" t="t" r="r" b="b"/>
            <a:pathLst>
              <a:path w="590" h="499">
                <a:moveTo>
                  <a:pt x="0" y="499"/>
                </a:moveTo>
                <a:lnTo>
                  <a:pt x="0" y="0"/>
                </a:lnTo>
                <a:lnTo>
                  <a:pt x="590" y="0"/>
                </a:lnTo>
                <a:lnTo>
                  <a:pt x="590" y="49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858000" y="609768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192800" y="5853240"/>
            <a:ext cx="4320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939000" y="5996160"/>
            <a:ext cx="431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715160" y="5838840"/>
            <a:ext cx="870120" cy="185760"/>
          </a:xfrm>
          <a:custGeom>
            <a:avLst/>
            <a:gdLst/>
            <a:ahLst/>
            <a:rect l="l" t="t" r="r" b="b"/>
            <a:pathLst>
              <a:path w="548" h="117">
                <a:moveTo>
                  <a:pt x="4" y="66"/>
                </a:moveTo>
                <a:lnTo>
                  <a:pt x="0" y="0"/>
                </a:lnTo>
                <a:lnTo>
                  <a:pt x="279" y="117"/>
                </a:lnTo>
                <a:lnTo>
                  <a:pt x="548" y="66"/>
                </a:lnTo>
              </a:path>
            </a:pathLst>
          </a:custGeom>
          <a:blipFill rotWithShape="0">
            <a:blip r:embed="rId40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158320" y="5948280"/>
            <a:ext cx="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715160" y="5943600"/>
            <a:ext cx="863640" cy="576360"/>
          </a:xfrm>
          <a:custGeom>
            <a:avLst/>
            <a:gdLst/>
            <a:ahLst/>
            <a:rect l="l" t="t" r="r" b="b"/>
            <a:pathLst>
              <a:path w="544" h="363">
                <a:moveTo>
                  <a:pt x="0" y="363"/>
                </a:moveTo>
                <a:lnTo>
                  <a:pt x="0" y="0"/>
                </a:lnTo>
                <a:lnTo>
                  <a:pt x="544" y="0"/>
                </a:lnTo>
                <a:lnTo>
                  <a:pt x="544" y="36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674120" y="5641920"/>
            <a:ext cx="431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10360" y="322272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716880" y="30211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831000" y="4640400"/>
            <a:ext cx="863640" cy="863640"/>
          </a:xfrm>
          <a:custGeom>
            <a:avLst/>
            <a:gdLst/>
            <a:ahLst/>
            <a:rect l="l" t="t" r="r" b="b"/>
            <a:pathLst>
              <a:path w="590" h="499">
                <a:moveTo>
                  <a:pt x="0" y="499"/>
                </a:moveTo>
                <a:lnTo>
                  <a:pt x="0" y="0"/>
                </a:lnTo>
                <a:lnTo>
                  <a:pt x="590" y="0"/>
                </a:lnTo>
                <a:lnTo>
                  <a:pt x="590" y="49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694640" y="4927680"/>
            <a:ext cx="863640" cy="576360"/>
          </a:xfrm>
          <a:custGeom>
            <a:avLst/>
            <a:gdLst/>
            <a:ahLst/>
            <a:rect l="l" t="t" r="r" b="b"/>
            <a:pathLst>
              <a:path w="544" h="363">
                <a:moveTo>
                  <a:pt x="0" y="363"/>
                </a:moveTo>
                <a:lnTo>
                  <a:pt x="0" y="0"/>
                </a:lnTo>
                <a:lnTo>
                  <a:pt x="544" y="0"/>
                </a:lnTo>
                <a:lnTo>
                  <a:pt x="544" y="36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724800" y="5484960"/>
            <a:ext cx="215640" cy="7272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726240" y="54831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7588080" y="5506920"/>
            <a:ext cx="216000" cy="7308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588080" y="55054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8451720" y="5505480"/>
            <a:ext cx="216000" cy="7308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8451720" y="55054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792840" y="5432400"/>
            <a:ext cx="79560" cy="7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218360" y="4602240"/>
            <a:ext cx="79200" cy="79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rot="5400000">
            <a:off x="8729640" y="4884840"/>
            <a:ext cx="216000" cy="7272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807400" y="48132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580600" y="4886280"/>
            <a:ext cx="215640" cy="71640"/>
          </a:xfrm>
          <a:custGeom>
            <a:avLst/>
            <a:gdLst/>
            <a:ahLst/>
            <a:rect l="l" t="t" r="r" b="b"/>
            <a:pathLst>
              <a:path w="318" h="136">
                <a:moveTo>
                  <a:pt x="0" y="90"/>
                </a:moveTo>
                <a:lnTo>
                  <a:pt x="45" y="0"/>
                </a:lnTo>
                <a:lnTo>
                  <a:pt x="91" y="136"/>
                </a:lnTo>
                <a:lnTo>
                  <a:pt x="136" y="0"/>
                </a:lnTo>
                <a:lnTo>
                  <a:pt x="182" y="136"/>
                </a:lnTo>
                <a:lnTo>
                  <a:pt x="227" y="0"/>
                </a:lnTo>
                <a:lnTo>
                  <a:pt x="272" y="136"/>
                </a:lnTo>
                <a:lnTo>
                  <a:pt x="318" y="4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524800" y="4884840"/>
            <a:ext cx="79560" cy="79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8774280" y="488484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rot="5400000">
            <a:off x="7281720" y="4894200"/>
            <a:ext cx="215640" cy="7308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434360" y="482292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434360" y="4932360"/>
            <a:ext cx="215640" cy="0"/>
          </a:xfrm>
          <a:prstGeom prst="line">
            <a:avLst/>
          </a:prstGeom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391520" y="4890960"/>
            <a:ext cx="79200" cy="7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597800" y="4889520"/>
            <a:ext cx="79200" cy="79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rot="3612600">
            <a:off x="7749720" y="5139360"/>
            <a:ext cx="144360" cy="54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704000" y="4929120"/>
            <a:ext cx="179640" cy="28728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848640" y="4549680"/>
            <a:ext cx="936360" cy="876240"/>
          </a:xfrm>
          <a:custGeom>
            <a:avLst/>
            <a:gdLst/>
            <a:ahLst/>
            <a:rect l="l" t="t" r="r" b="b"/>
            <a:pathLst>
              <a:path w="590" h="552">
                <a:moveTo>
                  <a:pt x="0" y="552"/>
                </a:moveTo>
                <a:cubicBezTo>
                  <a:pt x="7" y="535"/>
                  <a:pt x="31" y="491"/>
                  <a:pt x="42" y="450"/>
                </a:cubicBezTo>
                <a:cubicBezTo>
                  <a:pt x="53" y="409"/>
                  <a:pt x="65" y="354"/>
                  <a:pt x="69" y="306"/>
                </a:cubicBezTo>
                <a:cubicBezTo>
                  <a:pt x="73" y="258"/>
                  <a:pt x="71" y="200"/>
                  <a:pt x="69" y="159"/>
                </a:cubicBezTo>
                <a:cubicBezTo>
                  <a:pt x="67" y="118"/>
                  <a:pt x="69" y="114"/>
                  <a:pt x="57" y="60"/>
                </a:cubicBezTo>
                <a:cubicBezTo>
                  <a:pt x="195" y="24"/>
                  <a:pt x="150" y="36"/>
                  <a:pt x="303" y="0"/>
                </a:cubicBezTo>
                <a:cubicBezTo>
                  <a:pt x="486" y="33"/>
                  <a:pt x="366" y="12"/>
                  <a:pt x="590" y="57"/>
                </a:cubicBezTo>
                <a:cubicBezTo>
                  <a:pt x="560" y="108"/>
                  <a:pt x="569" y="98"/>
                  <a:pt x="560" y="120"/>
                </a:cubicBezTo>
                <a:cubicBezTo>
                  <a:pt x="551" y="142"/>
                  <a:pt x="543" y="170"/>
                  <a:pt x="539" y="189"/>
                </a:cubicBezTo>
                <a:cubicBezTo>
                  <a:pt x="535" y="208"/>
                  <a:pt x="534" y="227"/>
                  <a:pt x="533" y="237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651800" y="4602240"/>
            <a:ext cx="79200" cy="79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7783560" y="4405320"/>
            <a:ext cx="0" cy="233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7780320" y="4433760"/>
            <a:ext cx="11916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783560" y="4429080"/>
            <a:ext cx="100080" cy="28800"/>
          </a:xfrm>
          <a:custGeom>
            <a:avLst/>
            <a:gdLst/>
            <a:ahLst/>
            <a:rect l="l" t="t" r="r" b="b"/>
            <a:pathLst>
              <a:path w="63" h="18">
                <a:moveTo>
                  <a:pt x="0" y="0"/>
                </a:moveTo>
                <a:cubicBezTo>
                  <a:pt x="5" y="1"/>
                  <a:pt x="23" y="3"/>
                  <a:pt x="33" y="6"/>
                </a:cubicBezTo>
                <a:cubicBezTo>
                  <a:pt x="43" y="9"/>
                  <a:pt x="57" y="16"/>
                  <a:pt x="63" y="18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rot="2768400">
            <a:off x="7769160" y="5093280"/>
            <a:ext cx="214560" cy="22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279828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2798284"/>
              </a:path>
            </a:pathLst>
          </a:custGeom>
          <a:noFill/>
          <a:ln w="19080">
            <a:solidFill>
              <a:srgbClr val="99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097760" y="4932360"/>
            <a:ext cx="287280" cy="0"/>
          </a:xfrm>
          <a:prstGeom prst="line">
            <a:avLst/>
          </a:prstGeom>
          <a:ln w="28440">
            <a:solidFill>
              <a:srgbClr val="99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074000" y="5159520"/>
            <a:ext cx="372960" cy="358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088040" y="5165640"/>
            <a:ext cx="3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861320" y="5183280"/>
            <a:ext cx="527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900840" y="4586400"/>
            <a:ext cx="527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710480" y="4930920"/>
            <a:ext cx="819000" cy="71280"/>
          </a:xfrm>
          <a:custGeom>
            <a:avLst/>
            <a:gdLst/>
            <a:ahLst/>
            <a:rect l="l" t="t" r="r" b="b"/>
            <a:pathLst>
              <a:path w="516" h="45">
                <a:moveTo>
                  <a:pt x="0" y="0"/>
                </a:moveTo>
                <a:cubicBezTo>
                  <a:pt x="9" y="1"/>
                  <a:pt x="31" y="3"/>
                  <a:pt x="54" y="6"/>
                </a:cubicBezTo>
                <a:cubicBezTo>
                  <a:pt x="77" y="9"/>
                  <a:pt x="114" y="16"/>
                  <a:pt x="141" y="21"/>
                </a:cubicBezTo>
                <a:cubicBezTo>
                  <a:pt x="168" y="26"/>
                  <a:pt x="188" y="32"/>
                  <a:pt x="219" y="36"/>
                </a:cubicBezTo>
                <a:cubicBezTo>
                  <a:pt x="250" y="40"/>
                  <a:pt x="295" y="45"/>
                  <a:pt x="327" y="45"/>
                </a:cubicBezTo>
                <a:cubicBezTo>
                  <a:pt x="359" y="45"/>
                  <a:pt x="383" y="42"/>
                  <a:pt x="414" y="36"/>
                </a:cubicBezTo>
                <a:cubicBezTo>
                  <a:pt x="445" y="30"/>
                  <a:pt x="495" y="15"/>
                  <a:pt x="516" y="9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561440" y="4483080"/>
            <a:ext cx="26640" cy="108000"/>
          </a:xfrm>
          <a:custGeom>
            <a:avLst/>
            <a:gdLst/>
            <a:ahLst/>
            <a:rect l="l" t="t" r="r" b="b"/>
            <a:pathLst>
              <a:path w="17" h="68">
                <a:moveTo>
                  <a:pt x="0" y="68"/>
                </a:moveTo>
                <a:cubicBezTo>
                  <a:pt x="1" y="61"/>
                  <a:pt x="6" y="37"/>
                  <a:pt x="9" y="26"/>
                </a:cubicBezTo>
                <a:cubicBezTo>
                  <a:pt x="12" y="15"/>
                  <a:pt x="15" y="5"/>
                  <a:pt x="17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556400" y="4648320"/>
            <a:ext cx="25560" cy="110880"/>
          </a:xfrm>
          <a:custGeom>
            <a:avLst/>
            <a:gdLst/>
            <a:ahLst/>
            <a:rect l="l" t="t" r="r" b="b"/>
            <a:pathLst>
              <a:path w="16" h="70">
                <a:moveTo>
                  <a:pt x="0" y="0"/>
                </a:moveTo>
                <a:cubicBezTo>
                  <a:pt x="1" y="8"/>
                  <a:pt x="3" y="34"/>
                  <a:pt x="6" y="46"/>
                </a:cubicBezTo>
                <a:cubicBezTo>
                  <a:pt x="9" y="58"/>
                  <a:pt x="14" y="65"/>
                  <a:pt x="16" y="7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716960" y="4202280"/>
            <a:ext cx="40932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426440" y="4265640"/>
            <a:ext cx="40932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8147160" y="46339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678720" y="4645080"/>
            <a:ext cx="14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672240" y="4788000"/>
            <a:ext cx="14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675480" y="4932360"/>
            <a:ext cx="14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675480" y="5076720"/>
            <a:ext cx="14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675480" y="5364000"/>
            <a:ext cx="14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675480" y="5221440"/>
            <a:ext cx="14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672240" y="548316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672240" y="464184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866000" y="4570560"/>
            <a:ext cx="3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588000" y="4365720"/>
            <a:ext cx="273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035840" y="3768840"/>
            <a:ext cx="194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Грузовое состояние ОСС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8058240" y="4206960"/>
            <a:ext cx="772920" cy="39528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5003640" y="5445000"/>
                <a:ext cx="180036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  <m:e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I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7" name=""/>
          <p:cNvSpPr/>
          <p:nvPr/>
        </p:nvSpPr>
        <p:spPr>
          <a:xfrm>
            <a:off x="5130720" y="6296040"/>
            <a:ext cx="172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7;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 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–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367080" y="6359400"/>
            <a:ext cx="7192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1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2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2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7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2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4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1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1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6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1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6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1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6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1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1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6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6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1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6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6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1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8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8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0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5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0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2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7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2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7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2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7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7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2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0" dur="1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1" dur="1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2" dur="1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7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8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9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1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8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3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8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3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8" dur="8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9" dur="8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0" dur="8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4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fill="hold">
                      <p:stCondLst>
                        <p:cond delay="indefinite"/>
                      </p:stCondLst>
                      <p:childTnLst>
                        <p:par>
                          <p:cTn id="2041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3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8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9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0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3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fill="hold">
                      <p:stCondLst>
                        <p:cond delay="indefinite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0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1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2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5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6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7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0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1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2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7" dur="8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8" dur="8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9" dur="8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fill="hold">
                      <p:stCondLst>
                        <p:cond delay="indefinite"/>
                      </p:stCondLst>
                      <p:childTnLst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8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5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1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0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8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0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7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1" fill="hold">
                      <p:stCondLst>
                        <p:cond delay="indefinite"/>
                      </p:stCondLst>
                      <p:childTnLst>
                        <p:par>
                          <p:cTn id="2312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5" dur="8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6" dur="8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7" dur="8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8" fill="hold">
                      <p:stCondLst>
                        <p:cond delay="indefinite"/>
                      </p:stCondLst>
                      <p:childTnLst>
                        <p:par>
                          <p:cTn id="2319" fill="hold">
                            <p:stCondLst>
                              <p:cond delay="0"/>
                            </p:stCondLst>
                            <p:childTnLst>
                              <p:par>
                                <p:cTn id="2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6" fill="hold">
                      <p:stCondLst>
                        <p:cond delay="indefinite"/>
                      </p:stCondLst>
                      <p:childTnLst>
                        <p:par>
                          <p:cTn id="2357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0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1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2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fill="hold">
                      <p:stCondLst>
                        <p:cond delay="indefinite"/>
                      </p:stCondLst>
                      <p:childTnLst>
                        <p:par>
                          <p:cTn id="2364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7" dur="8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8" dur="8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9" dur="8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 Narrow"/>
              </a:rPr>
              <a:t>РАСЧЁТ СТАТИЧЕСКИ НЕОПРЕДЕЛИМЫХ СИСТЕМ СМЕШАННЫМ МЕТ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720960" y="58248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П р и м е 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042920" y="1268280"/>
            <a:ext cx="1295640" cy="1295640"/>
          </a:xfrm>
          <a:custGeom>
            <a:avLst/>
            <a:gdLst/>
            <a:ahLst/>
            <a:rect l="l" t="t" r="r" b="b"/>
            <a:pathLst>
              <a:path w="953" h="862">
                <a:moveTo>
                  <a:pt x="0" y="862"/>
                </a:moveTo>
                <a:lnTo>
                  <a:pt x="0" y="0"/>
                </a:lnTo>
                <a:lnTo>
                  <a:pt x="953" y="0"/>
                </a:lnTo>
                <a:lnTo>
                  <a:pt x="953" y="86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338560" y="1700280"/>
            <a:ext cx="1296720" cy="863640"/>
          </a:xfrm>
          <a:custGeom>
            <a:avLst/>
            <a:gdLst/>
            <a:ahLst/>
            <a:rect l="l" t="t" r="r" b="b"/>
            <a:pathLst>
              <a:path w="817" h="544">
                <a:moveTo>
                  <a:pt x="0" y="0"/>
                </a:moveTo>
                <a:lnTo>
                  <a:pt x="817" y="0"/>
                </a:lnTo>
                <a:lnTo>
                  <a:pt x="817" y="5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928800" y="2563920"/>
            <a:ext cx="215640" cy="7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928800" y="25639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224080" y="2563920"/>
            <a:ext cx="216000" cy="7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224080" y="25639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521160" y="2563920"/>
            <a:ext cx="215640" cy="73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521160" y="25639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rot="5400000">
            <a:off x="3869640" y="1657080"/>
            <a:ext cx="216000" cy="73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948120" y="15858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683160" y="1658880"/>
            <a:ext cx="215640" cy="71640"/>
          </a:xfrm>
          <a:custGeom>
            <a:avLst/>
            <a:gdLst/>
            <a:ahLst/>
            <a:rect l="l" t="t" r="r" b="b"/>
            <a:pathLst>
              <a:path w="318" h="136">
                <a:moveTo>
                  <a:pt x="0" y="90"/>
                </a:moveTo>
                <a:lnTo>
                  <a:pt x="45" y="0"/>
                </a:lnTo>
                <a:lnTo>
                  <a:pt x="91" y="136"/>
                </a:lnTo>
                <a:lnTo>
                  <a:pt x="136" y="0"/>
                </a:lnTo>
                <a:lnTo>
                  <a:pt x="182" y="136"/>
                </a:lnTo>
                <a:lnTo>
                  <a:pt x="227" y="0"/>
                </a:lnTo>
                <a:lnTo>
                  <a:pt x="272" y="136"/>
                </a:lnTo>
                <a:lnTo>
                  <a:pt x="318" y="4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647720" y="1217520"/>
            <a:ext cx="90720" cy="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592440" y="1647720"/>
            <a:ext cx="90720" cy="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895560" y="1644480"/>
            <a:ext cx="90720" cy="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826920" y="12700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826920" y="127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26920" y="1486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826920" y="170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826920" y="191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826920" y="213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26920" y="234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82692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995400" y="251316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987640" y="133200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042920" y="2781360"/>
            <a:ext cx="2592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042920" y="2637000"/>
            <a:ext cx="0" cy="215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692360" y="2637000"/>
            <a:ext cx="0" cy="215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340000" y="2637000"/>
            <a:ext cx="0" cy="215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987640" y="2637000"/>
            <a:ext cx="0" cy="215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635280" y="2637000"/>
            <a:ext cx="0" cy="215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211640" y="1270080"/>
            <a:ext cx="0" cy="1295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068720" y="1701720"/>
            <a:ext cx="216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851280" y="2565360"/>
            <a:ext cx="431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851280" y="1270080"/>
            <a:ext cx="431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1009800" y="2738520"/>
            <a:ext cx="712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1649520" y="2738520"/>
            <a:ext cx="712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2297160" y="2738520"/>
            <a:ext cx="712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2944800" y="2738520"/>
            <a:ext cx="712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3592440" y="2738520"/>
            <a:ext cx="7164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 flipV="1">
            <a:off x="4179960" y="1231920"/>
            <a:ext cx="79200" cy="79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4177800" y="1660680"/>
            <a:ext cx="79560" cy="792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 flipV="1">
            <a:off x="4168800" y="2523600"/>
            <a:ext cx="79200" cy="79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592440" y="19796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969920" y="1773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006560" y="1773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438200" y="1251000"/>
            <a:ext cx="5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735280" y="1662120"/>
            <a:ext cx="5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74720" y="917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 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Н/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646360" y="104760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616200" y="1332000"/>
            <a:ext cx="43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116000" y="249408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835280" y="2494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482920" y="2494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132000" y="2494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rot="16200000">
            <a:off x="3917520" y="1979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rot="16200000">
            <a:off x="3912840" y="13096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603600" y="927000"/>
            <a:ext cx="1366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,5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–3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620800" y="1979640"/>
            <a:ext cx="755640" cy="554040"/>
          </a:xfrm>
          <a:prstGeom prst="rect">
            <a:avLst/>
          </a:prstGeom>
          <a:solidFill>
            <a:srgbClr val="c8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180040" y="1084320"/>
            <a:ext cx="1611360" cy="1670040"/>
          </a:xfrm>
          <a:custGeom>
            <a:avLst/>
            <a:gdLst/>
            <a:ahLst/>
            <a:rect l="l" t="t" r="r" b="b"/>
            <a:pathLst>
              <a:path w="962" h="1052">
                <a:moveTo>
                  <a:pt x="221" y="1004"/>
                </a:moveTo>
                <a:cubicBezTo>
                  <a:pt x="211" y="1032"/>
                  <a:pt x="199" y="1034"/>
                  <a:pt x="173" y="1040"/>
                </a:cubicBezTo>
                <a:cubicBezTo>
                  <a:pt x="147" y="1046"/>
                  <a:pt x="91" y="1052"/>
                  <a:pt x="64" y="1042"/>
                </a:cubicBezTo>
                <a:cubicBezTo>
                  <a:pt x="37" y="1032"/>
                  <a:pt x="21" y="1033"/>
                  <a:pt x="11" y="980"/>
                </a:cubicBezTo>
                <a:cubicBezTo>
                  <a:pt x="1" y="927"/>
                  <a:pt x="6" y="823"/>
                  <a:pt x="5" y="722"/>
                </a:cubicBezTo>
                <a:cubicBezTo>
                  <a:pt x="4" y="621"/>
                  <a:pt x="3" y="481"/>
                  <a:pt x="5" y="374"/>
                </a:cubicBezTo>
                <a:cubicBezTo>
                  <a:pt x="7" y="267"/>
                  <a:pt x="0" y="140"/>
                  <a:pt x="17" y="80"/>
                </a:cubicBezTo>
                <a:cubicBezTo>
                  <a:pt x="34" y="20"/>
                  <a:pt x="36" y="26"/>
                  <a:pt x="106" y="13"/>
                </a:cubicBezTo>
                <a:cubicBezTo>
                  <a:pt x="176" y="0"/>
                  <a:pt x="335" y="4"/>
                  <a:pt x="437" y="2"/>
                </a:cubicBezTo>
                <a:cubicBezTo>
                  <a:pt x="539" y="0"/>
                  <a:pt x="640" y="0"/>
                  <a:pt x="719" y="2"/>
                </a:cubicBezTo>
                <a:cubicBezTo>
                  <a:pt x="798" y="4"/>
                  <a:pt x="874" y="0"/>
                  <a:pt x="913" y="13"/>
                </a:cubicBezTo>
                <a:cubicBezTo>
                  <a:pt x="952" y="26"/>
                  <a:pt x="946" y="30"/>
                  <a:pt x="953" y="80"/>
                </a:cubicBezTo>
                <a:cubicBezTo>
                  <a:pt x="960" y="130"/>
                  <a:pt x="962" y="268"/>
                  <a:pt x="955" y="314"/>
                </a:cubicBezTo>
                <a:cubicBezTo>
                  <a:pt x="948" y="360"/>
                  <a:pt x="941" y="350"/>
                  <a:pt x="913" y="356"/>
                </a:cubicBezTo>
                <a:cubicBezTo>
                  <a:pt x="885" y="363"/>
                  <a:pt x="820" y="363"/>
                  <a:pt x="786" y="356"/>
                </a:cubicBezTo>
                <a:cubicBezTo>
                  <a:pt x="752" y="349"/>
                  <a:pt x="742" y="322"/>
                  <a:pt x="707" y="314"/>
                </a:cubicBezTo>
                <a:cubicBezTo>
                  <a:pt x="672" y="306"/>
                  <a:pt x="618" y="309"/>
                  <a:pt x="575" y="308"/>
                </a:cubicBezTo>
                <a:cubicBezTo>
                  <a:pt x="532" y="307"/>
                  <a:pt x="499" y="307"/>
                  <a:pt x="449" y="308"/>
                </a:cubicBezTo>
                <a:cubicBezTo>
                  <a:pt x="399" y="309"/>
                  <a:pt x="310" y="301"/>
                  <a:pt x="275" y="314"/>
                </a:cubicBezTo>
                <a:cubicBezTo>
                  <a:pt x="240" y="327"/>
                  <a:pt x="246" y="336"/>
                  <a:pt x="239" y="386"/>
                </a:cubicBezTo>
                <a:cubicBezTo>
                  <a:pt x="232" y="436"/>
                  <a:pt x="234" y="547"/>
                  <a:pt x="233" y="613"/>
                </a:cubicBezTo>
                <a:cubicBezTo>
                  <a:pt x="232" y="679"/>
                  <a:pt x="233" y="743"/>
                  <a:pt x="233" y="785"/>
                </a:cubicBezTo>
                <a:cubicBezTo>
                  <a:pt x="233" y="828"/>
                  <a:pt x="235" y="834"/>
                  <a:pt x="233" y="870"/>
                </a:cubicBezTo>
                <a:cubicBezTo>
                  <a:pt x="231" y="906"/>
                  <a:pt x="232" y="976"/>
                  <a:pt x="221" y="1004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507000" y="1512720"/>
            <a:ext cx="1949760" cy="1224000"/>
          </a:xfrm>
          <a:custGeom>
            <a:avLst/>
            <a:gdLst/>
            <a:ahLst/>
            <a:rect l="l" t="t" r="r" b="b"/>
            <a:pathLst>
              <a:path w="1157" h="707">
                <a:moveTo>
                  <a:pt x="7" y="554"/>
                </a:moveTo>
                <a:cubicBezTo>
                  <a:pt x="7" y="486"/>
                  <a:pt x="6" y="318"/>
                  <a:pt x="7" y="237"/>
                </a:cubicBezTo>
                <a:cubicBezTo>
                  <a:pt x="8" y="156"/>
                  <a:pt x="0" y="108"/>
                  <a:pt x="15" y="70"/>
                </a:cubicBezTo>
                <a:cubicBezTo>
                  <a:pt x="30" y="32"/>
                  <a:pt x="54" y="20"/>
                  <a:pt x="98" y="10"/>
                </a:cubicBezTo>
                <a:cubicBezTo>
                  <a:pt x="142" y="0"/>
                  <a:pt x="166" y="10"/>
                  <a:pt x="279" y="10"/>
                </a:cubicBezTo>
                <a:cubicBezTo>
                  <a:pt x="392" y="10"/>
                  <a:pt x="642" y="10"/>
                  <a:pt x="778" y="10"/>
                </a:cubicBezTo>
                <a:cubicBezTo>
                  <a:pt x="914" y="10"/>
                  <a:pt x="1035" y="2"/>
                  <a:pt x="1096" y="10"/>
                </a:cubicBezTo>
                <a:cubicBezTo>
                  <a:pt x="1157" y="18"/>
                  <a:pt x="1134" y="25"/>
                  <a:pt x="1141" y="55"/>
                </a:cubicBezTo>
                <a:cubicBezTo>
                  <a:pt x="1148" y="85"/>
                  <a:pt x="1155" y="164"/>
                  <a:pt x="1141" y="191"/>
                </a:cubicBezTo>
                <a:cubicBezTo>
                  <a:pt x="1127" y="218"/>
                  <a:pt x="1074" y="182"/>
                  <a:pt x="1059" y="220"/>
                </a:cubicBezTo>
                <a:cubicBezTo>
                  <a:pt x="1044" y="258"/>
                  <a:pt x="1051" y="355"/>
                  <a:pt x="1050" y="418"/>
                </a:cubicBezTo>
                <a:cubicBezTo>
                  <a:pt x="1049" y="481"/>
                  <a:pt x="1057" y="555"/>
                  <a:pt x="1050" y="600"/>
                </a:cubicBezTo>
                <a:cubicBezTo>
                  <a:pt x="1043" y="645"/>
                  <a:pt x="1080" y="673"/>
                  <a:pt x="1005" y="690"/>
                </a:cubicBezTo>
                <a:cubicBezTo>
                  <a:pt x="930" y="707"/>
                  <a:pt x="724" y="698"/>
                  <a:pt x="597" y="700"/>
                </a:cubicBezTo>
                <a:cubicBezTo>
                  <a:pt x="470" y="702"/>
                  <a:pt x="334" y="702"/>
                  <a:pt x="243" y="700"/>
                </a:cubicBezTo>
                <a:cubicBezTo>
                  <a:pt x="152" y="698"/>
                  <a:pt x="91" y="699"/>
                  <a:pt x="52" y="690"/>
                </a:cubicBezTo>
                <a:cubicBezTo>
                  <a:pt x="13" y="681"/>
                  <a:pt x="14" y="668"/>
                  <a:pt x="7" y="645"/>
                </a:cubicBezTo>
                <a:cubicBezTo>
                  <a:pt x="0" y="622"/>
                  <a:pt x="7" y="622"/>
                  <a:pt x="7" y="554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397480" y="1268280"/>
            <a:ext cx="1295280" cy="1295640"/>
          </a:xfrm>
          <a:custGeom>
            <a:avLst/>
            <a:gdLst/>
            <a:ahLst/>
            <a:rect l="l" t="t" r="r" b="b"/>
            <a:pathLst>
              <a:path w="953" h="862">
                <a:moveTo>
                  <a:pt x="0" y="862"/>
                </a:moveTo>
                <a:lnTo>
                  <a:pt x="0" y="0"/>
                </a:lnTo>
                <a:lnTo>
                  <a:pt x="953" y="0"/>
                </a:lnTo>
                <a:lnTo>
                  <a:pt x="953" y="86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692760" y="1700280"/>
            <a:ext cx="1297080" cy="863640"/>
          </a:xfrm>
          <a:custGeom>
            <a:avLst/>
            <a:gdLst/>
            <a:ahLst/>
            <a:rect l="l" t="t" r="r" b="b"/>
            <a:pathLst>
              <a:path w="817" h="544">
                <a:moveTo>
                  <a:pt x="0" y="0"/>
                </a:moveTo>
                <a:lnTo>
                  <a:pt x="817" y="0"/>
                </a:lnTo>
                <a:lnTo>
                  <a:pt x="817" y="5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283360" y="2563920"/>
            <a:ext cx="215640" cy="73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283360" y="25639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578640" y="2563920"/>
            <a:ext cx="216000" cy="73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578640" y="25639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875720" y="2563920"/>
            <a:ext cx="215640" cy="73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875720" y="25639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rot="5400000">
            <a:off x="8224200" y="1657080"/>
            <a:ext cx="216000" cy="730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8302680" y="15858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8037360" y="1658880"/>
            <a:ext cx="216000" cy="71640"/>
          </a:xfrm>
          <a:custGeom>
            <a:avLst/>
            <a:gdLst/>
            <a:ahLst/>
            <a:rect l="l" t="t" r="r" b="b"/>
            <a:pathLst>
              <a:path w="318" h="136">
                <a:moveTo>
                  <a:pt x="0" y="90"/>
                </a:moveTo>
                <a:lnTo>
                  <a:pt x="45" y="0"/>
                </a:lnTo>
                <a:lnTo>
                  <a:pt x="91" y="136"/>
                </a:lnTo>
                <a:lnTo>
                  <a:pt x="136" y="0"/>
                </a:lnTo>
                <a:lnTo>
                  <a:pt x="182" y="136"/>
                </a:lnTo>
                <a:lnTo>
                  <a:pt x="227" y="0"/>
                </a:lnTo>
                <a:lnTo>
                  <a:pt x="272" y="136"/>
                </a:lnTo>
                <a:lnTo>
                  <a:pt x="318" y="4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002280" y="1217520"/>
            <a:ext cx="90720" cy="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947000" y="1647720"/>
            <a:ext cx="90360" cy="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8250120" y="1644480"/>
            <a:ext cx="90720" cy="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181480" y="12700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181480" y="127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181480" y="1486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181480" y="170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181480" y="191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181480" y="213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181480" y="234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18148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49960" y="251316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7342200" y="133200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129280" y="917640"/>
            <a:ext cx="3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178760" y="1047600"/>
            <a:ext cx="3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970760" y="1330200"/>
            <a:ext cx="43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642000" y="121608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rot="5400000">
            <a:off x="6200640" y="1666800"/>
            <a:ext cx="215640" cy="73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353280" y="159552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353280" y="1700280"/>
            <a:ext cx="287280" cy="0"/>
          </a:xfrm>
          <a:prstGeom prst="line">
            <a:avLst/>
          </a:prstGeom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310440" y="165420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588000" y="1657440"/>
            <a:ext cx="9072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rot="3612600">
            <a:off x="6750360" y="1967760"/>
            <a:ext cx="179280" cy="730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699240" y="1704960"/>
            <a:ext cx="216000" cy="360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409080" y="1144440"/>
            <a:ext cx="215280" cy="22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13668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136687"/>
              </a:path>
            </a:pathLst>
          </a:custGeom>
          <a:noFill/>
          <a:ln w="19080">
            <a:solidFill>
              <a:srgbClr val="99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H="1" rot="5184600">
            <a:off x="6594840" y="1323000"/>
            <a:ext cx="215280" cy="21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13668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136687"/>
              </a:path>
            </a:pathLst>
          </a:custGeom>
          <a:noFill/>
          <a:ln w="19080">
            <a:solidFill>
              <a:srgbClr val="99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251400" y="1263600"/>
            <a:ext cx="4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908760" y="1832040"/>
            <a:ext cx="4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877080" y="1523880"/>
            <a:ext cx="0" cy="216000"/>
          </a:xfrm>
          <a:prstGeom prst="line">
            <a:avLst/>
          </a:prstGeom>
          <a:ln w="64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702480" y="1571760"/>
            <a:ext cx="179280" cy="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718320" y="1719360"/>
            <a:ext cx="360360" cy="144360"/>
          </a:xfrm>
          <a:prstGeom prst="line">
            <a:avLst/>
          </a:prstGeom>
          <a:ln w="64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891480" y="1847880"/>
            <a:ext cx="142560" cy="166680"/>
          </a:xfrm>
          <a:custGeom>
            <a:avLst/>
            <a:gdLst/>
            <a:ahLst/>
            <a:rect l="l" t="t" r="r" b="b"/>
            <a:pathLst>
              <a:path w="90" h="105">
                <a:moveTo>
                  <a:pt x="0" y="105"/>
                </a:moveTo>
                <a:cubicBezTo>
                  <a:pt x="9" y="97"/>
                  <a:pt x="39" y="77"/>
                  <a:pt x="54" y="60"/>
                </a:cubicBezTo>
                <a:cubicBezTo>
                  <a:pt x="69" y="43"/>
                  <a:pt x="83" y="12"/>
                  <a:pt x="90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827760" y="1357200"/>
            <a:ext cx="4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668920" y="1835280"/>
            <a:ext cx="755640" cy="769680"/>
          </a:xfrm>
          <a:prstGeom prst="rect">
            <a:avLst/>
          </a:prstGeom>
          <a:solidFill>
            <a:srgbClr val="c8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506920" y="736560"/>
            <a:ext cx="10810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Статиче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определим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773760" y="2185920"/>
            <a:ext cx="11527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Кинематиче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определим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948360" y="765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 Black"/>
              </a:rPr>
              <a:t>ОС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048280" y="2708280"/>
            <a:ext cx="3809880" cy="2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Канонические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уравнения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 c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мешанного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метода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186520" y="2952720"/>
            <a:ext cx="86328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114880" y="3024360"/>
            <a:ext cx="142920" cy="684000"/>
          </a:xfrm>
          <a:custGeom>
            <a:avLst/>
            <a:gdLst>
              <a:gd name="textAreaLeft" fmla="*/ 91440 w 142920"/>
              <a:gd name="textAreaRight" fmla="*/ 143280 w 142920"/>
              <a:gd name="textAreaTop" fmla="*/ 17640 h 684000"/>
              <a:gd name="textAreaBottom" fmla="*/ 666360 h 68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rot="5400000">
            <a:off x="5646960" y="3288240"/>
            <a:ext cx="652320" cy="127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09560" y="3300480"/>
            <a:ext cx="863640" cy="863640"/>
          </a:xfrm>
          <a:custGeom>
            <a:avLst/>
            <a:gdLst/>
            <a:ahLst/>
            <a:rect l="l" t="t" r="r" b="b"/>
            <a:pathLst>
              <a:path w="590" h="499">
                <a:moveTo>
                  <a:pt x="0" y="499"/>
                </a:moveTo>
                <a:lnTo>
                  <a:pt x="0" y="0"/>
                </a:lnTo>
                <a:lnTo>
                  <a:pt x="590" y="0"/>
                </a:lnTo>
                <a:lnTo>
                  <a:pt x="590" y="49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573200" y="3587760"/>
            <a:ext cx="863640" cy="576360"/>
          </a:xfrm>
          <a:custGeom>
            <a:avLst/>
            <a:gdLst/>
            <a:ahLst/>
            <a:rect l="l" t="t" r="r" b="b"/>
            <a:pathLst>
              <a:path w="544" h="363">
                <a:moveTo>
                  <a:pt x="0" y="363"/>
                </a:moveTo>
                <a:lnTo>
                  <a:pt x="0" y="0"/>
                </a:lnTo>
                <a:lnTo>
                  <a:pt x="544" y="0"/>
                </a:lnTo>
                <a:lnTo>
                  <a:pt x="544" y="36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03360" y="4145040"/>
            <a:ext cx="215640" cy="730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04800" y="41432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467000" y="4167360"/>
            <a:ext cx="215640" cy="727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467000" y="416556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330280" y="4165560"/>
            <a:ext cx="216000" cy="730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330280" y="41655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71400" y="4092480"/>
            <a:ext cx="79560" cy="7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096920" y="3262320"/>
            <a:ext cx="79560" cy="79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rot="5400000">
            <a:off x="2608200" y="3544920"/>
            <a:ext cx="216000" cy="7272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685960" y="3473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459160" y="3546360"/>
            <a:ext cx="215640" cy="71640"/>
          </a:xfrm>
          <a:custGeom>
            <a:avLst/>
            <a:gdLst/>
            <a:ahLst/>
            <a:rect l="l" t="t" r="r" b="b"/>
            <a:pathLst>
              <a:path w="318" h="136">
                <a:moveTo>
                  <a:pt x="0" y="90"/>
                </a:moveTo>
                <a:lnTo>
                  <a:pt x="45" y="0"/>
                </a:lnTo>
                <a:lnTo>
                  <a:pt x="91" y="136"/>
                </a:lnTo>
                <a:lnTo>
                  <a:pt x="136" y="0"/>
                </a:lnTo>
                <a:lnTo>
                  <a:pt x="182" y="136"/>
                </a:lnTo>
                <a:lnTo>
                  <a:pt x="227" y="0"/>
                </a:lnTo>
                <a:lnTo>
                  <a:pt x="272" y="136"/>
                </a:lnTo>
                <a:lnTo>
                  <a:pt x="318" y="4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403360" y="3544920"/>
            <a:ext cx="79560" cy="79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652840" y="354492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rot="5400000">
            <a:off x="1159920" y="3554280"/>
            <a:ext cx="216000" cy="730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312920" y="34830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312920" y="3592440"/>
            <a:ext cx="216000" cy="0"/>
          </a:xfrm>
          <a:prstGeom prst="line">
            <a:avLst/>
          </a:prstGeom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270080" y="3551400"/>
            <a:ext cx="79200" cy="79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76360" y="3549600"/>
            <a:ext cx="79560" cy="7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rot="3612600">
            <a:off x="1628280" y="3799440"/>
            <a:ext cx="144360" cy="5400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582560" y="3589200"/>
            <a:ext cx="179640" cy="28764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08120" y="4448160"/>
            <a:ext cx="863640" cy="863640"/>
          </a:xfrm>
          <a:custGeom>
            <a:avLst/>
            <a:gdLst/>
            <a:ahLst/>
            <a:rect l="l" t="t" r="r" b="b"/>
            <a:pathLst>
              <a:path w="590" h="499">
                <a:moveTo>
                  <a:pt x="0" y="499"/>
                </a:moveTo>
                <a:lnTo>
                  <a:pt x="0" y="0"/>
                </a:lnTo>
                <a:lnTo>
                  <a:pt x="590" y="0"/>
                </a:lnTo>
                <a:lnTo>
                  <a:pt x="590" y="49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571760" y="4735440"/>
            <a:ext cx="863640" cy="576360"/>
          </a:xfrm>
          <a:custGeom>
            <a:avLst/>
            <a:gdLst/>
            <a:ahLst/>
            <a:rect l="l" t="t" r="r" b="b"/>
            <a:pathLst>
              <a:path w="544" h="363">
                <a:moveTo>
                  <a:pt x="0" y="363"/>
                </a:moveTo>
                <a:lnTo>
                  <a:pt x="0" y="0"/>
                </a:lnTo>
                <a:lnTo>
                  <a:pt x="544" y="0"/>
                </a:lnTo>
                <a:lnTo>
                  <a:pt x="544" y="36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01560" y="5292720"/>
            <a:ext cx="216000" cy="730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03360" y="529128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465200" y="5300640"/>
            <a:ext cx="216000" cy="730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465200" y="53132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328840" y="5300640"/>
            <a:ext cx="216000" cy="730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328840" y="53132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69960" y="5240160"/>
            <a:ext cx="79200" cy="7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095480" y="4410000"/>
            <a:ext cx="79200" cy="7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528920" y="4410000"/>
            <a:ext cx="79200" cy="7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rot="5400000">
            <a:off x="2606400" y="4692600"/>
            <a:ext cx="215640" cy="730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684520" y="462132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457360" y="4694400"/>
            <a:ext cx="216000" cy="71280"/>
          </a:xfrm>
          <a:custGeom>
            <a:avLst/>
            <a:gdLst/>
            <a:ahLst/>
            <a:rect l="l" t="t" r="r" b="b"/>
            <a:pathLst>
              <a:path w="318" h="136">
                <a:moveTo>
                  <a:pt x="0" y="90"/>
                </a:moveTo>
                <a:lnTo>
                  <a:pt x="45" y="0"/>
                </a:lnTo>
                <a:lnTo>
                  <a:pt x="91" y="136"/>
                </a:lnTo>
                <a:lnTo>
                  <a:pt x="136" y="0"/>
                </a:lnTo>
                <a:lnTo>
                  <a:pt x="182" y="136"/>
                </a:lnTo>
                <a:lnTo>
                  <a:pt x="227" y="0"/>
                </a:lnTo>
                <a:lnTo>
                  <a:pt x="272" y="136"/>
                </a:lnTo>
                <a:lnTo>
                  <a:pt x="318" y="4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401920" y="4692600"/>
            <a:ext cx="79200" cy="7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651040" y="469260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rot="5400000">
            <a:off x="1158840" y="4702320"/>
            <a:ext cx="216000" cy="7272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311120" y="46306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311120" y="4740120"/>
            <a:ext cx="216000" cy="0"/>
          </a:xfrm>
          <a:prstGeom prst="line">
            <a:avLst/>
          </a:prstGeom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1268280" y="4699080"/>
            <a:ext cx="79560" cy="79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474920" y="4697280"/>
            <a:ext cx="79200" cy="7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98400" y="5607000"/>
            <a:ext cx="863640" cy="863640"/>
          </a:xfrm>
          <a:custGeom>
            <a:avLst/>
            <a:gdLst/>
            <a:ahLst/>
            <a:rect l="l" t="t" r="r" b="b"/>
            <a:pathLst>
              <a:path w="590" h="499">
                <a:moveTo>
                  <a:pt x="0" y="499"/>
                </a:moveTo>
                <a:lnTo>
                  <a:pt x="0" y="0"/>
                </a:lnTo>
                <a:lnTo>
                  <a:pt x="590" y="0"/>
                </a:lnTo>
                <a:lnTo>
                  <a:pt x="590" y="49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562040" y="5894280"/>
            <a:ext cx="863640" cy="576360"/>
          </a:xfrm>
          <a:custGeom>
            <a:avLst/>
            <a:gdLst/>
            <a:ahLst/>
            <a:rect l="l" t="t" r="r" b="b"/>
            <a:pathLst>
              <a:path w="544" h="363">
                <a:moveTo>
                  <a:pt x="0" y="363"/>
                </a:moveTo>
                <a:lnTo>
                  <a:pt x="0" y="0"/>
                </a:lnTo>
                <a:lnTo>
                  <a:pt x="544" y="0"/>
                </a:lnTo>
                <a:lnTo>
                  <a:pt x="544" y="36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92200" y="6451560"/>
            <a:ext cx="216000" cy="730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93640" y="64501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455840" y="6473880"/>
            <a:ext cx="215640" cy="7308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455840" y="647208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319480" y="6472080"/>
            <a:ext cx="215640" cy="7308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319480" y="647208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60240" y="6399360"/>
            <a:ext cx="79560" cy="79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085760" y="5568840"/>
            <a:ext cx="79560" cy="7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rot="5400000">
            <a:off x="2596680" y="5851440"/>
            <a:ext cx="216000" cy="7308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674800" y="57801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448000" y="5853240"/>
            <a:ext cx="216000" cy="71280"/>
          </a:xfrm>
          <a:custGeom>
            <a:avLst/>
            <a:gdLst/>
            <a:ahLst/>
            <a:rect l="l" t="t" r="r" b="b"/>
            <a:pathLst>
              <a:path w="318" h="136">
                <a:moveTo>
                  <a:pt x="0" y="90"/>
                </a:moveTo>
                <a:lnTo>
                  <a:pt x="45" y="0"/>
                </a:lnTo>
                <a:lnTo>
                  <a:pt x="91" y="136"/>
                </a:lnTo>
                <a:lnTo>
                  <a:pt x="136" y="0"/>
                </a:lnTo>
                <a:lnTo>
                  <a:pt x="182" y="136"/>
                </a:lnTo>
                <a:lnTo>
                  <a:pt x="227" y="0"/>
                </a:lnTo>
                <a:lnTo>
                  <a:pt x="272" y="136"/>
                </a:lnTo>
                <a:lnTo>
                  <a:pt x="318" y="4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392200" y="5851440"/>
            <a:ext cx="79560" cy="7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641680" y="585144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rot="5400000">
            <a:off x="1148760" y="5860800"/>
            <a:ext cx="216000" cy="7308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301760" y="578952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301760" y="5899320"/>
            <a:ext cx="216000" cy="0"/>
          </a:xfrm>
          <a:prstGeom prst="line">
            <a:avLst/>
          </a:prstGeom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258920" y="5857920"/>
            <a:ext cx="79200" cy="79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465200" y="5856120"/>
            <a:ext cx="79560" cy="7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89040" y="3292560"/>
            <a:ext cx="974520" cy="793800"/>
          </a:xfrm>
          <a:custGeom>
            <a:avLst/>
            <a:gdLst/>
            <a:ahLst/>
            <a:rect l="l" t="t" r="r" b="b"/>
            <a:pathLst>
              <a:path w="614" h="500">
                <a:moveTo>
                  <a:pt x="8" y="500"/>
                </a:moveTo>
                <a:cubicBezTo>
                  <a:pt x="7" y="476"/>
                  <a:pt x="0" y="409"/>
                  <a:pt x="2" y="356"/>
                </a:cubicBezTo>
                <a:cubicBezTo>
                  <a:pt x="4" y="303"/>
                  <a:pt x="13" y="226"/>
                  <a:pt x="20" y="179"/>
                </a:cubicBezTo>
                <a:cubicBezTo>
                  <a:pt x="27" y="132"/>
                  <a:pt x="39" y="103"/>
                  <a:pt x="47" y="74"/>
                </a:cubicBezTo>
                <a:cubicBezTo>
                  <a:pt x="55" y="45"/>
                  <a:pt x="56" y="44"/>
                  <a:pt x="68" y="5"/>
                </a:cubicBezTo>
                <a:cubicBezTo>
                  <a:pt x="101" y="14"/>
                  <a:pt x="119" y="20"/>
                  <a:pt x="140" y="26"/>
                </a:cubicBezTo>
                <a:cubicBezTo>
                  <a:pt x="161" y="33"/>
                  <a:pt x="168" y="37"/>
                  <a:pt x="197" y="50"/>
                </a:cubicBezTo>
                <a:cubicBezTo>
                  <a:pt x="226" y="63"/>
                  <a:pt x="266" y="80"/>
                  <a:pt x="314" y="107"/>
                </a:cubicBezTo>
                <a:cubicBezTo>
                  <a:pt x="368" y="101"/>
                  <a:pt x="355" y="102"/>
                  <a:pt x="383" y="95"/>
                </a:cubicBezTo>
                <a:cubicBezTo>
                  <a:pt x="411" y="89"/>
                  <a:pt x="455" y="78"/>
                  <a:pt x="485" y="68"/>
                </a:cubicBezTo>
                <a:cubicBezTo>
                  <a:pt x="515" y="58"/>
                  <a:pt x="545" y="46"/>
                  <a:pt x="566" y="35"/>
                </a:cubicBezTo>
                <a:cubicBezTo>
                  <a:pt x="587" y="24"/>
                  <a:pt x="611" y="0"/>
                  <a:pt x="614" y="5"/>
                </a:cubicBezTo>
                <a:cubicBezTo>
                  <a:pt x="584" y="56"/>
                  <a:pt x="593" y="46"/>
                  <a:pt x="584" y="68"/>
                </a:cubicBezTo>
                <a:cubicBezTo>
                  <a:pt x="575" y="90"/>
                  <a:pt x="567" y="118"/>
                  <a:pt x="563" y="137"/>
                </a:cubicBezTo>
                <a:cubicBezTo>
                  <a:pt x="559" y="156"/>
                  <a:pt x="558" y="175"/>
                  <a:pt x="557" y="185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530360" y="3262320"/>
            <a:ext cx="79200" cy="79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298880" y="3176640"/>
            <a:ext cx="215280" cy="22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13668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136687"/>
              </a:path>
            </a:pathLst>
          </a:custGeom>
          <a:noFill/>
          <a:ln w="19080">
            <a:solidFill>
              <a:srgbClr val="99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H="1" rot="5184600">
            <a:off x="1484640" y="3354840"/>
            <a:ext cx="215280" cy="21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13668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136687"/>
              </a:path>
            </a:pathLst>
          </a:custGeom>
          <a:noFill/>
          <a:ln w="19080">
            <a:solidFill>
              <a:srgbClr val="99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673280" y="3295800"/>
            <a:ext cx="287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1649520" y="3160440"/>
            <a:ext cx="269640" cy="14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1660680" y="307188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1658880" y="3103200"/>
            <a:ext cx="125640" cy="198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068480" y="2925720"/>
            <a:ext cx="647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633680" y="3290760"/>
            <a:ext cx="666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901880" y="3171960"/>
            <a:ext cx="33120" cy="123840"/>
          </a:xfrm>
          <a:custGeom>
            <a:avLst/>
            <a:gdLst/>
            <a:ahLst/>
            <a:rect l="l" t="t" r="r" b="b"/>
            <a:pathLst>
              <a:path w="21" h="78">
                <a:moveTo>
                  <a:pt x="0" y="0"/>
                </a:moveTo>
                <a:cubicBezTo>
                  <a:pt x="3" y="6"/>
                  <a:pt x="15" y="26"/>
                  <a:pt x="18" y="39"/>
                </a:cubicBezTo>
                <a:cubicBezTo>
                  <a:pt x="21" y="52"/>
                  <a:pt x="21" y="70"/>
                  <a:pt x="21" y="78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658880" y="3089160"/>
            <a:ext cx="114480" cy="32040"/>
          </a:xfrm>
          <a:custGeom>
            <a:avLst/>
            <a:gdLst/>
            <a:ahLst/>
            <a:rect l="l" t="t" r="r" b="b"/>
            <a:pathLst>
              <a:path w="72" h="20">
                <a:moveTo>
                  <a:pt x="0" y="0"/>
                </a:moveTo>
                <a:cubicBezTo>
                  <a:pt x="7" y="0"/>
                  <a:pt x="29" y="2"/>
                  <a:pt x="41" y="5"/>
                </a:cubicBezTo>
                <a:cubicBezTo>
                  <a:pt x="53" y="8"/>
                  <a:pt x="66" y="17"/>
                  <a:pt x="72" y="2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601640" y="2871720"/>
            <a:ext cx="40968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882800" y="3100320"/>
            <a:ext cx="40968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rot="2768400">
            <a:off x="1647720" y="3753360"/>
            <a:ext cx="214560" cy="22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279828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2798284"/>
              </a:path>
            </a:pathLst>
          </a:custGeom>
          <a:noFill/>
          <a:ln w="19080">
            <a:solidFill>
              <a:srgbClr val="99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rot="3612600">
            <a:off x="1626480" y="4950360"/>
            <a:ext cx="144360" cy="54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577880" y="4740120"/>
            <a:ext cx="179640" cy="28764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 rot="4122000">
            <a:off x="1637280" y="4899960"/>
            <a:ext cx="216000" cy="22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275452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2754529"/>
              </a:path>
            </a:pathLst>
          </a:custGeom>
          <a:noFill/>
          <a:ln w="19080">
            <a:solidFill>
              <a:srgbClr val="99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rot="3612600">
            <a:off x="1620360" y="6111000"/>
            <a:ext cx="144360" cy="5400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571760" y="5900760"/>
            <a:ext cx="179280" cy="28728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rot="2768400">
            <a:off x="1636560" y="6064560"/>
            <a:ext cx="214560" cy="22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279828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2798284"/>
              </a:path>
            </a:pathLst>
          </a:custGeom>
          <a:noFill/>
          <a:ln w="19080">
            <a:solidFill>
              <a:srgbClr val="99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049400" y="3597120"/>
            <a:ext cx="216000" cy="0"/>
          </a:xfrm>
          <a:prstGeom prst="line">
            <a:avLst/>
          </a:prstGeom>
          <a:ln w="28440">
            <a:solidFill>
              <a:srgbClr val="99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044720" y="4743360"/>
            <a:ext cx="215640" cy="0"/>
          </a:xfrm>
          <a:prstGeom prst="line">
            <a:avLst/>
          </a:prstGeom>
          <a:ln w="28440">
            <a:solidFill>
              <a:srgbClr val="99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035000" y="5900760"/>
            <a:ext cx="216000" cy="0"/>
          </a:xfrm>
          <a:prstGeom prst="line">
            <a:avLst/>
          </a:prstGeom>
          <a:ln w="28440">
            <a:solidFill>
              <a:srgbClr val="99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93640" y="4368960"/>
            <a:ext cx="974880" cy="863280"/>
          </a:xfrm>
          <a:custGeom>
            <a:avLst/>
            <a:gdLst/>
            <a:ahLst/>
            <a:rect l="l" t="t" r="r" b="b"/>
            <a:pathLst>
              <a:path w="614" h="544">
                <a:moveTo>
                  <a:pt x="65" y="544"/>
                </a:moveTo>
                <a:lnTo>
                  <a:pt x="0" y="45"/>
                </a:lnTo>
                <a:lnTo>
                  <a:pt x="272" y="0"/>
                </a:lnTo>
                <a:lnTo>
                  <a:pt x="544" y="49"/>
                </a:lnTo>
                <a:lnTo>
                  <a:pt x="614" y="223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573200" y="4638600"/>
            <a:ext cx="824040" cy="669960"/>
          </a:xfrm>
          <a:custGeom>
            <a:avLst/>
            <a:gdLst/>
            <a:ahLst/>
            <a:rect l="l" t="t" r="r" b="b"/>
            <a:pathLst>
              <a:path w="519" h="422">
                <a:moveTo>
                  <a:pt x="0" y="422"/>
                </a:moveTo>
                <a:cubicBezTo>
                  <a:pt x="1" y="408"/>
                  <a:pt x="3" y="365"/>
                  <a:pt x="9" y="332"/>
                </a:cubicBezTo>
                <a:cubicBezTo>
                  <a:pt x="15" y="299"/>
                  <a:pt x="34" y="256"/>
                  <a:pt x="36" y="221"/>
                </a:cubicBezTo>
                <a:cubicBezTo>
                  <a:pt x="38" y="186"/>
                  <a:pt x="27" y="145"/>
                  <a:pt x="21" y="119"/>
                </a:cubicBezTo>
                <a:cubicBezTo>
                  <a:pt x="15" y="93"/>
                  <a:pt x="9" y="92"/>
                  <a:pt x="0" y="62"/>
                </a:cubicBezTo>
                <a:cubicBezTo>
                  <a:pt x="54" y="41"/>
                  <a:pt x="59" y="37"/>
                  <a:pt x="93" y="26"/>
                </a:cubicBezTo>
                <a:cubicBezTo>
                  <a:pt x="128" y="16"/>
                  <a:pt x="170" y="4"/>
                  <a:pt x="213" y="2"/>
                </a:cubicBezTo>
                <a:cubicBezTo>
                  <a:pt x="256" y="0"/>
                  <a:pt x="303" y="3"/>
                  <a:pt x="354" y="11"/>
                </a:cubicBezTo>
                <a:cubicBezTo>
                  <a:pt x="405" y="19"/>
                  <a:pt x="485" y="42"/>
                  <a:pt x="519" y="5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587600" y="4748040"/>
            <a:ext cx="230040" cy="125640"/>
          </a:xfrm>
          <a:prstGeom prst="line">
            <a:avLst/>
          </a:prstGeom>
          <a:ln w="64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706400" y="4862520"/>
            <a:ext cx="8604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0"/>
                </a:moveTo>
                <a:cubicBezTo>
                  <a:pt x="50" y="6"/>
                  <a:pt x="37" y="27"/>
                  <a:pt x="28" y="36"/>
                </a:cubicBezTo>
                <a:cubicBezTo>
                  <a:pt x="19" y="45"/>
                  <a:pt x="6" y="50"/>
                  <a:pt x="0" y="54"/>
                </a:cubicBezTo>
              </a:path>
            </a:pathLst>
          </a:custGeom>
          <a:noFill/>
          <a:ln w="6480">
            <a:solidFill>
              <a:srgbClr val="990033"/>
            </a:solidFill>
            <a:round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851120" y="4775040"/>
            <a:ext cx="623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754280" y="4916520"/>
            <a:ext cx="169920" cy="22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184480" y="3005280"/>
            <a:ext cx="777960" cy="45396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213080" y="3587760"/>
            <a:ext cx="863640" cy="576360"/>
          </a:xfrm>
          <a:custGeom>
            <a:avLst/>
            <a:gdLst/>
            <a:ahLst/>
            <a:rect l="l" t="t" r="r" b="b"/>
            <a:pathLst>
              <a:path w="544" h="363">
                <a:moveTo>
                  <a:pt x="0" y="363"/>
                </a:moveTo>
                <a:lnTo>
                  <a:pt x="0" y="0"/>
                </a:lnTo>
                <a:lnTo>
                  <a:pt x="544" y="0"/>
                </a:lnTo>
                <a:lnTo>
                  <a:pt x="544" y="36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9" name=""/>
              <p:cNvSpPr txBox="1"/>
              <p:nvPr/>
            </p:nvSpPr>
            <p:spPr>
              <a:xfrm>
                <a:off x="1800360" y="3841920"/>
                <a:ext cx="27936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793800" y="3390840"/>
                <a:ext cx="2840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1763640" y="4994280"/>
                <a:ext cx="3031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2" name=""/>
              <p:cNvSpPr txBox="1"/>
              <p:nvPr/>
            </p:nvSpPr>
            <p:spPr>
              <a:xfrm>
                <a:off x="770040" y="4537080"/>
                <a:ext cx="2998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3" name=""/>
              <p:cNvSpPr txBox="1"/>
              <p:nvPr/>
            </p:nvSpPr>
            <p:spPr>
              <a:xfrm>
                <a:off x="781200" y="5713560"/>
                <a:ext cx="2826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4" name=""/>
          <p:cNvSpPr/>
          <p:nvPr/>
        </p:nvSpPr>
        <p:spPr>
          <a:xfrm>
            <a:off x="714240" y="5603760"/>
            <a:ext cx="976320" cy="795600"/>
          </a:xfrm>
          <a:custGeom>
            <a:avLst/>
            <a:gdLst/>
            <a:ahLst/>
            <a:rect l="l" t="t" r="r" b="b"/>
            <a:pathLst>
              <a:path w="615" h="501">
                <a:moveTo>
                  <a:pt x="0" y="501"/>
                </a:moveTo>
                <a:lnTo>
                  <a:pt x="81" y="3"/>
                </a:lnTo>
                <a:lnTo>
                  <a:pt x="336" y="63"/>
                </a:lnTo>
                <a:lnTo>
                  <a:pt x="615" y="0"/>
                </a:lnTo>
                <a:lnTo>
                  <a:pt x="615" y="183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519200" y="5568840"/>
            <a:ext cx="79560" cy="7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711440" y="612288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565280" y="5899320"/>
            <a:ext cx="125280" cy="571320"/>
          </a:xfrm>
          <a:custGeom>
            <a:avLst/>
            <a:gdLst/>
            <a:ahLst/>
            <a:rect l="l" t="t" r="r" b="b"/>
            <a:pathLst>
              <a:path w="79" h="360">
                <a:moveTo>
                  <a:pt x="1" y="360"/>
                </a:moveTo>
                <a:cubicBezTo>
                  <a:pt x="2" y="350"/>
                  <a:pt x="0" y="323"/>
                  <a:pt x="4" y="300"/>
                </a:cubicBezTo>
                <a:cubicBezTo>
                  <a:pt x="8" y="277"/>
                  <a:pt x="16" y="248"/>
                  <a:pt x="25" y="219"/>
                </a:cubicBezTo>
                <a:cubicBezTo>
                  <a:pt x="34" y="190"/>
                  <a:pt x="53" y="154"/>
                  <a:pt x="61" y="126"/>
                </a:cubicBezTo>
                <a:cubicBezTo>
                  <a:pt x="69" y="98"/>
                  <a:pt x="73" y="72"/>
                  <a:pt x="76" y="51"/>
                </a:cubicBezTo>
                <a:cubicBezTo>
                  <a:pt x="79" y="30"/>
                  <a:pt x="78" y="11"/>
                  <a:pt x="79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427120" y="5899320"/>
            <a:ext cx="123840" cy="571320"/>
          </a:xfrm>
          <a:custGeom>
            <a:avLst/>
            <a:gdLst/>
            <a:ahLst/>
            <a:rect l="l" t="t" r="r" b="b"/>
            <a:pathLst>
              <a:path w="78" h="360">
                <a:moveTo>
                  <a:pt x="0" y="360"/>
                </a:moveTo>
                <a:cubicBezTo>
                  <a:pt x="1" y="350"/>
                  <a:pt x="1" y="322"/>
                  <a:pt x="3" y="300"/>
                </a:cubicBezTo>
                <a:cubicBezTo>
                  <a:pt x="5" y="278"/>
                  <a:pt x="8" y="257"/>
                  <a:pt x="13" y="228"/>
                </a:cubicBezTo>
                <a:cubicBezTo>
                  <a:pt x="18" y="199"/>
                  <a:pt x="27" y="156"/>
                  <a:pt x="34" y="126"/>
                </a:cubicBezTo>
                <a:cubicBezTo>
                  <a:pt x="41" y="96"/>
                  <a:pt x="51" y="66"/>
                  <a:pt x="58" y="45"/>
                </a:cubicBezTo>
                <a:cubicBezTo>
                  <a:pt x="65" y="24"/>
                  <a:pt x="74" y="9"/>
                  <a:pt x="78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2719440" y="58910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557360" y="5784840"/>
            <a:ext cx="144360" cy="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643040" y="5610240"/>
            <a:ext cx="623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646360" y="5510160"/>
            <a:ext cx="5954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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349800" y="4441680"/>
            <a:ext cx="863280" cy="863640"/>
          </a:xfrm>
          <a:custGeom>
            <a:avLst/>
            <a:gdLst/>
            <a:ahLst/>
            <a:rect l="l" t="t" r="r" b="b"/>
            <a:pathLst>
              <a:path w="590" h="499">
                <a:moveTo>
                  <a:pt x="0" y="499"/>
                </a:moveTo>
                <a:lnTo>
                  <a:pt x="0" y="0"/>
                </a:lnTo>
                <a:lnTo>
                  <a:pt x="590" y="0"/>
                </a:lnTo>
                <a:lnTo>
                  <a:pt x="590" y="49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348000" y="5592600"/>
            <a:ext cx="863640" cy="863640"/>
          </a:xfrm>
          <a:custGeom>
            <a:avLst/>
            <a:gdLst/>
            <a:ahLst/>
            <a:rect l="l" t="t" r="r" b="b"/>
            <a:pathLst>
              <a:path w="590" h="499">
                <a:moveTo>
                  <a:pt x="0" y="499"/>
                </a:moveTo>
                <a:lnTo>
                  <a:pt x="0" y="0"/>
                </a:lnTo>
                <a:lnTo>
                  <a:pt x="590" y="0"/>
                </a:lnTo>
                <a:lnTo>
                  <a:pt x="590" y="49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995640" y="3300480"/>
            <a:ext cx="216000" cy="28728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136" y="181"/>
                </a:moveTo>
                <a:lnTo>
                  <a:pt x="0" y="181"/>
                </a:lnTo>
                <a:lnTo>
                  <a:pt x="45" y="0"/>
                </a:lnTo>
                <a:lnTo>
                  <a:pt x="136" y="0"/>
                </a:lnTo>
              </a:path>
            </a:pathLst>
          </a:custGeom>
          <a:blipFill rotWithShape="0">
            <a:blip r:embed="rId31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348000" y="3110040"/>
            <a:ext cx="863640" cy="368280"/>
          </a:xfrm>
          <a:custGeom>
            <a:avLst/>
            <a:gdLst/>
            <a:ahLst/>
            <a:rect l="l" t="t" r="r" b="b"/>
            <a:pathLst>
              <a:path w="544" h="232">
                <a:moveTo>
                  <a:pt x="543" y="123"/>
                </a:moveTo>
                <a:lnTo>
                  <a:pt x="544" y="232"/>
                </a:lnTo>
                <a:lnTo>
                  <a:pt x="0" y="0"/>
                </a:lnTo>
                <a:lnTo>
                  <a:pt x="0" y="120"/>
                </a:lnTo>
              </a:path>
            </a:pathLst>
          </a:custGeom>
          <a:blipFill rotWithShape="0">
            <a:blip r:embed="rId32">
              <a:alphaModFix amt="26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157560" y="3305160"/>
            <a:ext cx="190440" cy="863640"/>
          </a:xfrm>
          <a:custGeom>
            <a:avLst/>
            <a:gdLst/>
            <a:ahLst/>
            <a:rect l="l" t="t" r="r" b="b"/>
            <a:pathLst>
              <a:path w="120" h="544">
                <a:moveTo>
                  <a:pt x="120" y="0"/>
                </a:moveTo>
                <a:lnTo>
                  <a:pt x="0" y="0"/>
                </a:lnTo>
                <a:lnTo>
                  <a:pt x="120" y="544"/>
                </a:lnTo>
              </a:path>
            </a:pathLst>
          </a:custGeom>
          <a:blipFill rotWithShape="0">
            <a:blip r:embed="rId33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349800" y="3300480"/>
            <a:ext cx="863280" cy="863640"/>
          </a:xfrm>
          <a:custGeom>
            <a:avLst/>
            <a:gdLst/>
            <a:ahLst/>
            <a:rect l="l" t="t" r="r" b="b"/>
            <a:pathLst>
              <a:path w="590" h="499">
                <a:moveTo>
                  <a:pt x="0" y="499"/>
                </a:moveTo>
                <a:lnTo>
                  <a:pt x="0" y="0"/>
                </a:lnTo>
                <a:lnTo>
                  <a:pt x="590" y="0"/>
                </a:lnTo>
                <a:lnTo>
                  <a:pt x="590" y="49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086360" y="4727520"/>
            <a:ext cx="352440" cy="571680"/>
          </a:xfrm>
          <a:custGeom>
            <a:avLst/>
            <a:gdLst/>
            <a:ahLst/>
            <a:rect l="l" t="t" r="r" b="b"/>
            <a:pathLst>
              <a:path w="222" h="360">
                <a:moveTo>
                  <a:pt x="81" y="360"/>
                </a:moveTo>
                <a:lnTo>
                  <a:pt x="0" y="360"/>
                </a:lnTo>
                <a:lnTo>
                  <a:pt x="222" y="0"/>
                </a:lnTo>
                <a:lnTo>
                  <a:pt x="79" y="1"/>
                </a:lnTo>
              </a:path>
            </a:pathLst>
          </a:custGeom>
          <a:blipFill rotWithShape="0">
            <a:blip r:embed="rId34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211640" y="4513320"/>
            <a:ext cx="865080" cy="216000"/>
          </a:xfrm>
          <a:custGeom>
            <a:avLst/>
            <a:gdLst/>
            <a:ahLst/>
            <a:rect l="l" t="t" r="r" b="b"/>
            <a:pathLst>
              <a:path w="545" h="136">
                <a:moveTo>
                  <a:pt x="0" y="136"/>
                </a:moveTo>
                <a:lnTo>
                  <a:pt x="0" y="0"/>
                </a:lnTo>
                <a:lnTo>
                  <a:pt x="545" y="136"/>
                </a:lnTo>
              </a:path>
            </a:pathLst>
          </a:custGeom>
          <a:blipFill rotWithShape="0">
            <a:blip r:embed="rId35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4213080" y="4729320"/>
            <a:ext cx="863640" cy="576000"/>
          </a:xfrm>
          <a:custGeom>
            <a:avLst/>
            <a:gdLst/>
            <a:ahLst/>
            <a:rect l="l" t="t" r="r" b="b"/>
            <a:pathLst>
              <a:path w="544" h="363">
                <a:moveTo>
                  <a:pt x="0" y="363"/>
                </a:moveTo>
                <a:lnTo>
                  <a:pt x="0" y="0"/>
                </a:lnTo>
                <a:lnTo>
                  <a:pt x="544" y="0"/>
                </a:lnTo>
                <a:lnTo>
                  <a:pt x="544" y="36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995640" y="5880240"/>
            <a:ext cx="438120" cy="571320"/>
          </a:xfrm>
          <a:custGeom>
            <a:avLst/>
            <a:gdLst/>
            <a:ahLst/>
            <a:rect l="l" t="t" r="r" b="b"/>
            <a:pathLst>
              <a:path w="276" h="360">
                <a:moveTo>
                  <a:pt x="135" y="360"/>
                </a:moveTo>
                <a:lnTo>
                  <a:pt x="0" y="360"/>
                </a:lnTo>
                <a:lnTo>
                  <a:pt x="276" y="0"/>
                </a:lnTo>
                <a:lnTo>
                  <a:pt x="133" y="1"/>
                </a:lnTo>
              </a:path>
            </a:pathLst>
          </a:custGeom>
          <a:blipFill rotWithShape="0">
            <a:blip r:embed="rId36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932360" y="5875200"/>
            <a:ext cx="141120" cy="569880"/>
          </a:xfrm>
          <a:custGeom>
            <a:avLst/>
            <a:gdLst/>
            <a:ahLst/>
            <a:rect l="l" t="t" r="r" b="b"/>
            <a:pathLst>
              <a:path w="135" h="359">
                <a:moveTo>
                  <a:pt x="135" y="359"/>
                </a:moveTo>
                <a:lnTo>
                  <a:pt x="0" y="359"/>
                </a:lnTo>
                <a:lnTo>
                  <a:pt x="133" y="0"/>
                </a:lnTo>
              </a:path>
            </a:pathLst>
          </a:custGeom>
          <a:blipFill rotWithShape="0">
            <a:blip r:embed="rId37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4211640" y="5880240"/>
            <a:ext cx="863640" cy="576000"/>
          </a:xfrm>
          <a:custGeom>
            <a:avLst/>
            <a:gdLst/>
            <a:ahLst/>
            <a:rect l="l" t="t" r="r" b="b"/>
            <a:pathLst>
              <a:path w="544" h="363">
                <a:moveTo>
                  <a:pt x="0" y="363"/>
                </a:moveTo>
                <a:lnTo>
                  <a:pt x="0" y="0"/>
                </a:lnTo>
                <a:lnTo>
                  <a:pt x="544" y="0"/>
                </a:lnTo>
                <a:lnTo>
                  <a:pt x="544" y="36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885960" y="3762360"/>
            <a:ext cx="503280" cy="35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876240" y="3768840"/>
            <a:ext cx="59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890640" y="4913280"/>
            <a:ext cx="503280" cy="35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871560" y="4919760"/>
            <a:ext cx="59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95320" y="6067440"/>
            <a:ext cx="503280" cy="35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76240" y="6073920"/>
            <a:ext cx="59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rot="16200000">
            <a:off x="-1395360" y="4618080"/>
            <a:ext cx="360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Единичные состояния ОСС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559320" y="3736800"/>
            <a:ext cx="436320" cy="432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554280" y="3751200"/>
            <a:ext cx="517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808440" y="3587760"/>
            <a:ext cx="431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933720" y="3097080"/>
            <a:ext cx="2602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4149720" y="3365640"/>
            <a:ext cx="2602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3213000" y="2909880"/>
            <a:ext cx="2602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963880" y="3189240"/>
            <a:ext cx="2602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1457280" y="4444920"/>
            <a:ext cx="0" cy="144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460520" y="4451400"/>
            <a:ext cx="31680" cy="84240"/>
          </a:xfrm>
          <a:custGeom>
            <a:avLst/>
            <a:gdLst/>
            <a:ahLst/>
            <a:rect l="l" t="t" r="r" b="b"/>
            <a:pathLst>
              <a:path w="20" h="53">
                <a:moveTo>
                  <a:pt x="0" y="0"/>
                </a:moveTo>
                <a:lnTo>
                  <a:pt x="2" y="53"/>
                </a:lnTo>
                <a:lnTo>
                  <a:pt x="20" y="4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324080" y="4421160"/>
            <a:ext cx="126720" cy="31680"/>
          </a:xfrm>
          <a:custGeom>
            <a:avLst/>
            <a:gdLst/>
            <a:ahLst/>
            <a:rect l="l" t="t" r="r" b="b"/>
            <a:pathLst>
              <a:path w="80" h="20">
                <a:moveTo>
                  <a:pt x="80" y="14"/>
                </a:moveTo>
                <a:lnTo>
                  <a:pt x="0" y="0"/>
                </a:lnTo>
                <a:lnTo>
                  <a:pt x="2" y="20"/>
                </a:lnTo>
                <a:lnTo>
                  <a:pt x="80" y="1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231920" y="4452840"/>
            <a:ext cx="3776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204920" y="4173480"/>
            <a:ext cx="40968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1693800" y="4287960"/>
                <a:ext cx="103680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75" name=""/>
          <p:cNvSpPr/>
          <p:nvPr/>
        </p:nvSpPr>
        <p:spPr>
          <a:xfrm>
            <a:off x="1638360" y="4302000"/>
            <a:ext cx="1133280" cy="287640"/>
          </a:xfrm>
          <a:prstGeom prst="rect">
            <a:avLst/>
          </a:prstGeom>
          <a:noFill/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564000" y="4686480"/>
            <a:ext cx="436680" cy="43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3559320" y="4700520"/>
            <a:ext cx="517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168800" y="428004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332240" y="4680000"/>
            <a:ext cx="69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530520" y="5124600"/>
            <a:ext cx="69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 flipH="1" flipV="1">
            <a:off x="1402560" y="5489640"/>
            <a:ext cx="17640" cy="10800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0"/>
                </a:moveTo>
                <a:cubicBezTo>
                  <a:pt x="50" y="6"/>
                  <a:pt x="37" y="27"/>
                  <a:pt x="28" y="36"/>
                </a:cubicBezTo>
                <a:cubicBezTo>
                  <a:pt x="19" y="45"/>
                  <a:pt x="6" y="50"/>
                  <a:pt x="0" y="54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419120" y="5664240"/>
            <a:ext cx="34920" cy="96840"/>
          </a:xfrm>
          <a:custGeom>
            <a:avLst/>
            <a:gdLst/>
            <a:ahLst/>
            <a:rect l="l" t="t" r="r" b="b"/>
            <a:pathLst>
              <a:path w="22" h="61">
                <a:moveTo>
                  <a:pt x="0" y="0"/>
                </a:moveTo>
                <a:cubicBezTo>
                  <a:pt x="2" y="7"/>
                  <a:pt x="10" y="35"/>
                  <a:pt x="14" y="45"/>
                </a:cubicBezTo>
                <a:cubicBezTo>
                  <a:pt x="18" y="55"/>
                  <a:pt x="20" y="58"/>
                  <a:pt x="22" y="6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116000" y="5292720"/>
            <a:ext cx="40968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1787400" y="5391000"/>
                <a:ext cx="59868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5" name=""/>
          <p:cNvSpPr/>
          <p:nvPr/>
        </p:nvSpPr>
        <p:spPr>
          <a:xfrm>
            <a:off x="1744560" y="5424480"/>
            <a:ext cx="665280" cy="252360"/>
          </a:xfrm>
          <a:prstGeom prst="rect">
            <a:avLst/>
          </a:prstGeom>
          <a:noFill/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3568680" y="5856120"/>
            <a:ext cx="436680" cy="432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3564000" y="5870520"/>
            <a:ext cx="517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4200480" y="5673600"/>
            <a:ext cx="7192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313160" y="6305400"/>
            <a:ext cx="83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5148360" y="3730680"/>
                <a:ext cx="18968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09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5156280" y="4302000"/>
                <a:ext cx="130644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4/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5183280" y="4562640"/>
                <a:ext cx="1157040" cy="30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/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5203800" y="5003640"/>
                <a:ext cx="128124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EI</m:t>
                    </m:r>
                    <m:f>
                      <m:fPr>
                        <m:type m:val="lin"/>
                      </m:fPr>
                      <m:num>
                        <m:r>
                          <m:t xml:space="preserve"> </m:t>
                        </m:r>
                      </m:num>
                      <m:den>
                        <m:r>
                          <m:t xml:space="preserve"> </m:t>
                        </m:r>
                      </m:den>
                    </m:f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4" name=""/>
          <p:cNvSpPr/>
          <p:nvPr/>
        </p:nvSpPr>
        <p:spPr>
          <a:xfrm>
            <a:off x="7507440" y="5656320"/>
            <a:ext cx="214200" cy="280800"/>
          </a:xfrm>
          <a:custGeom>
            <a:avLst/>
            <a:gdLst/>
            <a:ahLst/>
            <a:rect l="l" t="t" r="r" b="b"/>
            <a:pathLst>
              <a:path w="135" h="359">
                <a:moveTo>
                  <a:pt x="135" y="359"/>
                </a:moveTo>
                <a:lnTo>
                  <a:pt x="0" y="359"/>
                </a:lnTo>
                <a:lnTo>
                  <a:pt x="133" y="0"/>
                </a:lnTo>
              </a:path>
            </a:pathLst>
          </a:custGeom>
          <a:blipFill rotWithShape="0">
            <a:blip r:embed="rId38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885080" y="6073920"/>
            <a:ext cx="541440" cy="36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92920" y="6046920"/>
            <a:ext cx="7556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(кН</a:t>
            </a:r>
            <a:r>
              <a:rPr b="1" lang="ru-RU" sz="800" spc="-1" strike="noStrike" baseline="-25000">
                <a:solidFill>
                  <a:srgbClr val="000000"/>
                </a:solidFill>
                <a:latin typeface="Times New Roman"/>
              </a:rPr>
              <a:t> * 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853320" y="5662440"/>
            <a:ext cx="147600" cy="857520"/>
          </a:xfrm>
          <a:custGeom>
            <a:avLst/>
            <a:gdLst/>
            <a:ahLst/>
            <a:rect l="l" t="t" r="r" b="b"/>
            <a:pathLst>
              <a:path w="93" h="540">
                <a:moveTo>
                  <a:pt x="0" y="0"/>
                </a:moveTo>
                <a:cubicBezTo>
                  <a:pt x="8" y="16"/>
                  <a:pt x="37" y="67"/>
                  <a:pt x="51" y="99"/>
                </a:cubicBezTo>
                <a:cubicBezTo>
                  <a:pt x="65" y="131"/>
                  <a:pt x="77" y="167"/>
                  <a:pt x="84" y="195"/>
                </a:cubicBezTo>
                <a:cubicBezTo>
                  <a:pt x="91" y="223"/>
                  <a:pt x="93" y="246"/>
                  <a:pt x="93" y="270"/>
                </a:cubicBezTo>
                <a:cubicBezTo>
                  <a:pt x="93" y="294"/>
                  <a:pt x="93" y="313"/>
                  <a:pt x="87" y="342"/>
                </a:cubicBezTo>
                <a:cubicBezTo>
                  <a:pt x="81" y="371"/>
                  <a:pt x="68" y="411"/>
                  <a:pt x="54" y="444"/>
                </a:cubicBezTo>
                <a:cubicBezTo>
                  <a:pt x="40" y="477"/>
                  <a:pt x="11" y="520"/>
                  <a:pt x="0" y="540"/>
                </a:cubicBezTo>
              </a:path>
            </a:pathLst>
          </a:custGeom>
          <a:blipFill rotWithShape="0">
            <a:blip r:embed="rId39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851520" y="5656320"/>
            <a:ext cx="863640" cy="863640"/>
          </a:xfrm>
          <a:custGeom>
            <a:avLst/>
            <a:gdLst/>
            <a:ahLst/>
            <a:rect l="l" t="t" r="r" b="b"/>
            <a:pathLst>
              <a:path w="590" h="499">
                <a:moveTo>
                  <a:pt x="0" y="499"/>
                </a:moveTo>
                <a:lnTo>
                  <a:pt x="0" y="0"/>
                </a:lnTo>
                <a:lnTo>
                  <a:pt x="590" y="0"/>
                </a:lnTo>
                <a:lnTo>
                  <a:pt x="590" y="49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858000" y="609768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7192800" y="5853240"/>
            <a:ext cx="4320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939000" y="5996160"/>
            <a:ext cx="431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7715160" y="5838840"/>
            <a:ext cx="870120" cy="185760"/>
          </a:xfrm>
          <a:custGeom>
            <a:avLst/>
            <a:gdLst/>
            <a:ahLst/>
            <a:rect l="l" t="t" r="r" b="b"/>
            <a:pathLst>
              <a:path w="548" h="117">
                <a:moveTo>
                  <a:pt x="4" y="66"/>
                </a:moveTo>
                <a:lnTo>
                  <a:pt x="0" y="0"/>
                </a:lnTo>
                <a:lnTo>
                  <a:pt x="279" y="117"/>
                </a:lnTo>
                <a:lnTo>
                  <a:pt x="548" y="66"/>
                </a:lnTo>
              </a:path>
            </a:pathLst>
          </a:custGeom>
          <a:blipFill rotWithShape="0">
            <a:blip r:embed="rId40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8158320" y="5948280"/>
            <a:ext cx="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7715160" y="5943600"/>
            <a:ext cx="863640" cy="576360"/>
          </a:xfrm>
          <a:custGeom>
            <a:avLst/>
            <a:gdLst/>
            <a:ahLst/>
            <a:rect l="l" t="t" r="r" b="b"/>
            <a:pathLst>
              <a:path w="544" h="363">
                <a:moveTo>
                  <a:pt x="0" y="363"/>
                </a:moveTo>
                <a:lnTo>
                  <a:pt x="0" y="0"/>
                </a:lnTo>
                <a:lnTo>
                  <a:pt x="544" y="0"/>
                </a:lnTo>
                <a:lnTo>
                  <a:pt x="544" y="36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7674120" y="5641920"/>
            <a:ext cx="431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831000" y="4640400"/>
            <a:ext cx="863640" cy="863640"/>
          </a:xfrm>
          <a:custGeom>
            <a:avLst/>
            <a:gdLst/>
            <a:ahLst/>
            <a:rect l="l" t="t" r="r" b="b"/>
            <a:pathLst>
              <a:path w="590" h="499">
                <a:moveTo>
                  <a:pt x="0" y="499"/>
                </a:moveTo>
                <a:lnTo>
                  <a:pt x="0" y="0"/>
                </a:lnTo>
                <a:lnTo>
                  <a:pt x="590" y="0"/>
                </a:lnTo>
                <a:lnTo>
                  <a:pt x="590" y="49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7694640" y="4927680"/>
            <a:ext cx="863640" cy="576360"/>
          </a:xfrm>
          <a:custGeom>
            <a:avLst/>
            <a:gdLst/>
            <a:ahLst/>
            <a:rect l="l" t="t" r="r" b="b"/>
            <a:pathLst>
              <a:path w="544" h="363">
                <a:moveTo>
                  <a:pt x="0" y="363"/>
                </a:moveTo>
                <a:lnTo>
                  <a:pt x="0" y="0"/>
                </a:lnTo>
                <a:lnTo>
                  <a:pt x="544" y="0"/>
                </a:lnTo>
                <a:lnTo>
                  <a:pt x="544" y="36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724800" y="5484960"/>
            <a:ext cx="215640" cy="7272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6726240" y="54831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7588080" y="5506920"/>
            <a:ext cx="216000" cy="7308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7588080" y="55054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8451720" y="5505480"/>
            <a:ext cx="216000" cy="7308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8451720" y="55054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792840" y="5432400"/>
            <a:ext cx="79560" cy="7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7218360" y="4602240"/>
            <a:ext cx="79200" cy="79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rot="5400000">
            <a:off x="8729640" y="4884840"/>
            <a:ext cx="216000" cy="7272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8807400" y="48132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8580600" y="4886280"/>
            <a:ext cx="215640" cy="71640"/>
          </a:xfrm>
          <a:custGeom>
            <a:avLst/>
            <a:gdLst/>
            <a:ahLst/>
            <a:rect l="l" t="t" r="r" b="b"/>
            <a:pathLst>
              <a:path w="318" h="136">
                <a:moveTo>
                  <a:pt x="0" y="90"/>
                </a:moveTo>
                <a:lnTo>
                  <a:pt x="45" y="0"/>
                </a:lnTo>
                <a:lnTo>
                  <a:pt x="91" y="136"/>
                </a:lnTo>
                <a:lnTo>
                  <a:pt x="136" y="0"/>
                </a:lnTo>
                <a:lnTo>
                  <a:pt x="182" y="136"/>
                </a:lnTo>
                <a:lnTo>
                  <a:pt x="227" y="0"/>
                </a:lnTo>
                <a:lnTo>
                  <a:pt x="272" y="136"/>
                </a:lnTo>
                <a:lnTo>
                  <a:pt x="318" y="4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8524800" y="4884840"/>
            <a:ext cx="79560" cy="79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8774280" y="488484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 rot="5400000">
            <a:off x="7281720" y="4894200"/>
            <a:ext cx="215640" cy="7308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7434360" y="482292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7434360" y="4932360"/>
            <a:ext cx="215640" cy="0"/>
          </a:xfrm>
          <a:prstGeom prst="line">
            <a:avLst/>
          </a:prstGeom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7391520" y="4890960"/>
            <a:ext cx="79200" cy="7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597800" y="4889520"/>
            <a:ext cx="79200" cy="79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rot="3612600">
            <a:off x="7749720" y="5139360"/>
            <a:ext cx="144360" cy="54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7704000" y="4929120"/>
            <a:ext cx="179640" cy="28728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6848640" y="4549680"/>
            <a:ext cx="936360" cy="876240"/>
          </a:xfrm>
          <a:custGeom>
            <a:avLst/>
            <a:gdLst/>
            <a:ahLst/>
            <a:rect l="l" t="t" r="r" b="b"/>
            <a:pathLst>
              <a:path w="590" h="552">
                <a:moveTo>
                  <a:pt x="0" y="552"/>
                </a:moveTo>
                <a:cubicBezTo>
                  <a:pt x="7" y="535"/>
                  <a:pt x="31" y="491"/>
                  <a:pt x="42" y="450"/>
                </a:cubicBezTo>
                <a:cubicBezTo>
                  <a:pt x="53" y="409"/>
                  <a:pt x="65" y="354"/>
                  <a:pt x="69" y="306"/>
                </a:cubicBezTo>
                <a:cubicBezTo>
                  <a:pt x="73" y="258"/>
                  <a:pt x="71" y="200"/>
                  <a:pt x="69" y="159"/>
                </a:cubicBezTo>
                <a:cubicBezTo>
                  <a:pt x="67" y="118"/>
                  <a:pt x="69" y="114"/>
                  <a:pt x="57" y="60"/>
                </a:cubicBezTo>
                <a:cubicBezTo>
                  <a:pt x="195" y="24"/>
                  <a:pt x="150" y="36"/>
                  <a:pt x="303" y="0"/>
                </a:cubicBezTo>
                <a:cubicBezTo>
                  <a:pt x="486" y="33"/>
                  <a:pt x="366" y="12"/>
                  <a:pt x="590" y="57"/>
                </a:cubicBezTo>
                <a:cubicBezTo>
                  <a:pt x="560" y="108"/>
                  <a:pt x="569" y="98"/>
                  <a:pt x="560" y="120"/>
                </a:cubicBezTo>
                <a:cubicBezTo>
                  <a:pt x="551" y="142"/>
                  <a:pt x="543" y="170"/>
                  <a:pt x="539" y="189"/>
                </a:cubicBezTo>
                <a:cubicBezTo>
                  <a:pt x="535" y="208"/>
                  <a:pt x="534" y="227"/>
                  <a:pt x="533" y="237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7651800" y="4602240"/>
            <a:ext cx="79200" cy="79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7783560" y="4405320"/>
            <a:ext cx="0" cy="233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7780320" y="4433760"/>
            <a:ext cx="11916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783560" y="4429080"/>
            <a:ext cx="100080" cy="28800"/>
          </a:xfrm>
          <a:custGeom>
            <a:avLst/>
            <a:gdLst/>
            <a:ahLst/>
            <a:rect l="l" t="t" r="r" b="b"/>
            <a:pathLst>
              <a:path w="63" h="18">
                <a:moveTo>
                  <a:pt x="0" y="0"/>
                </a:moveTo>
                <a:cubicBezTo>
                  <a:pt x="5" y="1"/>
                  <a:pt x="23" y="3"/>
                  <a:pt x="33" y="6"/>
                </a:cubicBezTo>
                <a:cubicBezTo>
                  <a:pt x="43" y="9"/>
                  <a:pt x="57" y="16"/>
                  <a:pt x="63" y="18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 rot="2768400">
            <a:off x="7769160" y="5093280"/>
            <a:ext cx="214560" cy="22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279828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2798284"/>
              </a:path>
            </a:pathLst>
          </a:custGeom>
          <a:noFill/>
          <a:ln w="19080">
            <a:solidFill>
              <a:srgbClr val="99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7097760" y="4932360"/>
            <a:ext cx="287280" cy="0"/>
          </a:xfrm>
          <a:prstGeom prst="line">
            <a:avLst/>
          </a:prstGeom>
          <a:ln w="28440">
            <a:solidFill>
              <a:srgbClr val="99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7074000" y="5159520"/>
            <a:ext cx="372960" cy="358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7088040" y="5165640"/>
            <a:ext cx="3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7861320" y="5183280"/>
            <a:ext cx="527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900840" y="4586400"/>
            <a:ext cx="527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7710480" y="4930920"/>
            <a:ext cx="819000" cy="71280"/>
          </a:xfrm>
          <a:custGeom>
            <a:avLst/>
            <a:gdLst/>
            <a:ahLst/>
            <a:rect l="l" t="t" r="r" b="b"/>
            <a:pathLst>
              <a:path w="516" h="45">
                <a:moveTo>
                  <a:pt x="0" y="0"/>
                </a:moveTo>
                <a:cubicBezTo>
                  <a:pt x="9" y="1"/>
                  <a:pt x="31" y="3"/>
                  <a:pt x="54" y="6"/>
                </a:cubicBezTo>
                <a:cubicBezTo>
                  <a:pt x="77" y="9"/>
                  <a:pt x="114" y="16"/>
                  <a:pt x="141" y="21"/>
                </a:cubicBezTo>
                <a:cubicBezTo>
                  <a:pt x="168" y="26"/>
                  <a:pt x="188" y="32"/>
                  <a:pt x="219" y="36"/>
                </a:cubicBezTo>
                <a:cubicBezTo>
                  <a:pt x="250" y="40"/>
                  <a:pt x="295" y="45"/>
                  <a:pt x="327" y="45"/>
                </a:cubicBezTo>
                <a:cubicBezTo>
                  <a:pt x="359" y="45"/>
                  <a:pt x="383" y="42"/>
                  <a:pt x="414" y="36"/>
                </a:cubicBezTo>
                <a:cubicBezTo>
                  <a:pt x="445" y="30"/>
                  <a:pt x="495" y="15"/>
                  <a:pt x="516" y="9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7561440" y="4483080"/>
            <a:ext cx="26640" cy="108000"/>
          </a:xfrm>
          <a:custGeom>
            <a:avLst/>
            <a:gdLst/>
            <a:ahLst/>
            <a:rect l="l" t="t" r="r" b="b"/>
            <a:pathLst>
              <a:path w="17" h="68">
                <a:moveTo>
                  <a:pt x="0" y="68"/>
                </a:moveTo>
                <a:cubicBezTo>
                  <a:pt x="1" y="61"/>
                  <a:pt x="6" y="37"/>
                  <a:pt x="9" y="26"/>
                </a:cubicBezTo>
                <a:cubicBezTo>
                  <a:pt x="12" y="15"/>
                  <a:pt x="15" y="5"/>
                  <a:pt x="17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7556400" y="4648320"/>
            <a:ext cx="25560" cy="110880"/>
          </a:xfrm>
          <a:custGeom>
            <a:avLst/>
            <a:gdLst/>
            <a:ahLst/>
            <a:rect l="l" t="t" r="r" b="b"/>
            <a:pathLst>
              <a:path w="16" h="70">
                <a:moveTo>
                  <a:pt x="0" y="0"/>
                </a:moveTo>
                <a:cubicBezTo>
                  <a:pt x="1" y="8"/>
                  <a:pt x="3" y="34"/>
                  <a:pt x="6" y="46"/>
                </a:cubicBezTo>
                <a:cubicBezTo>
                  <a:pt x="9" y="58"/>
                  <a:pt x="14" y="65"/>
                  <a:pt x="16" y="7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7716960" y="4202280"/>
            <a:ext cx="40932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7426440" y="4265640"/>
            <a:ext cx="40932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8147160" y="46339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678720" y="4645080"/>
            <a:ext cx="14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672240" y="4788000"/>
            <a:ext cx="14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675480" y="4932360"/>
            <a:ext cx="14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675480" y="5076720"/>
            <a:ext cx="14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6675480" y="5364000"/>
            <a:ext cx="14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6675480" y="5221440"/>
            <a:ext cx="14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672240" y="548316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672240" y="464184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7866000" y="4570560"/>
            <a:ext cx="3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6588000" y="4365720"/>
            <a:ext cx="273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7035840" y="3768840"/>
            <a:ext cx="194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Грузовое состояние ОСС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8058240" y="4206960"/>
            <a:ext cx="772920" cy="39528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5003640" y="5445000"/>
                <a:ext cx="180036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  <m:e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I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8" name=""/>
          <p:cNvSpPr/>
          <p:nvPr/>
        </p:nvSpPr>
        <p:spPr>
          <a:xfrm>
            <a:off x="5130720" y="6296040"/>
            <a:ext cx="172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7;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 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–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3367080" y="6359400"/>
            <a:ext cx="7192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041880" y="2887560"/>
            <a:ext cx="2827440" cy="920880"/>
          </a:xfrm>
          <a:custGeom>
            <a:avLst/>
            <a:gdLst/>
            <a:ahLst/>
            <a:rect l="l" t="t" r="r" b="b"/>
            <a:pathLst>
              <a:path w="1781" h="529">
                <a:moveTo>
                  <a:pt x="20" y="492"/>
                </a:moveTo>
                <a:cubicBezTo>
                  <a:pt x="0" y="455"/>
                  <a:pt x="12" y="359"/>
                  <a:pt x="12" y="284"/>
                </a:cubicBezTo>
                <a:cubicBezTo>
                  <a:pt x="12" y="209"/>
                  <a:pt x="0" y="88"/>
                  <a:pt x="20" y="44"/>
                </a:cubicBezTo>
                <a:cubicBezTo>
                  <a:pt x="40" y="0"/>
                  <a:pt x="55" y="24"/>
                  <a:pt x="132" y="20"/>
                </a:cubicBezTo>
                <a:cubicBezTo>
                  <a:pt x="209" y="16"/>
                  <a:pt x="369" y="20"/>
                  <a:pt x="484" y="20"/>
                </a:cubicBezTo>
                <a:cubicBezTo>
                  <a:pt x="599" y="20"/>
                  <a:pt x="715" y="20"/>
                  <a:pt x="820" y="20"/>
                </a:cubicBezTo>
                <a:cubicBezTo>
                  <a:pt x="925" y="20"/>
                  <a:pt x="1020" y="20"/>
                  <a:pt x="1116" y="20"/>
                </a:cubicBezTo>
                <a:cubicBezTo>
                  <a:pt x="1212" y="20"/>
                  <a:pt x="1305" y="20"/>
                  <a:pt x="1396" y="20"/>
                </a:cubicBezTo>
                <a:cubicBezTo>
                  <a:pt x="1487" y="20"/>
                  <a:pt x="1599" y="13"/>
                  <a:pt x="1660" y="20"/>
                </a:cubicBezTo>
                <a:cubicBezTo>
                  <a:pt x="1721" y="27"/>
                  <a:pt x="1747" y="20"/>
                  <a:pt x="1764" y="60"/>
                </a:cubicBezTo>
                <a:cubicBezTo>
                  <a:pt x="1781" y="100"/>
                  <a:pt x="1765" y="193"/>
                  <a:pt x="1764" y="260"/>
                </a:cubicBezTo>
                <a:cubicBezTo>
                  <a:pt x="1763" y="327"/>
                  <a:pt x="1767" y="417"/>
                  <a:pt x="1756" y="460"/>
                </a:cubicBezTo>
                <a:cubicBezTo>
                  <a:pt x="1745" y="503"/>
                  <a:pt x="1761" y="505"/>
                  <a:pt x="1700" y="516"/>
                </a:cubicBezTo>
                <a:cubicBezTo>
                  <a:pt x="1639" y="527"/>
                  <a:pt x="1507" y="523"/>
                  <a:pt x="1388" y="524"/>
                </a:cubicBezTo>
                <a:cubicBezTo>
                  <a:pt x="1269" y="525"/>
                  <a:pt x="1140" y="524"/>
                  <a:pt x="988" y="524"/>
                </a:cubicBezTo>
                <a:cubicBezTo>
                  <a:pt x="836" y="524"/>
                  <a:pt x="619" y="524"/>
                  <a:pt x="476" y="524"/>
                </a:cubicBezTo>
                <a:cubicBezTo>
                  <a:pt x="333" y="524"/>
                  <a:pt x="208" y="529"/>
                  <a:pt x="132" y="524"/>
                </a:cubicBezTo>
                <a:cubicBezTo>
                  <a:pt x="56" y="519"/>
                  <a:pt x="43" y="499"/>
                  <a:pt x="20" y="492"/>
                </a:cubicBezTo>
                <a:close/>
              </a:path>
            </a:pathLst>
          </a:custGeom>
          <a:blipFill rotWithShape="0">
            <a:blip r:embed="rId47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 rot="1458000">
            <a:off x="3635280" y="2736720"/>
            <a:ext cx="2517840" cy="144720"/>
          </a:xfrm>
          <a:prstGeom prst="leftArrow">
            <a:avLst>
              <a:gd name="adj1" fmla="val 34463"/>
              <a:gd name="adj2" fmla="val 1753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rot="2506200">
            <a:off x="2511000" y="3227400"/>
            <a:ext cx="2987640" cy="144360"/>
          </a:xfrm>
          <a:prstGeom prst="leftArrow">
            <a:avLst>
              <a:gd name="adj1" fmla="val 34463"/>
              <a:gd name="adj2" fmla="val 2085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5202360" y="4807080"/>
                <a:ext cx="93636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EI</m:t>
                    </m:r>
                    <m:f>
                      <m:fPr>
                        <m:type m:val="lin"/>
                      </m:fPr>
                      <m:num>
                        <m:r>
                          <m:t xml:space="preserve"> </m:t>
                        </m:r>
                      </m:num>
                      <m:den>
                        <m:r>
                          <m:t xml:space="preserve"> </m:t>
                        </m:r>
                      </m:den>
                    </m:f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5200560" y="5234040"/>
                <a:ext cx="113508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rPr>
                        <m:lit/>
                        <m:nor/>
                      </m:rPr>
                      <m:t xml:space="preserve">EI</m:t>
                    </m:r>
                    <m:f>
                      <m:fPr>
                        <m:type m:val="lin"/>
                      </m:fPr>
                      <m:num>
                        <m:r>
                          <m:t xml:space="preserve"> </m:t>
                        </m:r>
                      </m:num>
                      <m:den>
                        <m:r>
                          <m:t xml:space="preserve">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5" name=""/>
          <p:cNvSpPr/>
          <p:nvPr/>
        </p:nvSpPr>
        <p:spPr>
          <a:xfrm>
            <a:off x="5146560" y="3716280"/>
            <a:ext cx="2017800" cy="2913120"/>
          </a:xfrm>
          <a:custGeom>
            <a:avLst/>
            <a:gdLst/>
            <a:ahLst/>
            <a:rect l="l" t="t" r="r" b="b"/>
            <a:pathLst>
              <a:path w="1271" h="1835">
                <a:moveTo>
                  <a:pt x="11" y="1685"/>
                </a:moveTo>
                <a:cubicBezTo>
                  <a:pt x="0" y="1559"/>
                  <a:pt x="7" y="1230"/>
                  <a:pt x="7" y="973"/>
                </a:cubicBezTo>
                <a:cubicBezTo>
                  <a:pt x="7" y="716"/>
                  <a:pt x="1" y="302"/>
                  <a:pt x="11" y="151"/>
                </a:cubicBezTo>
                <a:cubicBezTo>
                  <a:pt x="21" y="0"/>
                  <a:pt x="18" y="80"/>
                  <a:pt x="66" y="65"/>
                </a:cubicBezTo>
                <a:cubicBezTo>
                  <a:pt x="114" y="50"/>
                  <a:pt x="168" y="59"/>
                  <a:pt x="300" y="59"/>
                </a:cubicBezTo>
                <a:cubicBezTo>
                  <a:pt x="432" y="59"/>
                  <a:pt x="721" y="65"/>
                  <a:pt x="858" y="65"/>
                </a:cubicBezTo>
                <a:cubicBezTo>
                  <a:pt x="995" y="65"/>
                  <a:pt x="1057" y="58"/>
                  <a:pt x="1122" y="59"/>
                </a:cubicBezTo>
                <a:cubicBezTo>
                  <a:pt x="1187" y="60"/>
                  <a:pt x="1230" y="24"/>
                  <a:pt x="1248" y="71"/>
                </a:cubicBezTo>
                <a:cubicBezTo>
                  <a:pt x="1266" y="118"/>
                  <a:pt x="1271" y="293"/>
                  <a:pt x="1230" y="341"/>
                </a:cubicBezTo>
                <a:cubicBezTo>
                  <a:pt x="1189" y="389"/>
                  <a:pt x="1041" y="339"/>
                  <a:pt x="1002" y="359"/>
                </a:cubicBezTo>
                <a:cubicBezTo>
                  <a:pt x="963" y="379"/>
                  <a:pt x="996" y="384"/>
                  <a:pt x="996" y="461"/>
                </a:cubicBezTo>
                <a:cubicBezTo>
                  <a:pt x="996" y="538"/>
                  <a:pt x="1002" y="668"/>
                  <a:pt x="1002" y="821"/>
                </a:cubicBezTo>
                <a:cubicBezTo>
                  <a:pt x="1002" y="974"/>
                  <a:pt x="988" y="1244"/>
                  <a:pt x="996" y="1379"/>
                </a:cubicBezTo>
                <a:cubicBezTo>
                  <a:pt x="1004" y="1514"/>
                  <a:pt x="1044" y="1560"/>
                  <a:pt x="1050" y="1631"/>
                </a:cubicBezTo>
                <a:cubicBezTo>
                  <a:pt x="1056" y="1702"/>
                  <a:pt x="1076" y="1775"/>
                  <a:pt x="1032" y="1805"/>
                </a:cubicBezTo>
                <a:cubicBezTo>
                  <a:pt x="988" y="1835"/>
                  <a:pt x="865" y="1810"/>
                  <a:pt x="786" y="1811"/>
                </a:cubicBezTo>
                <a:cubicBezTo>
                  <a:pt x="707" y="1812"/>
                  <a:pt x="643" y="1811"/>
                  <a:pt x="558" y="1811"/>
                </a:cubicBezTo>
                <a:cubicBezTo>
                  <a:pt x="473" y="1811"/>
                  <a:pt x="358" y="1811"/>
                  <a:pt x="276" y="1811"/>
                </a:cubicBezTo>
                <a:cubicBezTo>
                  <a:pt x="194" y="1811"/>
                  <a:pt x="110" y="1832"/>
                  <a:pt x="66" y="1811"/>
                </a:cubicBezTo>
                <a:cubicBezTo>
                  <a:pt x="22" y="1790"/>
                  <a:pt x="22" y="1711"/>
                  <a:pt x="11" y="1685"/>
                </a:cubicBezTo>
                <a:close/>
              </a:path>
            </a:pathLst>
          </a:custGeom>
          <a:blipFill rotWithShape="0">
            <a:blip r:embed="rId48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6110280" y="2908440"/>
                <a:ext cx="267336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  <m:r>
                                  <m:t xml:space="preserve"> 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 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7" name=""/>
          <p:cNvSpPr/>
          <p:nvPr/>
        </p:nvSpPr>
        <p:spPr>
          <a:xfrm>
            <a:off x="6210360" y="322272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6716880" y="30211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0" dur="indefinite" restart="never" nodeType="tmRoot">
          <p:childTnLst>
            <p:seq>
              <p:cTn id="2371" dur="indefinite" nodeType="mainSeq">
                <p:childTnLst>
                  <p:par>
                    <p:cTn id="2372" fill="hold">
                      <p:stCondLst>
                        <p:cond delay="indefinite"/>
                      </p:stCondLst>
                      <p:childTnLst>
                        <p:par>
                          <p:cTn id="2373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5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8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81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84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87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0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3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6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2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5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8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11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14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17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20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23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26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29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2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5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8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1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4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7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50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53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56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59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2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5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8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71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74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77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80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83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86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8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2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5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8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01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04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07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0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3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6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2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5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8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31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34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37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0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3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6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0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1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2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5" dur="1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6" dur="1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7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9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62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65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9" dur="1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0" dur="1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1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4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6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 Narrow"/>
              </a:rPr>
              <a:t>РАСЧЁТ СТАТИЧЕСКИ НЕОПРЕДЕЛИМЫХ СИСТЕМ СМЕШАННЫМ МЕТ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3720960" y="58248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П р и м е 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180040" y="1084320"/>
            <a:ext cx="1611360" cy="1670040"/>
          </a:xfrm>
          <a:custGeom>
            <a:avLst/>
            <a:gdLst/>
            <a:ahLst/>
            <a:rect l="l" t="t" r="r" b="b"/>
            <a:pathLst>
              <a:path w="962" h="1052">
                <a:moveTo>
                  <a:pt x="221" y="1004"/>
                </a:moveTo>
                <a:cubicBezTo>
                  <a:pt x="211" y="1032"/>
                  <a:pt x="199" y="1034"/>
                  <a:pt x="173" y="1040"/>
                </a:cubicBezTo>
                <a:cubicBezTo>
                  <a:pt x="147" y="1046"/>
                  <a:pt x="91" y="1052"/>
                  <a:pt x="64" y="1042"/>
                </a:cubicBezTo>
                <a:cubicBezTo>
                  <a:pt x="37" y="1032"/>
                  <a:pt x="21" y="1033"/>
                  <a:pt x="11" y="980"/>
                </a:cubicBezTo>
                <a:cubicBezTo>
                  <a:pt x="1" y="927"/>
                  <a:pt x="6" y="823"/>
                  <a:pt x="5" y="722"/>
                </a:cubicBezTo>
                <a:cubicBezTo>
                  <a:pt x="4" y="621"/>
                  <a:pt x="3" y="481"/>
                  <a:pt x="5" y="374"/>
                </a:cubicBezTo>
                <a:cubicBezTo>
                  <a:pt x="7" y="267"/>
                  <a:pt x="0" y="140"/>
                  <a:pt x="17" y="80"/>
                </a:cubicBezTo>
                <a:cubicBezTo>
                  <a:pt x="34" y="20"/>
                  <a:pt x="36" y="26"/>
                  <a:pt x="106" y="13"/>
                </a:cubicBezTo>
                <a:cubicBezTo>
                  <a:pt x="176" y="0"/>
                  <a:pt x="335" y="4"/>
                  <a:pt x="437" y="2"/>
                </a:cubicBezTo>
                <a:cubicBezTo>
                  <a:pt x="539" y="0"/>
                  <a:pt x="640" y="0"/>
                  <a:pt x="719" y="2"/>
                </a:cubicBezTo>
                <a:cubicBezTo>
                  <a:pt x="798" y="4"/>
                  <a:pt x="874" y="0"/>
                  <a:pt x="913" y="13"/>
                </a:cubicBezTo>
                <a:cubicBezTo>
                  <a:pt x="952" y="26"/>
                  <a:pt x="946" y="30"/>
                  <a:pt x="953" y="80"/>
                </a:cubicBezTo>
                <a:cubicBezTo>
                  <a:pt x="960" y="130"/>
                  <a:pt x="962" y="268"/>
                  <a:pt x="955" y="314"/>
                </a:cubicBezTo>
                <a:cubicBezTo>
                  <a:pt x="948" y="360"/>
                  <a:pt x="941" y="350"/>
                  <a:pt x="913" y="356"/>
                </a:cubicBezTo>
                <a:cubicBezTo>
                  <a:pt x="885" y="363"/>
                  <a:pt x="820" y="363"/>
                  <a:pt x="786" y="356"/>
                </a:cubicBezTo>
                <a:cubicBezTo>
                  <a:pt x="752" y="349"/>
                  <a:pt x="742" y="322"/>
                  <a:pt x="707" y="314"/>
                </a:cubicBezTo>
                <a:cubicBezTo>
                  <a:pt x="672" y="306"/>
                  <a:pt x="618" y="309"/>
                  <a:pt x="575" y="308"/>
                </a:cubicBezTo>
                <a:cubicBezTo>
                  <a:pt x="532" y="307"/>
                  <a:pt x="499" y="307"/>
                  <a:pt x="449" y="308"/>
                </a:cubicBezTo>
                <a:cubicBezTo>
                  <a:pt x="399" y="309"/>
                  <a:pt x="310" y="301"/>
                  <a:pt x="275" y="314"/>
                </a:cubicBezTo>
                <a:cubicBezTo>
                  <a:pt x="240" y="327"/>
                  <a:pt x="246" y="336"/>
                  <a:pt x="239" y="386"/>
                </a:cubicBezTo>
                <a:cubicBezTo>
                  <a:pt x="232" y="436"/>
                  <a:pt x="234" y="547"/>
                  <a:pt x="233" y="613"/>
                </a:cubicBezTo>
                <a:cubicBezTo>
                  <a:pt x="232" y="679"/>
                  <a:pt x="233" y="743"/>
                  <a:pt x="233" y="785"/>
                </a:cubicBezTo>
                <a:cubicBezTo>
                  <a:pt x="233" y="828"/>
                  <a:pt x="235" y="834"/>
                  <a:pt x="233" y="870"/>
                </a:cubicBezTo>
                <a:cubicBezTo>
                  <a:pt x="231" y="906"/>
                  <a:pt x="232" y="976"/>
                  <a:pt x="221" y="1004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507000" y="1512720"/>
            <a:ext cx="1949760" cy="1224000"/>
          </a:xfrm>
          <a:custGeom>
            <a:avLst/>
            <a:gdLst/>
            <a:ahLst/>
            <a:rect l="l" t="t" r="r" b="b"/>
            <a:pathLst>
              <a:path w="1157" h="707">
                <a:moveTo>
                  <a:pt x="7" y="554"/>
                </a:moveTo>
                <a:cubicBezTo>
                  <a:pt x="7" y="486"/>
                  <a:pt x="6" y="318"/>
                  <a:pt x="7" y="237"/>
                </a:cubicBezTo>
                <a:cubicBezTo>
                  <a:pt x="8" y="156"/>
                  <a:pt x="0" y="108"/>
                  <a:pt x="15" y="70"/>
                </a:cubicBezTo>
                <a:cubicBezTo>
                  <a:pt x="30" y="32"/>
                  <a:pt x="54" y="20"/>
                  <a:pt x="98" y="10"/>
                </a:cubicBezTo>
                <a:cubicBezTo>
                  <a:pt x="142" y="0"/>
                  <a:pt x="166" y="10"/>
                  <a:pt x="279" y="10"/>
                </a:cubicBezTo>
                <a:cubicBezTo>
                  <a:pt x="392" y="10"/>
                  <a:pt x="642" y="10"/>
                  <a:pt x="778" y="10"/>
                </a:cubicBezTo>
                <a:cubicBezTo>
                  <a:pt x="914" y="10"/>
                  <a:pt x="1035" y="2"/>
                  <a:pt x="1096" y="10"/>
                </a:cubicBezTo>
                <a:cubicBezTo>
                  <a:pt x="1157" y="18"/>
                  <a:pt x="1134" y="25"/>
                  <a:pt x="1141" y="55"/>
                </a:cubicBezTo>
                <a:cubicBezTo>
                  <a:pt x="1148" y="85"/>
                  <a:pt x="1155" y="164"/>
                  <a:pt x="1141" y="191"/>
                </a:cubicBezTo>
                <a:cubicBezTo>
                  <a:pt x="1127" y="218"/>
                  <a:pt x="1074" y="182"/>
                  <a:pt x="1059" y="220"/>
                </a:cubicBezTo>
                <a:cubicBezTo>
                  <a:pt x="1044" y="258"/>
                  <a:pt x="1051" y="355"/>
                  <a:pt x="1050" y="418"/>
                </a:cubicBezTo>
                <a:cubicBezTo>
                  <a:pt x="1049" y="481"/>
                  <a:pt x="1057" y="555"/>
                  <a:pt x="1050" y="600"/>
                </a:cubicBezTo>
                <a:cubicBezTo>
                  <a:pt x="1043" y="645"/>
                  <a:pt x="1080" y="673"/>
                  <a:pt x="1005" y="690"/>
                </a:cubicBezTo>
                <a:cubicBezTo>
                  <a:pt x="930" y="707"/>
                  <a:pt x="724" y="698"/>
                  <a:pt x="597" y="700"/>
                </a:cubicBezTo>
                <a:cubicBezTo>
                  <a:pt x="470" y="702"/>
                  <a:pt x="334" y="702"/>
                  <a:pt x="243" y="700"/>
                </a:cubicBezTo>
                <a:cubicBezTo>
                  <a:pt x="152" y="698"/>
                  <a:pt x="91" y="699"/>
                  <a:pt x="52" y="690"/>
                </a:cubicBezTo>
                <a:cubicBezTo>
                  <a:pt x="13" y="681"/>
                  <a:pt x="14" y="668"/>
                  <a:pt x="7" y="645"/>
                </a:cubicBezTo>
                <a:cubicBezTo>
                  <a:pt x="0" y="622"/>
                  <a:pt x="7" y="622"/>
                  <a:pt x="7" y="554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397480" y="1268280"/>
            <a:ext cx="1295280" cy="1295640"/>
          </a:xfrm>
          <a:custGeom>
            <a:avLst/>
            <a:gdLst/>
            <a:ahLst/>
            <a:rect l="l" t="t" r="r" b="b"/>
            <a:pathLst>
              <a:path w="953" h="862">
                <a:moveTo>
                  <a:pt x="0" y="862"/>
                </a:moveTo>
                <a:lnTo>
                  <a:pt x="0" y="0"/>
                </a:lnTo>
                <a:lnTo>
                  <a:pt x="953" y="0"/>
                </a:lnTo>
                <a:lnTo>
                  <a:pt x="953" y="86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6692760" y="1700280"/>
            <a:ext cx="1297080" cy="863640"/>
          </a:xfrm>
          <a:custGeom>
            <a:avLst/>
            <a:gdLst/>
            <a:ahLst/>
            <a:rect l="l" t="t" r="r" b="b"/>
            <a:pathLst>
              <a:path w="817" h="544">
                <a:moveTo>
                  <a:pt x="0" y="0"/>
                </a:moveTo>
                <a:lnTo>
                  <a:pt x="817" y="0"/>
                </a:lnTo>
                <a:lnTo>
                  <a:pt x="817" y="5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283360" y="2563920"/>
            <a:ext cx="215640" cy="73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283360" y="25639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6578640" y="2563920"/>
            <a:ext cx="216000" cy="73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578640" y="25639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7875720" y="2563920"/>
            <a:ext cx="215640" cy="73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7875720" y="25639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rot="5400000">
            <a:off x="8224200" y="1657080"/>
            <a:ext cx="216000" cy="73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8302680" y="15858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8037360" y="1658880"/>
            <a:ext cx="216000" cy="71640"/>
          </a:xfrm>
          <a:custGeom>
            <a:avLst/>
            <a:gdLst/>
            <a:ahLst/>
            <a:rect l="l" t="t" r="r" b="b"/>
            <a:pathLst>
              <a:path w="318" h="136">
                <a:moveTo>
                  <a:pt x="0" y="90"/>
                </a:moveTo>
                <a:lnTo>
                  <a:pt x="45" y="0"/>
                </a:lnTo>
                <a:lnTo>
                  <a:pt x="91" y="136"/>
                </a:lnTo>
                <a:lnTo>
                  <a:pt x="136" y="0"/>
                </a:lnTo>
                <a:lnTo>
                  <a:pt x="182" y="136"/>
                </a:lnTo>
                <a:lnTo>
                  <a:pt x="227" y="0"/>
                </a:lnTo>
                <a:lnTo>
                  <a:pt x="272" y="136"/>
                </a:lnTo>
                <a:lnTo>
                  <a:pt x="318" y="4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002280" y="1217520"/>
            <a:ext cx="90720" cy="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7947000" y="1647720"/>
            <a:ext cx="90360" cy="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8250120" y="1644480"/>
            <a:ext cx="90720" cy="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181480" y="12700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181480" y="127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181480" y="1486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5181480" y="170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181480" y="191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181480" y="213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181480" y="234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518148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5349960" y="251316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342200" y="133200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5129280" y="917640"/>
            <a:ext cx="3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178760" y="1047600"/>
            <a:ext cx="3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7970760" y="1330200"/>
            <a:ext cx="43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642000" y="121608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 rot="5400000">
            <a:off x="6200640" y="1666800"/>
            <a:ext cx="215640" cy="73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6353280" y="159552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6353280" y="1700280"/>
            <a:ext cx="287280" cy="0"/>
          </a:xfrm>
          <a:prstGeom prst="line">
            <a:avLst/>
          </a:prstGeom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6310440" y="165420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588000" y="1657440"/>
            <a:ext cx="9072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 rot="3612600">
            <a:off x="6750360" y="1967760"/>
            <a:ext cx="179280" cy="73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699240" y="1704960"/>
            <a:ext cx="216000" cy="360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409080" y="1144440"/>
            <a:ext cx="215280" cy="22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13668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136687"/>
              </a:path>
            </a:pathLst>
          </a:custGeom>
          <a:noFill/>
          <a:ln w="19080">
            <a:solidFill>
              <a:srgbClr val="99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flipH="1" rot="5184600">
            <a:off x="6594840" y="1323000"/>
            <a:ext cx="215280" cy="21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13668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136687"/>
              </a:path>
            </a:pathLst>
          </a:custGeom>
          <a:noFill/>
          <a:ln w="19080">
            <a:solidFill>
              <a:srgbClr val="99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6251400" y="1263600"/>
            <a:ext cx="4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908760" y="1832040"/>
            <a:ext cx="4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877080" y="1523880"/>
            <a:ext cx="0" cy="216000"/>
          </a:xfrm>
          <a:prstGeom prst="line">
            <a:avLst/>
          </a:prstGeom>
          <a:ln w="64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702480" y="1571760"/>
            <a:ext cx="179280" cy="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718320" y="1719360"/>
            <a:ext cx="360360" cy="144360"/>
          </a:xfrm>
          <a:prstGeom prst="line">
            <a:avLst/>
          </a:prstGeom>
          <a:ln w="64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6891480" y="1847880"/>
            <a:ext cx="142560" cy="166680"/>
          </a:xfrm>
          <a:custGeom>
            <a:avLst/>
            <a:gdLst/>
            <a:ahLst/>
            <a:rect l="l" t="t" r="r" b="b"/>
            <a:pathLst>
              <a:path w="90" h="105">
                <a:moveTo>
                  <a:pt x="0" y="105"/>
                </a:moveTo>
                <a:cubicBezTo>
                  <a:pt x="9" y="97"/>
                  <a:pt x="39" y="77"/>
                  <a:pt x="54" y="60"/>
                </a:cubicBezTo>
                <a:cubicBezTo>
                  <a:pt x="69" y="43"/>
                  <a:pt x="83" y="12"/>
                  <a:pt x="90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6827760" y="1357200"/>
            <a:ext cx="4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668920" y="1835280"/>
            <a:ext cx="755640" cy="769680"/>
          </a:xfrm>
          <a:prstGeom prst="rect">
            <a:avLst/>
          </a:prstGeom>
          <a:solidFill>
            <a:srgbClr val="c8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5506920" y="736560"/>
            <a:ext cx="10810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Статиче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определим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773760" y="2185920"/>
            <a:ext cx="11527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Кинематиче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определим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948360" y="765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 Black"/>
              </a:rPr>
              <a:t>ОС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5048280" y="2708280"/>
            <a:ext cx="3809880" cy="2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Канонические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уравнения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 c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мешанного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метода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709560" y="3300480"/>
            <a:ext cx="863640" cy="863640"/>
          </a:xfrm>
          <a:custGeom>
            <a:avLst/>
            <a:gdLst/>
            <a:ahLst/>
            <a:rect l="l" t="t" r="r" b="b"/>
            <a:pathLst>
              <a:path w="590" h="499">
                <a:moveTo>
                  <a:pt x="0" y="499"/>
                </a:moveTo>
                <a:lnTo>
                  <a:pt x="0" y="0"/>
                </a:lnTo>
                <a:lnTo>
                  <a:pt x="590" y="0"/>
                </a:lnTo>
                <a:lnTo>
                  <a:pt x="590" y="49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573200" y="3587760"/>
            <a:ext cx="863640" cy="576360"/>
          </a:xfrm>
          <a:custGeom>
            <a:avLst/>
            <a:gdLst/>
            <a:ahLst/>
            <a:rect l="l" t="t" r="r" b="b"/>
            <a:pathLst>
              <a:path w="544" h="363">
                <a:moveTo>
                  <a:pt x="0" y="363"/>
                </a:moveTo>
                <a:lnTo>
                  <a:pt x="0" y="0"/>
                </a:lnTo>
                <a:lnTo>
                  <a:pt x="544" y="0"/>
                </a:lnTo>
                <a:lnTo>
                  <a:pt x="544" y="36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603360" y="4145040"/>
            <a:ext cx="215640" cy="73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04800" y="41432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467000" y="4167360"/>
            <a:ext cx="215640" cy="727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467000" y="416556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2330280" y="4165560"/>
            <a:ext cx="216000" cy="73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330280" y="41655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671400" y="4092480"/>
            <a:ext cx="79560" cy="7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1096920" y="3262320"/>
            <a:ext cx="79560" cy="79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 rot="5400000">
            <a:off x="2608200" y="3544920"/>
            <a:ext cx="216000" cy="72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685960" y="3473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2459160" y="3546360"/>
            <a:ext cx="215640" cy="71640"/>
          </a:xfrm>
          <a:custGeom>
            <a:avLst/>
            <a:gdLst/>
            <a:ahLst/>
            <a:rect l="l" t="t" r="r" b="b"/>
            <a:pathLst>
              <a:path w="318" h="136">
                <a:moveTo>
                  <a:pt x="0" y="90"/>
                </a:moveTo>
                <a:lnTo>
                  <a:pt x="45" y="0"/>
                </a:lnTo>
                <a:lnTo>
                  <a:pt x="91" y="136"/>
                </a:lnTo>
                <a:lnTo>
                  <a:pt x="136" y="0"/>
                </a:lnTo>
                <a:lnTo>
                  <a:pt x="182" y="136"/>
                </a:lnTo>
                <a:lnTo>
                  <a:pt x="227" y="0"/>
                </a:lnTo>
                <a:lnTo>
                  <a:pt x="272" y="136"/>
                </a:lnTo>
                <a:lnTo>
                  <a:pt x="318" y="4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403360" y="3544920"/>
            <a:ext cx="79560" cy="79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652840" y="354492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rot="5400000">
            <a:off x="1159920" y="3554280"/>
            <a:ext cx="216000" cy="730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1312920" y="34830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1312920" y="3592440"/>
            <a:ext cx="216000" cy="0"/>
          </a:xfrm>
          <a:prstGeom prst="line">
            <a:avLst/>
          </a:prstGeom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270080" y="3551400"/>
            <a:ext cx="79200" cy="79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476360" y="3549600"/>
            <a:ext cx="79560" cy="7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 rot="3612600">
            <a:off x="1628280" y="3799440"/>
            <a:ext cx="144360" cy="540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1582560" y="3589200"/>
            <a:ext cx="179640" cy="28764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708120" y="4448160"/>
            <a:ext cx="863640" cy="863640"/>
          </a:xfrm>
          <a:custGeom>
            <a:avLst/>
            <a:gdLst/>
            <a:ahLst/>
            <a:rect l="l" t="t" r="r" b="b"/>
            <a:pathLst>
              <a:path w="590" h="499">
                <a:moveTo>
                  <a:pt x="0" y="499"/>
                </a:moveTo>
                <a:lnTo>
                  <a:pt x="0" y="0"/>
                </a:lnTo>
                <a:lnTo>
                  <a:pt x="590" y="0"/>
                </a:lnTo>
                <a:lnTo>
                  <a:pt x="590" y="49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1571760" y="4735440"/>
            <a:ext cx="863640" cy="576360"/>
          </a:xfrm>
          <a:custGeom>
            <a:avLst/>
            <a:gdLst/>
            <a:ahLst/>
            <a:rect l="l" t="t" r="r" b="b"/>
            <a:pathLst>
              <a:path w="544" h="363">
                <a:moveTo>
                  <a:pt x="0" y="363"/>
                </a:moveTo>
                <a:lnTo>
                  <a:pt x="0" y="0"/>
                </a:lnTo>
                <a:lnTo>
                  <a:pt x="544" y="0"/>
                </a:lnTo>
                <a:lnTo>
                  <a:pt x="544" y="36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601560" y="5292720"/>
            <a:ext cx="216000" cy="730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603360" y="529128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465200" y="5300640"/>
            <a:ext cx="216000" cy="730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465200" y="53132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328840" y="5300640"/>
            <a:ext cx="216000" cy="730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2328840" y="53132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69960" y="5240160"/>
            <a:ext cx="79200" cy="7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095480" y="4410000"/>
            <a:ext cx="79200" cy="7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528920" y="4410000"/>
            <a:ext cx="79200" cy="7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 rot="5400000">
            <a:off x="2606400" y="4692600"/>
            <a:ext cx="215640" cy="730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684520" y="462132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457360" y="4694400"/>
            <a:ext cx="216000" cy="71280"/>
          </a:xfrm>
          <a:custGeom>
            <a:avLst/>
            <a:gdLst/>
            <a:ahLst/>
            <a:rect l="l" t="t" r="r" b="b"/>
            <a:pathLst>
              <a:path w="318" h="136">
                <a:moveTo>
                  <a:pt x="0" y="90"/>
                </a:moveTo>
                <a:lnTo>
                  <a:pt x="45" y="0"/>
                </a:lnTo>
                <a:lnTo>
                  <a:pt x="91" y="136"/>
                </a:lnTo>
                <a:lnTo>
                  <a:pt x="136" y="0"/>
                </a:lnTo>
                <a:lnTo>
                  <a:pt x="182" y="136"/>
                </a:lnTo>
                <a:lnTo>
                  <a:pt x="227" y="0"/>
                </a:lnTo>
                <a:lnTo>
                  <a:pt x="272" y="136"/>
                </a:lnTo>
                <a:lnTo>
                  <a:pt x="318" y="4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401920" y="4692600"/>
            <a:ext cx="79200" cy="7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651040" y="4692600"/>
            <a:ext cx="7164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rot="5400000">
            <a:off x="1158840" y="4702320"/>
            <a:ext cx="216000" cy="727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311120" y="46306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1311120" y="4740120"/>
            <a:ext cx="216000" cy="0"/>
          </a:xfrm>
          <a:prstGeom prst="line">
            <a:avLst/>
          </a:prstGeom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268280" y="4699080"/>
            <a:ext cx="79560" cy="79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1474920" y="4697280"/>
            <a:ext cx="79200" cy="7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98400" y="5607000"/>
            <a:ext cx="863640" cy="863640"/>
          </a:xfrm>
          <a:custGeom>
            <a:avLst/>
            <a:gdLst/>
            <a:ahLst/>
            <a:rect l="l" t="t" r="r" b="b"/>
            <a:pathLst>
              <a:path w="590" h="499">
                <a:moveTo>
                  <a:pt x="0" y="499"/>
                </a:moveTo>
                <a:lnTo>
                  <a:pt x="0" y="0"/>
                </a:lnTo>
                <a:lnTo>
                  <a:pt x="590" y="0"/>
                </a:lnTo>
                <a:lnTo>
                  <a:pt x="590" y="49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1562040" y="5894280"/>
            <a:ext cx="863640" cy="576360"/>
          </a:xfrm>
          <a:custGeom>
            <a:avLst/>
            <a:gdLst/>
            <a:ahLst/>
            <a:rect l="l" t="t" r="r" b="b"/>
            <a:pathLst>
              <a:path w="544" h="363">
                <a:moveTo>
                  <a:pt x="0" y="363"/>
                </a:moveTo>
                <a:lnTo>
                  <a:pt x="0" y="0"/>
                </a:lnTo>
                <a:lnTo>
                  <a:pt x="544" y="0"/>
                </a:lnTo>
                <a:lnTo>
                  <a:pt x="544" y="36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592200" y="6451560"/>
            <a:ext cx="216000" cy="730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593640" y="64501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1455840" y="6473880"/>
            <a:ext cx="215640" cy="730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1455840" y="647208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2319480" y="6472080"/>
            <a:ext cx="215640" cy="730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319480" y="647208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60240" y="6399360"/>
            <a:ext cx="79560" cy="79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1085760" y="5568840"/>
            <a:ext cx="79560" cy="7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 rot="5400000">
            <a:off x="2596680" y="5851440"/>
            <a:ext cx="216000" cy="730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674800" y="57801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448000" y="5853240"/>
            <a:ext cx="216000" cy="71280"/>
          </a:xfrm>
          <a:custGeom>
            <a:avLst/>
            <a:gdLst/>
            <a:ahLst/>
            <a:rect l="l" t="t" r="r" b="b"/>
            <a:pathLst>
              <a:path w="318" h="136">
                <a:moveTo>
                  <a:pt x="0" y="90"/>
                </a:moveTo>
                <a:lnTo>
                  <a:pt x="45" y="0"/>
                </a:lnTo>
                <a:lnTo>
                  <a:pt x="91" y="136"/>
                </a:lnTo>
                <a:lnTo>
                  <a:pt x="136" y="0"/>
                </a:lnTo>
                <a:lnTo>
                  <a:pt x="182" y="136"/>
                </a:lnTo>
                <a:lnTo>
                  <a:pt x="227" y="0"/>
                </a:lnTo>
                <a:lnTo>
                  <a:pt x="272" y="136"/>
                </a:lnTo>
                <a:lnTo>
                  <a:pt x="318" y="4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392200" y="5851440"/>
            <a:ext cx="79560" cy="7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2641680" y="5851440"/>
            <a:ext cx="712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 rot="5400000">
            <a:off x="1148760" y="5860800"/>
            <a:ext cx="216000" cy="730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301760" y="578952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301760" y="5899320"/>
            <a:ext cx="216000" cy="0"/>
          </a:xfrm>
          <a:prstGeom prst="line">
            <a:avLst/>
          </a:prstGeom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258920" y="5857920"/>
            <a:ext cx="79200" cy="79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1465200" y="5856120"/>
            <a:ext cx="79560" cy="7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89040" y="3292560"/>
            <a:ext cx="974520" cy="793800"/>
          </a:xfrm>
          <a:custGeom>
            <a:avLst/>
            <a:gdLst/>
            <a:ahLst/>
            <a:rect l="l" t="t" r="r" b="b"/>
            <a:pathLst>
              <a:path w="614" h="500">
                <a:moveTo>
                  <a:pt x="8" y="500"/>
                </a:moveTo>
                <a:cubicBezTo>
                  <a:pt x="7" y="476"/>
                  <a:pt x="0" y="409"/>
                  <a:pt x="2" y="356"/>
                </a:cubicBezTo>
                <a:cubicBezTo>
                  <a:pt x="4" y="303"/>
                  <a:pt x="13" y="226"/>
                  <a:pt x="20" y="179"/>
                </a:cubicBezTo>
                <a:cubicBezTo>
                  <a:pt x="27" y="132"/>
                  <a:pt x="39" y="103"/>
                  <a:pt x="47" y="74"/>
                </a:cubicBezTo>
                <a:cubicBezTo>
                  <a:pt x="55" y="45"/>
                  <a:pt x="56" y="44"/>
                  <a:pt x="68" y="5"/>
                </a:cubicBezTo>
                <a:cubicBezTo>
                  <a:pt x="101" y="14"/>
                  <a:pt x="119" y="20"/>
                  <a:pt x="140" y="26"/>
                </a:cubicBezTo>
                <a:cubicBezTo>
                  <a:pt x="161" y="33"/>
                  <a:pt x="168" y="37"/>
                  <a:pt x="197" y="50"/>
                </a:cubicBezTo>
                <a:cubicBezTo>
                  <a:pt x="226" y="63"/>
                  <a:pt x="266" y="80"/>
                  <a:pt x="314" y="107"/>
                </a:cubicBezTo>
                <a:cubicBezTo>
                  <a:pt x="368" y="101"/>
                  <a:pt x="355" y="102"/>
                  <a:pt x="383" y="95"/>
                </a:cubicBezTo>
                <a:cubicBezTo>
                  <a:pt x="411" y="89"/>
                  <a:pt x="455" y="78"/>
                  <a:pt x="485" y="68"/>
                </a:cubicBezTo>
                <a:cubicBezTo>
                  <a:pt x="515" y="58"/>
                  <a:pt x="545" y="46"/>
                  <a:pt x="566" y="35"/>
                </a:cubicBezTo>
                <a:cubicBezTo>
                  <a:pt x="587" y="24"/>
                  <a:pt x="611" y="0"/>
                  <a:pt x="614" y="5"/>
                </a:cubicBezTo>
                <a:cubicBezTo>
                  <a:pt x="584" y="56"/>
                  <a:pt x="593" y="46"/>
                  <a:pt x="584" y="68"/>
                </a:cubicBezTo>
                <a:cubicBezTo>
                  <a:pt x="575" y="90"/>
                  <a:pt x="567" y="118"/>
                  <a:pt x="563" y="137"/>
                </a:cubicBezTo>
                <a:cubicBezTo>
                  <a:pt x="559" y="156"/>
                  <a:pt x="558" y="175"/>
                  <a:pt x="557" y="185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530360" y="3262320"/>
            <a:ext cx="79200" cy="79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1298880" y="3176640"/>
            <a:ext cx="215280" cy="22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13668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136687"/>
              </a:path>
            </a:pathLst>
          </a:custGeom>
          <a:noFill/>
          <a:ln w="19080">
            <a:solidFill>
              <a:srgbClr val="99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 flipH="1" rot="5184600">
            <a:off x="1484640" y="3354840"/>
            <a:ext cx="215280" cy="21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13668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136687"/>
              </a:path>
            </a:pathLst>
          </a:custGeom>
          <a:noFill/>
          <a:ln w="19080">
            <a:solidFill>
              <a:srgbClr val="99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1673280" y="3295800"/>
            <a:ext cx="2872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 flipV="1">
            <a:off x="1649520" y="3160440"/>
            <a:ext cx="269640" cy="144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 flipV="1">
            <a:off x="1660680" y="3071880"/>
            <a:ext cx="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 flipV="1">
            <a:off x="1658880" y="3103200"/>
            <a:ext cx="125640" cy="198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1068480" y="2925720"/>
            <a:ext cx="647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1633680" y="3290760"/>
            <a:ext cx="666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1901880" y="3171960"/>
            <a:ext cx="33120" cy="123840"/>
          </a:xfrm>
          <a:custGeom>
            <a:avLst/>
            <a:gdLst/>
            <a:ahLst/>
            <a:rect l="l" t="t" r="r" b="b"/>
            <a:pathLst>
              <a:path w="21" h="78">
                <a:moveTo>
                  <a:pt x="0" y="0"/>
                </a:moveTo>
                <a:cubicBezTo>
                  <a:pt x="3" y="6"/>
                  <a:pt x="15" y="26"/>
                  <a:pt x="18" y="39"/>
                </a:cubicBezTo>
                <a:cubicBezTo>
                  <a:pt x="21" y="52"/>
                  <a:pt x="21" y="70"/>
                  <a:pt x="21" y="78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1658880" y="3089160"/>
            <a:ext cx="114480" cy="32040"/>
          </a:xfrm>
          <a:custGeom>
            <a:avLst/>
            <a:gdLst/>
            <a:ahLst/>
            <a:rect l="l" t="t" r="r" b="b"/>
            <a:pathLst>
              <a:path w="72" h="20">
                <a:moveTo>
                  <a:pt x="0" y="0"/>
                </a:moveTo>
                <a:cubicBezTo>
                  <a:pt x="7" y="0"/>
                  <a:pt x="29" y="2"/>
                  <a:pt x="41" y="5"/>
                </a:cubicBezTo>
                <a:cubicBezTo>
                  <a:pt x="53" y="8"/>
                  <a:pt x="66" y="17"/>
                  <a:pt x="72" y="2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601640" y="2871720"/>
            <a:ext cx="40968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1882800" y="3100320"/>
            <a:ext cx="40968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 rot="2768400">
            <a:off x="1647720" y="3753360"/>
            <a:ext cx="214560" cy="22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279828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2798284"/>
              </a:path>
            </a:pathLst>
          </a:custGeom>
          <a:noFill/>
          <a:ln w="19080">
            <a:solidFill>
              <a:srgbClr val="99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 rot="3612600">
            <a:off x="1626480" y="4950360"/>
            <a:ext cx="144360" cy="54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1577880" y="4740120"/>
            <a:ext cx="179640" cy="28764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 rot="4122000">
            <a:off x="1637280" y="4899960"/>
            <a:ext cx="216000" cy="22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275452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2754529"/>
              </a:path>
            </a:pathLst>
          </a:custGeom>
          <a:noFill/>
          <a:ln w="19080">
            <a:solidFill>
              <a:srgbClr val="99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rot="3612600">
            <a:off x="1620360" y="6111000"/>
            <a:ext cx="144360" cy="5400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571760" y="5900760"/>
            <a:ext cx="179280" cy="28728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rot="2768400">
            <a:off x="1636560" y="6064560"/>
            <a:ext cx="214560" cy="22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279828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2798284"/>
              </a:path>
            </a:pathLst>
          </a:custGeom>
          <a:noFill/>
          <a:ln w="19080">
            <a:solidFill>
              <a:srgbClr val="99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049400" y="3597120"/>
            <a:ext cx="216000" cy="0"/>
          </a:xfrm>
          <a:prstGeom prst="line">
            <a:avLst/>
          </a:prstGeom>
          <a:ln w="28440">
            <a:solidFill>
              <a:srgbClr val="99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044720" y="4743360"/>
            <a:ext cx="215640" cy="0"/>
          </a:xfrm>
          <a:prstGeom prst="line">
            <a:avLst/>
          </a:prstGeom>
          <a:ln w="28440">
            <a:solidFill>
              <a:srgbClr val="99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1035000" y="5900760"/>
            <a:ext cx="216000" cy="0"/>
          </a:xfrm>
          <a:prstGeom prst="line">
            <a:avLst/>
          </a:prstGeom>
          <a:ln w="28440">
            <a:solidFill>
              <a:srgbClr val="99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593640" y="4368960"/>
            <a:ext cx="974880" cy="863280"/>
          </a:xfrm>
          <a:custGeom>
            <a:avLst/>
            <a:gdLst/>
            <a:ahLst/>
            <a:rect l="l" t="t" r="r" b="b"/>
            <a:pathLst>
              <a:path w="614" h="544">
                <a:moveTo>
                  <a:pt x="65" y="544"/>
                </a:moveTo>
                <a:lnTo>
                  <a:pt x="0" y="45"/>
                </a:lnTo>
                <a:lnTo>
                  <a:pt x="272" y="0"/>
                </a:lnTo>
                <a:lnTo>
                  <a:pt x="544" y="49"/>
                </a:lnTo>
                <a:lnTo>
                  <a:pt x="614" y="223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573200" y="4638600"/>
            <a:ext cx="824040" cy="669960"/>
          </a:xfrm>
          <a:custGeom>
            <a:avLst/>
            <a:gdLst/>
            <a:ahLst/>
            <a:rect l="l" t="t" r="r" b="b"/>
            <a:pathLst>
              <a:path w="519" h="422">
                <a:moveTo>
                  <a:pt x="0" y="422"/>
                </a:moveTo>
                <a:cubicBezTo>
                  <a:pt x="1" y="408"/>
                  <a:pt x="3" y="365"/>
                  <a:pt x="9" y="332"/>
                </a:cubicBezTo>
                <a:cubicBezTo>
                  <a:pt x="15" y="299"/>
                  <a:pt x="34" y="256"/>
                  <a:pt x="36" y="221"/>
                </a:cubicBezTo>
                <a:cubicBezTo>
                  <a:pt x="38" y="186"/>
                  <a:pt x="27" y="145"/>
                  <a:pt x="21" y="119"/>
                </a:cubicBezTo>
                <a:cubicBezTo>
                  <a:pt x="15" y="93"/>
                  <a:pt x="9" y="92"/>
                  <a:pt x="0" y="62"/>
                </a:cubicBezTo>
                <a:cubicBezTo>
                  <a:pt x="54" y="41"/>
                  <a:pt x="59" y="37"/>
                  <a:pt x="93" y="26"/>
                </a:cubicBezTo>
                <a:cubicBezTo>
                  <a:pt x="128" y="16"/>
                  <a:pt x="170" y="4"/>
                  <a:pt x="213" y="2"/>
                </a:cubicBezTo>
                <a:cubicBezTo>
                  <a:pt x="256" y="0"/>
                  <a:pt x="303" y="3"/>
                  <a:pt x="354" y="11"/>
                </a:cubicBezTo>
                <a:cubicBezTo>
                  <a:pt x="405" y="19"/>
                  <a:pt x="485" y="42"/>
                  <a:pt x="519" y="5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587600" y="4748040"/>
            <a:ext cx="230040" cy="125640"/>
          </a:xfrm>
          <a:prstGeom prst="line">
            <a:avLst/>
          </a:prstGeom>
          <a:ln w="64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706400" y="4862520"/>
            <a:ext cx="8604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0"/>
                </a:moveTo>
                <a:cubicBezTo>
                  <a:pt x="50" y="6"/>
                  <a:pt x="37" y="27"/>
                  <a:pt x="28" y="36"/>
                </a:cubicBezTo>
                <a:cubicBezTo>
                  <a:pt x="19" y="45"/>
                  <a:pt x="6" y="50"/>
                  <a:pt x="0" y="54"/>
                </a:cubicBezTo>
              </a:path>
            </a:pathLst>
          </a:custGeom>
          <a:noFill/>
          <a:ln w="6480">
            <a:solidFill>
              <a:srgbClr val="990033"/>
            </a:solidFill>
            <a:round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1851120" y="4775040"/>
            <a:ext cx="623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1754280" y="4916520"/>
            <a:ext cx="169920" cy="22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2184480" y="3005280"/>
            <a:ext cx="777960" cy="45396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4213080" y="3587760"/>
            <a:ext cx="863640" cy="576360"/>
          </a:xfrm>
          <a:custGeom>
            <a:avLst/>
            <a:gdLst/>
            <a:ahLst/>
            <a:rect l="l" t="t" r="r" b="b"/>
            <a:pathLst>
              <a:path w="544" h="363">
                <a:moveTo>
                  <a:pt x="0" y="363"/>
                </a:moveTo>
                <a:lnTo>
                  <a:pt x="0" y="0"/>
                </a:lnTo>
                <a:lnTo>
                  <a:pt x="544" y="0"/>
                </a:lnTo>
                <a:lnTo>
                  <a:pt x="544" y="36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1800360" y="3841920"/>
                <a:ext cx="27936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9" name=""/>
              <p:cNvSpPr txBox="1"/>
              <p:nvPr/>
            </p:nvSpPr>
            <p:spPr>
              <a:xfrm>
                <a:off x="793800" y="3390840"/>
                <a:ext cx="2840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1763640" y="4994280"/>
                <a:ext cx="3031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770040" y="4537080"/>
                <a:ext cx="2998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781200" y="5713560"/>
                <a:ext cx="2826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23" name=""/>
          <p:cNvSpPr/>
          <p:nvPr/>
        </p:nvSpPr>
        <p:spPr>
          <a:xfrm>
            <a:off x="714240" y="5603760"/>
            <a:ext cx="976320" cy="795600"/>
          </a:xfrm>
          <a:custGeom>
            <a:avLst/>
            <a:gdLst/>
            <a:ahLst/>
            <a:rect l="l" t="t" r="r" b="b"/>
            <a:pathLst>
              <a:path w="615" h="501">
                <a:moveTo>
                  <a:pt x="0" y="501"/>
                </a:moveTo>
                <a:lnTo>
                  <a:pt x="81" y="3"/>
                </a:lnTo>
                <a:lnTo>
                  <a:pt x="336" y="63"/>
                </a:lnTo>
                <a:lnTo>
                  <a:pt x="615" y="0"/>
                </a:lnTo>
                <a:lnTo>
                  <a:pt x="615" y="183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1519200" y="5568840"/>
            <a:ext cx="79560" cy="7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1711440" y="612288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1565280" y="5899320"/>
            <a:ext cx="125280" cy="571320"/>
          </a:xfrm>
          <a:custGeom>
            <a:avLst/>
            <a:gdLst/>
            <a:ahLst/>
            <a:rect l="l" t="t" r="r" b="b"/>
            <a:pathLst>
              <a:path w="79" h="360">
                <a:moveTo>
                  <a:pt x="1" y="360"/>
                </a:moveTo>
                <a:cubicBezTo>
                  <a:pt x="2" y="350"/>
                  <a:pt x="0" y="323"/>
                  <a:pt x="4" y="300"/>
                </a:cubicBezTo>
                <a:cubicBezTo>
                  <a:pt x="8" y="277"/>
                  <a:pt x="16" y="248"/>
                  <a:pt x="25" y="219"/>
                </a:cubicBezTo>
                <a:cubicBezTo>
                  <a:pt x="34" y="190"/>
                  <a:pt x="53" y="154"/>
                  <a:pt x="61" y="126"/>
                </a:cubicBezTo>
                <a:cubicBezTo>
                  <a:pt x="69" y="98"/>
                  <a:pt x="73" y="72"/>
                  <a:pt x="76" y="51"/>
                </a:cubicBezTo>
                <a:cubicBezTo>
                  <a:pt x="79" y="30"/>
                  <a:pt x="78" y="11"/>
                  <a:pt x="79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2427120" y="5899320"/>
            <a:ext cx="123840" cy="571320"/>
          </a:xfrm>
          <a:custGeom>
            <a:avLst/>
            <a:gdLst/>
            <a:ahLst/>
            <a:rect l="l" t="t" r="r" b="b"/>
            <a:pathLst>
              <a:path w="78" h="360">
                <a:moveTo>
                  <a:pt x="0" y="360"/>
                </a:moveTo>
                <a:cubicBezTo>
                  <a:pt x="1" y="350"/>
                  <a:pt x="1" y="322"/>
                  <a:pt x="3" y="300"/>
                </a:cubicBezTo>
                <a:cubicBezTo>
                  <a:pt x="5" y="278"/>
                  <a:pt x="8" y="257"/>
                  <a:pt x="13" y="228"/>
                </a:cubicBezTo>
                <a:cubicBezTo>
                  <a:pt x="18" y="199"/>
                  <a:pt x="27" y="156"/>
                  <a:pt x="34" y="126"/>
                </a:cubicBezTo>
                <a:cubicBezTo>
                  <a:pt x="41" y="96"/>
                  <a:pt x="51" y="66"/>
                  <a:pt x="58" y="45"/>
                </a:cubicBezTo>
                <a:cubicBezTo>
                  <a:pt x="65" y="24"/>
                  <a:pt x="74" y="9"/>
                  <a:pt x="78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2719440" y="58910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1557360" y="5784840"/>
            <a:ext cx="144360" cy="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643040" y="5610240"/>
            <a:ext cx="623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2646360" y="5510160"/>
            <a:ext cx="5954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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3349800" y="4441680"/>
            <a:ext cx="863280" cy="863640"/>
          </a:xfrm>
          <a:custGeom>
            <a:avLst/>
            <a:gdLst/>
            <a:ahLst/>
            <a:rect l="l" t="t" r="r" b="b"/>
            <a:pathLst>
              <a:path w="590" h="499">
                <a:moveTo>
                  <a:pt x="0" y="499"/>
                </a:moveTo>
                <a:lnTo>
                  <a:pt x="0" y="0"/>
                </a:lnTo>
                <a:lnTo>
                  <a:pt x="590" y="0"/>
                </a:lnTo>
                <a:lnTo>
                  <a:pt x="590" y="49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348000" y="5592600"/>
            <a:ext cx="863640" cy="863640"/>
          </a:xfrm>
          <a:custGeom>
            <a:avLst/>
            <a:gdLst/>
            <a:ahLst/>
            <a:rect l="l" t="t" r="r" b="b"/>
            <a:pathLst>
              <a:path w="590" h="499">
                <a:moveTo>
                  <a:pt x="0" y="499"/>
                </a:moveTo>
                <a:lnTo>
                  <a:pt x="0" y="0"/>
                </a:lnTo>
                <a:lnTo>
                  <a:pt x="590" y="0"/>
                </a:lnTo>
                <a:lnTo>
                  <a:pt x="590" y="49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3995640" y="3300480"/>
            <a:ext cx="216000" cy="28728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136" y="181"/>
                </a:moveTo>
                <a:lnTo>
                  <a:pt x="0" y="181"/>
                </a:lnTo>
                <a:lnTo>
                  <a:pt x="45" y="0"/>
                </a:lnTo>
                <a:lnTo>
                  <a:pt x="136" y="0"/>
                </a:lnTo>
              </a:path>
            </a:pathLst>
          </a:custGeom>
          <a:blipFill rotWithShape="0">
            <a:blip r:embed="rId27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3348000" y="3110040"/>
            <a:ext cx="863640" cy="368280"/>
          </a:xfrm>
          <a:custGeom>
            <a:avLst/>
            <a:gdLst/>
            <a:ahLst/>
            <a:rect l="l" t="t" r="r" b="b"/>
            <a:pathLst>
              <a:path w="544" h="232">
                <a:moveTo>
                  <a:pt x="543" y="123"/>
                </a:moveTo>
                <a:lnTo>
                  <a:pt x="544" y="232"/>
                </a:lnTo>
                <a:lnTo>
                  <a:pt x="0" y="0"/>
                </a:lnTo>
                <a:lnTo>
                  <a:pt x="0" y="120"/>
                </a:lnTo>
              </a:path>
            </a:pathLst>
          </a:custGeom>
          <a:blipFill rotWithShape="0">
            <a:blip r:embed="rId28">
              <a:alphaModFix amt="26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157560" y="3305160"/>
            <a:ext cx="190440" cy="863640"/>
          </a:xfrm>
          <a:custGeom>
            <a:avLst/>
            <a:gdLst/>
            <a:ahLst/>
            <a:rect l="l" t="t" r="r" b="b"/>
            <a:pathLst>
              <a:path w="120" h="544">
                <a:moveTo>
                  <a:pt x="120" y="0"/>
                </a:moveTo>
                <a:lnTo>
                  <a:pt x="0" y="0"/>
                </a:lnTo>
                <a:lnTo>
                  <a:pt x="120" y="544"/>
                </a:lnTo>
              </a:path>
            </a:pathLst>
          </a:custGeom>
          <a:blipFill rotWithShape="0">
            <a:blip r:embed="rId29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3349800" y="3300480"/>
            <a:ext cx="863280" cy="863640"/>
          </a:xfrm>
          <a:custGeom>
            <a:avLst/>
            <a:gdLst/>
            <a:ahLst/>
            <a:rect l="l" t="t" r="r" b="b"/>
            <a:pathLst>
              <a:path w="590" h="499">
                <a:moveTo>
                  <a:pt x="0" y="499"/>
                </a:moveTo>
                <a:lnTo>
                  <a:pt x="0" y="0"/>
                </a:lnTo>
                <a:lnTo>
                  <a:pt x="590" y="0"/>
                </a:lnTo>
                <a:lnTo>
                  <a:pt x="590" y="49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4086360" y="4727520"/>
            <a:ext cx="352440" cy="571680"/>
          </a:xfrm>
          <a:custGeom>
            <a:avLst/>
            <a:gdLst/>
            <a:ahLst/>
            <a:rect l="l" t="t" r="r" b="b"/>
            <a:pathLst>
              <a:path w="222" h="360">
                <a:moveTo>
                  <a:pt x="81" y="360"/>
                </a:moveTo>
                <a:lnTo>
                  <a:pt x="0" y="360"/>
                </a:lnTo>
                <a:lnTo>
                  <a:pt x="222" y="0"/>
                </a:lnTo>
                <a:lnTo>
                  <a:pt x="79" y="1"/>
                </a:lnTo>
              </a:path>
            </a:pathLst>
          </a:custGeom>
          <a:blipFill rotWithShape="0">
            <a:blip r:embed="rId30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4211640" y="4513320"/>
            <a:ext cx="865080" cy="216000"/>
          </a:xfrm>
          <a:custGeom>
            <a:avLst/>
            <a:gdLst/>
            <a:ahLst/>
            <a:rect l="l" t="t" r="r" b="b"/>
            <a:pathLst>
              <a:path w="545" h="136">
                <a:moveTo>
                  <a:pt x="0" y="136"/>
                </a:moveTo>
                <a:lnTo>
                  <a:pt x="0" y="0"/>
                </a:lnTo>
                <a:lnTo>
                  <a:pt x="545" y="136"/>
                </a:lnTo>
              </a:path>
            </a:pathLst>
          </a:custGeom>
          <a:blipFill rotWithShape="0">
            <a:blip r:embed="rId31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4213080" y="4729320"/>
            <a:ext cx="863640" cy="576000"/>
          </a:xfrm>
          <a:custGeom>
            <a:avLst/>
            <a:gdLst/>
            <a:ahLst/>
            <a:rect l="l" t="t" r="r" b="b"/>
            <a:pathLst>
              <a:path w="544" h="363">
                <a:moveTo>
                  <a:pt x="0" y="363"/>
                </a:moveTo>
                <a:lnTo>
                  <a:pt x="0" y="0"/>
                </a:lnTo>
                <a:lnTo>
                  <a:pt x="544" y="0"/>
                </a:lnTo>
                <a:lnTo>
                  <a:pt x="544" y="36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995640" y="5880240"/>
            <a:ext cx="438120" cy="571320"/>
          </a:xfrm>
          <a:custGeom>
            <a:avLst/>
            <a:gdLst/>
            <a:ahLst/>
            <a:rect l="l" t="t" r="r" b="b"/>
            <a:pathLst>
              <a:path w="276" h="360">
                <a:moveTo>
                  <a:pt x="135" y="360"/>
                </a:moveTo>
                <a:lnTo>
                  <a:pt x="0" y="360"/>
                </a:lnTo>
                <a:lnTo>
                  <a:pt x="276" y="0"/>
                </a:lnTo>
                <a:lnTo>
                  <a:pt x="133" y="1"/>
                </a:lnTo>
              </a:path>
            </a:pathLst>
          </a:custGeom>
          <a:blipFill rotWithShape="0">
            <a:blip r:embed="rId32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4932360" y="5875200"/>
            <a:ext cx="141120" cy="569880"/>
          </a:xfrm>
          <a:custGeom>
            <a:avLst/>
            <a:gdLst/>
            <a:ahLst/>
            <a:rect l="l" t="t" r="r" b="b"/>
            <a:pathLst>
              <a:path w="135" h="359">
                <a:moveTo>
                  <a:pt x="135" y="359"/>
                </a:moveTo>
                <a:lnTo>
                  <a:pt x="0" y="359"/>
                </a:lnTo>
                <a:lnTo>
                  <a:pt x="133" y="0"/>
                </a:lnTo>
              </a:path>
            </a:pathLst>
          </a:custGeom>
          <a:blipFill rotWithShape="0">
            <a:blip r:embed="rId33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4211640" y="5880240"/>
            <a:ext cx="863640" cy="576000"/>
          </a:xfrm>
          <a:custGeom>
            <a:avLst/>
            <a:gdLst/>
            <a:ahLst/>
            <a:rect l="l" t="t" r="r" b="b"/>
            <a:pathLst>
              <a:path w="544" h="363">
                <a:moveTo>
                  <a:pt x="0" y="363"/>
                </a:moveTo>
                <a:lnTo>
                  <a:pt x="0" y="0"/>
                </a:lnTo>
                <a:lnTo>
                  <a:pt x="544" y="0"/>
                </a:lnTo>
                <a:lnTo>
                  <a:pt x="544" y="36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885960" y="3762360"/>
            <a:ext cx="503280" cy="35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876240" y="3768840"/>
            <a:ext cx="59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890640" y="4913280"/>
            <a:ext cx="503280" cy="35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871560" y="4919760"/>
            <a:ext cx="59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895320" y="6067440"/>
            <a:ext cx="503280" cy="35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876240" y="6073920"/>
            <a:ext cx="59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 rot="16200000">
            <a:off x="-1395360" y="4618080"/>
            <a:ext cx="360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Единичные состояния ОСС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3559320" y="3736800"/>
            <a:ext cx="436320" cy="432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3554280" y="3751200"/>
            <a:ext cx="517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808440" y="3587760"/>
            <a:ext cx="431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933720" y="3097080"/>
            <a:ext cx="2602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149720" y="3365640"/>
            <a:ext cx="2602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3213000" y="2909880"/>
            <a:ext cx="2602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2963880" y="3189240"/>
            <a:ext cx="2602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 flipV="1">
            <a:off x="1457280" y="4444920"/>
            <a:ext cx="0" cy="144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460520" y="4451400"/>
            <a:ext cx="31680" cy="84240"/>
          </a:xfrm>
          <a:custGeom>
            <a:avLst/>
            <a:gdLst/>
            <a:ahLst/>
            <a:rect l="l" t="t" r="r" b="b"/>
            <a:pathLst>
              <a:path w="20" h="53">
                <a:moveTo>
                  <a:pt x="0" y="0"/>
                </a:moveTo>
                <a:lnTo>
                  <a:pt x="2" y="53"/>
                </a:lnTo>
                <a:lnTo>
                  <a:pt x="20" y="4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1324080" y="4421160"/>
            <a:ext cx="126720" cy="31680"/>
          </a:xfrm>
          <a:custGeom>
            <a:avLst/>
            <a:gdLst/>
            <a:ahLst/>
            <a:rect l="l" t="t" r="r" b="b"/>
            <a:pathLst>
              <a:path w="80" h="20">
                <a:moveTo>
                  <a:pt x="80" y="14"/>
                </a:moveTo>
                <a:lnTo>
                  <a:pt x="0" y="0"/>
                </a:lnTo>
                <a:lnTo>
                  <a:pt x="2" y="20"/>
                </a:lnTo>
                <a:lnTo>
                  <a:pt x="80" y="1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231920" y="4452840"/>
            <a:ext cx="3776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204920" y="4173480"/>
            <a:ext cx="40968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1693800" y="4287960"/>
                <a:ext cx="103680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64" name=""/>
          <p:cNvSpPr/>
          <p:nvPr/>
        </p:nvSpPr>
        <p:spPr>
          <a:xfrm>
            <a:off x="1638360" y="4302000"/>
            <a:ext cx="1133280" cy="287640"/>
          </a:xfrm>
          <a:prstGeom prst="rect">
            <a:avLst/>
          </a:prstGeom>
          <a:noFill/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3564000" y="4686480"/>
            <a:ext cx="436680" cy="43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3559320" y="4700520"/>
            <a:ext cx="517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168800" y="428004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332240" y="4680000"/>
            <a:ext cx="69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3530520" y="5124600"/>
            <a:ext cx="69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 flipH="1" flipV="1">
            <a:off x="1402560" y="5489640"/>
            <a:ext cx="17640" cy="10800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0"/>
                </a:moveTo>
                <a:cubicBezTo>
                  <a:pt x="50" y="6"/>
                  <a:pt x="37" y="27"/>
                  <a:pt x="28" y="36"/>
                </a:cubicBezTo>
                <a:cubicBezTo>
                  <a:pt x="19" y="45"/>
                  <a:pt x="6" y="50"/>
                  <a:pt x="0" y="54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1419120" y="5664240"/>
            <a:ext cx="34920" cy="96840"/>
          </a:xfrm>
          <a:custGeom>
            <a:avLst/>
            <a:gdLst/>
            <a:ahLst/>
            <a:rect l="l" t="t" r="r" b="b"/>
            <a:pathLst>
              <a:path w="22" h="61">
                <a:moveTo>
                  <a:pt x="0" y="0"/>
                </a:moveTo>
                <a:cubicBezTo>
                  <a:pt x="2" y="7"/>
                  <a:pt x="10" y="35"/>
                  <a:pt x="14" y="45"/>
                </a:cubicBezTo>
                <a:cubicBezTo>
                  <a:pt x="18" y="55"/>
                  <a:pt x="20" y="58"/>
                  <a:pt x="22" y="61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1116000" y="5292720"/>
            <a:ext cx="40968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3" name=""/>
              <p:cNvSpPr txBox="1"/>
              <p:nvPr/>
            </p:nvSpPr>
            <p:spPr>
              <a:xfrm>
                <a:off x="1787400" y="5391000"/>
                <a:ext cx="59868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74" name=""/>
          <p:cNvSpPr/>
          <p:nvPr/>
        </p:nvSpPr>
        <p:spPr>
          <a:xfrm>
            <a:off x="1744560" y="5424480"/>
            <a:ext cx="665280" cy="252360"/>
          </a:xfrm>
          <a:prstGeom prst="rect">
            <a:avLst/>
          </a:prstGeom>
          <a:noFill/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3568680" y="5856120"/>
            <a:ext cx="436680" cy="432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3564000" y="5870520"/>
            <a:ext cx="517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4200480" y="5673600"/>
            <a:ext cx="7192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4313160" y="6305400"/>
            <a:ext cx="83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5148360" y="3730680"/>
                <a:ext cx="18968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09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5156280" y="4302000"/>
                <a:ext cx="130644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4/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5183280" y="4562640"/>
                <a:ext cx="1157040" cy="30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/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5203800" y="5003640"/>
                <a:ext cx="128124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EI</m:t>
                    </m:r>
                    <m:f>
                      <m:fPr>
                        <m:type m:val="lin"/>
                      </m:fPr>
                      <m:num>
                        <m:r>
                          <m:t xml:space="preserve"> </m:t>
                        </m:r>
                      </m:num>
                      <m:den>
                        <m:r>
                          <m:t xml:space="preserve"> </m:t>
                        </m:r>
                      </m:den>
                    </m:f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3" name=""/>
          <p:cNvSpPr/>
          <p:nvPr/>
        </p:nvSpPr>
        <p:spPr>
          <a:xfrm>
            <a:off x="7507440" y="5656320"/>
            <a:ext cx="214200" cy="280800"/>
          </a:xfrm>
          <a:custGeom>
            <a:avLst/>
            <a:gdLst/>
            <a:ahLst/>
            <a:rect l="l" t="t" r="r" b="b"/>
            <a:pathLst>
              <a:path w="135" h="359">
                <a:moveTo>
                  <a:pt x="135" y="359"/>
                </a:moveTo>
                <a:lnTo>
                  <a:pt x="0" y="359"/>
                </a:lnTo>
                <a:lnTo>
                  <a:pt x="133" y="0"/>
                </a:lnTo>
              </a:path>
            </a:pathLst>
          </a:custGeom>
          <a:blipFill rotWithShape="0">
            <a:blip r:embed="rId34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7885080" y="6073920"/>
            <a:ext cx="541440" cy="36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7792920" y="6046920"/>
            <a:ext cx="7556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(кН</a:t>
            </a:r>
            <a:r>
              <a:rPr b="1" lang="ru-RU" sz="800" spc="-1" strike="noStrike" baseline="-25000">
                <a:solidFill>
                  <a:srgbClr val="000000"/>
                </a:solidFill>
                <a:latin typeface="Times New Roman"/>
              </a:rPr>
              <a:t> * 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853320" y="5662440"/>
            <a:ext cx="147600" cy="857520"/>
          </a:xfrm>
          <a:custGeom>
            <a:avLst/>
            <a:gdLst/>
            <a:ahLst/>
            <a:rect l="l" t="t" r="r" b="b"/>
            <a:pathLst>
              <a:path w="93" h="540">
                <a:moveTo>
                  <a:pt x="0" y="0"/>
                </a:moveTo>
                <a:cubicBezTo>
                  <a:pt x="8" y="16"/>
                  <a:pt x="37" y="67"/>
                  <a:pt x="51" y="99"/>
                </a:cubicBezTo>
                <a:cubicBezTo>
                  <a:pt x="65" y="131"/>
                  <a:pt x="77" y="167"/>
                  <a:pt x="84" y="195"/>
                </a:cubicBezTo>
                <a:cubicBezTo>
                  <a:pt x="91" y="223"/>
                  <a:pt x="93" y="246"/>
                  <a:pt x="93" y="270"/>
                </a:cubicBezTo>
                <a:cubicBezTo>
                  <a:pt x="93" y="294"/>
                  <a:pt x="93" y="313"/>
                  <a:pt x="87" y="342"/>
                </a:cubicBezTo>
                <a:cubicBezTo>
                  <a:pt x="81" y="371"/>
                  <a:pt x="68" y="411"/>
                  <a:pt x="54" y="444"/>
                </a:cubicBezTo>
                <a:cubicBezTo>
                  <a:pt x="40" y="477"/>
                  <a:pt x="11" y="520"/>
                  <a:pt x="0" y="540"/>
                </a:cubicBezTo>
              </a:path>
            </a:pathLst>
          </a:custGeom>
          <a:blipFill rotWithShape="0">
            <a:blip r:embed="rId35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6851520" y="5656320"/>
            <a:ext cx="863640" cy="863640"/>
          </a:xfrm>
          <a:custGeom>
            <a:avLst/>
            <a:gdLst/>
            <a:ahLst/>
            <a:rect l="l" t="t" r="r" b="b"/>
            <a:pathLst>
              <a:path w="590" h="499">
                <a:moveTo>
                  <a:pt x="0" y="499"/>
                </a:moveTo>
                <a:lnTo>
                  <a:pt x="0" y="0"/>
                </a:lnTo>
                <a:lnTo>
                  <a:pt x="590" y="0"/>
                </a:lnTo>
                <a:lnTo>
                  <a:pt x="590" y="49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6858000" y="609768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7192800" y="5853240"/>
            <a:ext cx="4320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6939000" y="5996160"/>
            <a:ext cx="431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7715160" y="5838840"/>
            <a:ext cx="870120" cy="185760"/>
          </a:xfrm>
          <a:custGeom>
            <a:avLst/>
            <a:gdLst/>
            <a:ahLst/>
            <a:rect l="l" t="t" r="r" b="b"/>
            <a:pathLst>
              <a:path w="548" h="117">
                <a:moveTo>
                  <a:pt x="4" y="66"/>
                </a:moveTo>
                <a:lnTo>
                  <a:pt x="0" y="0"/>
                </a:lnTo>
                <a:lnTo>
                  <a:pt x="279" y="117"/>
                </a:lnTo>
                <a:lnTo>
                  <a:pt x="548" y="66"/>
                </a:lnTo>
              </a:path>
            </a:pathLst>
          </a:custGeom>
          <a:blipFill rotWithShape="0">
            <a:blip r:embed="rId36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8158320" y="5948280"/>
            <a:ext cx="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7715160" y="5943600"/>
            <a:ext cx="863640" cy="576360"/>
          </a:xfrm>
          <a:custGeom>
            <a:avLst/>
            <a:gdLst/>
            <a:ahLst/>
            <a:rect l="l" t="t" r="r" b="b"/>
            <a:pathLst>
              <a:path w="544" h="363">
                <a:moveTo>
                  <a:pt x="0" y="363"/>
                </a:moveTo>
                <a:lnTo>
                  <a:pt x="0" y="0"/>
                </a:lnTo>
                <a:lnTo>
                  <a:pt x="544" y="0"/>
                </a:lnTo>
                <a:lnTo>
                  <a:pt x="544" y="36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7674120" y="5641920"/>
            <a:ext cx="431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6831000" y="4640400"/>
            <a:ext cx="863640" cy="863640"/>
          </a:xfrm>
          <a:custGeom>
            <a:avLst/>
            <a:gdLst/>
            <a:ahLst/>
            <a:rect l="l" t="t" r="r" b="b"/>
            <a:pathLst>
              <a:path w="590" h="499">
                <a:moveTo>
                  <a:pt x="0" y="499"/>
                </a:moveTo>
                <a:lnTo>
                  <a:pt x="0" y="0"/>
                </a:lnTo>
                <a:lnTo>
                  <a:pt x="590" y="0"/>
                </a:lnTo>
                <a:lnTo>
                  <a:pt x="590" y="49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7694640" y="4927680"/>
            <a:ext cx="863640" cy="576360"/>
          </a:xfrm>
          <a:custGeom>
            <a:avLst/>
            <a:gdLst/>
            <a:ahLst/>
            <a:rect l="l" t="t" r="r" b="b"/>
            <a:pathLst>
              <a:path w="544" h="363">
                <a:moveTo>
                  <a:pt x="0" y="363"/>
                </a:moveTo>
                <a:lnTo>
                  <a:pt x="0" y="0"/>
                </a:lnTo>
                <a:lnTo>
                  <a:pt x="544" y="0"/>
                </a:lnTo>
                <a:lnTo>
                  <a:pt x="544" y="36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6724800" y="5484960"/>
            <a:ext cx="215640" cy="7272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6726240" y="54831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7588080" y="5506920"/>
            <a:ext cx="216000" cy="7308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7588080" y="55054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8451720" y="5505480"/>
            <a:ext cx="216000" cy="7308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8451720" y="55054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6792840" y="5432400"/>
            <a:ext cx="79560" cy="7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7218360" y="4602240"/>
            <a:ext cx="79200" cy="79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 rot="5400000">
            <a:off x="8729640" y="4884840"/>
            <a:ext cx="216000" cy="7272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8807400" y="48132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8580600" y="4886280"/>
            <a:ext cx="215640" cy="71640"/>
          </a:xfrm>
          <a:custGeom>
            <a:avLst/>
            <a:gdLst/>
            <a:ahLst/>
            <a:rect l="l" t="t" r="r" b="b"/>
            <a:pathLst>
              <a:path w="318" h="136">
                <a:moveTo>
                  <a:pt x="0" y="90"/>
                </a:moveTo>
                <a:lnTo>
                  <a:pt x="45" y="0"/>
                </a:lnTo>
                <a:lnTo>
                  <a:pt x="91" y="136"/>
                </a:lnTo>
                <a:lnTo>
                  <a:pt x="136" y="0"/>
                </a:lnTo>
                <a:lnTo>
                  <a:pt x="182" y="136"/>
                </a:lnTo>
                <a:lnTo>
                  <a:pt x="227" y="0"/>
                </a:lnTo>
                <a:lnTo>
                  <a:pt x="272" y="136"/>
                </a:lnTo>
                <a:lnTo>
                  <a:pt x="318" y="4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8524800" y="4884840"/>
            <a:ext cx="79560" cy="79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8774280" y="488484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5400000">
            <a:off x="7281720" y="4894200"/>
            <a:ext cx="215640" cy="7308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7434360" y="482292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434360" y="4932360"/>
            <a:ext cx="215640" cy="0"/>
          </a:xfrm>
          <a:prstGeom prst="line">
            <a:avLst/>
          </a:prstGeom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7391520" y="4890960"/>
            <a:ext cx="79200" cy="7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7597800" y="4889520"/>
            <a:ext cx="79200" cy="79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 rot="3612600">
            <a:off x="7749720" y="5139360"/>
            <a:ext cx="144360" cy="5400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7704000" y="4929120"/>
            <a:ext cx="179640" cy="28728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6848640" y="4549680"/>
            <a:ext cx="936360" cy="876240"/>
          </a:xfrm>
          <a:custGeom>
            <a:avLst/>
            <a:gdLst/>
            <a:ahLst/>
            <a:rect l="l" t="t" r="r" b="b"/>
            <a:pathLst>
              <a:path w="590" h="552">
                <a:moveTo>
                  <a:pt x="0" y="552"/>
                </a:moveTo>
                <a:cubicBezTo>
                  <a:pt x="7" y="535"/>
                  <a:pt x="31" y="491"/>
                  <a:pt x="42" y="450"/>
                </a:cubicBezTo>
                <a:cubicBezTo>
                  <a:pt x="53" y="409"/>
                  <a:pt x="65" y="354"/>
                  <a:pt x="69" y="306"/>
                </a:cubicBezTo>
                <a:cubicBezTo>
                  <a:pt x="73" y="258"/>
                  <a:pt x="71" y="200"/>
                  <a:pt x="69" y="159"/>
                </a:cubicBezTo>
                <a:cubicBezTo>
                  <a:pt x="67" y="118"/>
                  <a:pt x="69" y="114"/>
                  <a:pt x="57" y="60"/>
                </a:cubicBezTo>
                <a:cubicBezTo>
                  <a:pt x="195" y="24"/>
                  <a:pt x="150" y="36"/>
                  <a:pt x="303" y="0"/>
                </a:cubicBezTo>
                <a:cubicBezTo>
                  <a:pt x="486" y="33"/>
                  <a:pt x="366" y="12"/>
                  <a:pt x="590" y="57"/>
                </a:cubicBezTo>
                <a:cubicBezTo>
                  <a:pt x="560" y="108"/>
                  <a:pt x="569" y="98"/>
                  <a:pt x="560" y="120"/>
                </a:cubicBezTo>
                <a:cubicBezTo>
                  <a:pt x="551" y="142"/>
                  <a:pt x="543" y="170"/>
                  <a:pt x="539" y="189"/>
                </a:cubicBezTo>
                <a:cubicBezTo>
                  <a:pt x="535" y="208"/>
                  <a:pt x="534" y="227"/>
                  <a:pt x="533" y="237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7651800" y="4602240"/>
            <a:ext cx="79200" cy="79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7783560" y="4405320"/>
            <a:ext cx="0" cy="233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7780320" y="4433760"/>
            <a:ext cx="11916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7783560" y="4429080"/>
            <a:ext cx="100080" cy="28800"/>
          </a:xfrm>
          <a:custGeom>
            <a:avLst/>
            <a:gdLst/>
            <a:ahLst/>
            <a:rect l="l" t="t" r="r" b="b"/>
            <a:pathLst>
              <a:path w="63" h="18">
                <a:moveTo>
                  <a:pt x="0" y="0"/>
                </a:moveTo>
                <a:cubicBezTo>
                  <a:pt x="5" y="1"/>
                  <a:pt x="23" y="3"/>
                  <a:pt x="33" y="6"/>
                </a:cubicBezTo>
                <a:cubicBezTo>
                  <a:pt x="43" y="9"/>
                  <a:pt x="57" y="16"/>
                  <a:pt x="63" y="18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 rot="2768400">
            <a:off x="7769160" y="5093280"/>
            <a:ext cx="214560" cy="22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279828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2798284"/>
              </a:path>
            </a:pathLst>
          </a:custGeom>
          <a:noFill/>
          <a:ln w="19080">
            <a:solidFill>
              <a:srgbClr val="99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7097760" y="4932360"/>
            <a:ext cx="287280" cy="0"/>
          </a:xfrm>
          <a:prstGeom prst="line">
            <a:avLst/>
          </a:prstGeom>
          <a:ln w="28440">
            <a:solidFill>
              <a:srgbClr val="99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7074000" y="5159520"/>
            <a:ext cx="372960" cy="358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7088040" y="5165640"/>
            <a:ext cx="3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7861320" y="5183280"/>
            <a:ext cx="527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6900840" y="4586400"/>
            <a:ext cx="527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7710480" y="4930920"/>
            <a:ext cx="819000" cy="71280"/>
          </a:xfrm>
          <a:custGeom>
            <a:avLst/>
            <a:gdLst/>
            <a:ahLst/>
            <a:rect l="l" t="t" r="r" b="b"/>
            <a:pathLst>
              <a:path w="516" h="45">
                <a:moveTo>
                  <a:pt x="0" y="0"/>
                </a:moveTo>
                <a:cubicBezTo>
                  <a:pt x="9" y="1"/>
                  <a:pt x="31" y="3"/>
                  <a:pt x="54" y="6"/>
                </a:cubicBezTo>
                <a:cubicBezTo>
                  <a:pt x="77" y="9"/>
                  <a:pt x="114" y="16"/>
                  <a:pt x="141" y="21"/>
                </a:cubicBezTo>
                <a:cubicBezTo>
                  <a:pt x="168" y="26"/>
                  <a:pt x="188" y="32"/>
                  <a:pt x="219" y="36"/>
                </a:cubicBezTo>
                <a:cubicBezTo>
                  <a:pt x="250" y="40"/>
                  <a:pt x="295" y="45"/>
                  <a:pt x="327" y="45"/>
                </a:cubicBezTo>
                <a:cubicBezTo>
                  <a:pt x="359" y="45"/>
                  <a:pt x="383" y="42"/>
                  <a:pt x="414" y="36"/>
                </a:cubicBezTo>
                <a:cubicBezTo>
                  <a:pt x="445" y="30"/>
                  <a:pt x="495" y="15"/>
                  <a:pt x="516" y="9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7561440" y="4483080"/>
            <a:ext cx="26640" cy="108000"/>
          </a:xfrm>
          <a:custGeom>
            <a:avLst/>
            <a:gdLst/>
            <a:ahLst/>
            <a:rect l="l" t="t" r="r" b="b"/>
            <a:pathLst>
              <a:path w="17" h="68">
                <a:moveTo>
                  <a:pt x="0" y="68"/>
                </a:moveTo>
                <a:cubicBezTo>
                  <a:pt x="1" y="61"/>
                  <a:pt x="6" y="37"/>
                  <a:pt x="9" y="26"/>
                </a:cubicBezTo>
                <a:cubicBezTo>
                  <a:pt x="12" y="15"/>
                  <a:pt x="15" y="5"/>
                  <a:pt x="17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7556400" y="4648320"/>
            <a:ext cx="25560" cy="110880"/>
          </a:xfrm>
          <a:custGeom>
            <a:avLst/>
            <a:gdLst/>
            <a:ahLst/>
            <a:rect l="l" t="t" r="r" b="b"/>
            <a:pathLst>
              <a:path w="16" h="70">
                <a:moveTo>
                  <a:pt x="0" y="0"/>
                </a:moveTo>
                <a:cubicBezTo>
                  <a:pt x="1" y="8"/>
                  <a:pt x="3" y="34"/>
                  <a:pt x="6" y="46"/>
                </a:cubicBezTo>
                <a:cubicBezTo>
                  <a:pt x="9" y="58"/>
                  <a:pt x="14" y="65"/>
                  <a:pt x="16" y="7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716960" y="4202280"/>
            <a:ext cx="40932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7426440" y="4265640"/>
            <a:ext cx="40932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8147160" y="46339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6678720" y="4645080"/>
            <a:ext cx="14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672240" y="4788000"/>
            <a:ext cx="14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6675480" y="4932360"/>
            <a:ext cx="14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6675480" y="5076720"/>
            <a:ext cx="14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6675480" y="5364000"/>
            <a:ext cx="14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6675480" y="5221440"/>
            <a:ext cx="14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672240" y="548316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6672240" y="464184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7866000" y="4570560"/>
            <a:ext cx="3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6588000" y="4365720"/>
            <a:ext cx="273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7035840" y="3768840"/>
            <a:ext cx="194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Грузовое состояние ОСС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8058240" y="4206960"/>
            <a:ext cx="772920" cy="39528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6" name=""/>
              <p:cNvSpPr txBox="1"/>
              <p:nvPr/>
            </p:nvSpPr>
            <p:spPr>
              <a:xfrm>
                <a:off x="5003640" y="5445000"/>
                <a:ext cx="180036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  <m:e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I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47" name=""/>
          <p:cNvSpPr/>
          <p:nvPr/>
        </p:nvSpPr>
        <p:spPr>
          <a:xfrm>
            <a:off x="5130720" y="6296040"/>
            <a:ext cx="172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7;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 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–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3367080" y="6359400"/>
            <a:ext cx="7192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6041880" y="2887560"/>
            <a:ext cx="2827440" cy="920880"/>
          </a:xfrm>
          <a:custGeom>
            <a:avLst/>
            <a:gdLst/>
            <a:ahLst/>
            <a:rect l="l" t="t" r="r" b="b"/>
            <a:pathLst>
              <a:path w="1781" h="529">
                <a:moveTo>
                  <a:pt x="20" y="492"/>
                </a:moveTo>
                <a:cubicBezTo>
                  <a:pt x="0" y="455"/>
                  <a:pt x="12" y="359"/>
                  <a:pt x="12" y="284"/>
                </a:cubicBezTo>
                <a:cubicBezTo>
                  <a:pt x="12" y="209"/>
                  <a:pt x="0" y="88"/>
                  <a:pt x="20" y="44"/>
                </a:cubicBezTo>
                <a:cubicBezTo>
                  <a:pt x="40" y="0"/>
                  <a:pt x="55" y="24"/>
                  <a:pt x="132" y="20"/>
                </a:cubicBezTo>
                <a:cubicBezTo>
                  <a:pt x="209" y="16"/>
                  <a:pt x="369" y="20"/>
                  <a:pt x="484" y="20"/>
                </a:cubicBezTo>
                <a:cubicBezTo>
                  <a:pt x="599" y="20"/>
                  <a:pt x="715" y="20"/>
                  <a:pt x="820" y="20"/>
                </a:cubicBezTo>
                <a:cubicBezTo>
                  <a:pt x="925" y="20"/>
                  <a:pt x="1020" y="20"/>
                  <a:pt x="1116" y="20"/>
                </a:cubicBezTo>
                <a:cubicBezTo>
                  <a:pt x="1212" y="20"/>
                  <a:pt x="1305" y="20"/>
                  <a:pt x="1396" y="20"/>
                </a:cubicBezTo>
                <a:cubicBezTo>
                  <a:pt x="1487" y="20"/>
                  <a:pt x="1599" y="13"/>
                  <a:pt x="1660" y="20"/>
                </a:cubicBezTo>
                <a:cubicBezTo>
                  <a:pt x="1721" y="27"/>
                  <a:pt x="1747" y="20"/>
                  <a:pt x="1764" y="60"/>
                </a:cubicBezTo>
                <a:cubicBezTo>
                  <a:pt x="1781" y="100"/>
                  <a:pt x="1765" y="193"/>
                  <a:pt x="1764" y="260"/>
                </a:cubicBezTo>
                <a:cubicBezTo>
                  <a:pt x="1763" y="327"/>
                  <a:pt x="1767" y="417"/>
                  <a:pt x="1756" y="460"/>
                </a:cubicBezTo>
                <a:cubicBezTo>
                  <a:pt x="1745" y="503"/>
                  <a:pt x="1761" y="505"/>
                  <a:pt x="1700" y="516"/>
                </a:cubicBezTo>
                <a:cubicBezTo>
                  <a:pt x="1639" y="527"/>
                  <a:pt x="1507" y="523"/>
                  <a:pt x="1388" y="524"/>
                </a:cubicBezTo>
                <a:cubicBezTo>
                  <a:pt x="1269" y="525"/>
                  <a:pt x="1140" y="524"/>
                  <a:pt x="988" y="524"/>
                </a:cubicBezTo>
                <a:cubicBezTo>
                  <a:pt x="836" y="524"/>
                  <a:pt x="619" y="524"/>
                  <a:pt x="476" y="524"/>
                </a:cubicBezTo>
                <a:cubicBezTo>
                  <a:pt x="333" y="524"/>
                  <a:pt x="208" y="529"/>
                  <a:pt x="132" y="524"/>
                </a:cubicBezTo>
                <a:cubicBezTo>
                  <a:pt x="56" y="519"/>
                  <a:pt x="43" y="499"/>
                  <a:pt x="20" y="492"/>
                </a:cubicBezTo>
                <a:close/>
              </a:path>
            </a:pathLst>
          </a:custGeom>
          <a:blipFill rotWithShape="0">
            <a:blip r:embed="rId43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0" name=""/>
              <p:cNvSpPr txBox="1"/>
              <p:nvPr/>
            </p:nvSpPr>
            <p:spPr>
              <a:xfrm>
                <a:off x="5202360" y="4807080"/>
                <a:ext cx="93636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EI</m:t>
                    </m:r>
                    <m:f>
                      <m:fPr>
                        <m:type m:val="lin"/>
                      </m:fPr>
                      <m:num>
                        <m:r>
                          <m:t xml:space="preserve"> </m:t>
                        </m:r>
                      </m:num>
                      <m:den>
                        <m:r>
                          <m:t xml:space="preserve"> </m:t>
                        </m:r>
                      </m:den>
                    </m:f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1" name=""/>
              <p:cNvSpPr txBox="1"/>
              <p:nvPr/>
            </p:nvSpPr>
            <p:spPr>
              <a:xfrm>
                <a:off x="5200560" y="5234040"/>
                <a:ext cx="113508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rPr>
                        <m:lit/>
                        <m:nor/>
                      </m:rPr>
                      <m:t xml:space="preserve">EI</m:t>
                    </m:r>
                    <m:f>
                      <m:fPr>
                        <m:type m:val="lin"/>
                      </m:fPr>
                      <m:num>
                        <m:r>
                          <m:t xml:space="preserve"> </m:t>
                        </m:r>
                      </m:num>
                      <m:den>
                        <m:r>
                          <m:t xml:space="preserve">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2" name=""/>
              <p:cNvSpPr txBox="1"/>
              <p:nvPr/>
            </p:nvSpPr>
            <p:spPr>
              <a:xfrm>
                <a:off x="611280" y="1052640"/>
                <a:ext cx="374328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09/27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  <m:r>
                                  <m:t xml:space="preserve"> 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50/3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7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53" name=""/>
          <p:cNvSpPr/>
          <p:nvPr/>
        </p:nvSpPr>
        <p:spPr>
          <a:xfrm rot="1458000">
            <a:off x="3635280" y="2736720"/>
            <a:ext cx="2517840" cy="144720"/>
          </a:xfrm>
          <a:prstGeom prst="leftArrow">
            <a:avLst>
              <a:gd name="adj1" fmla="val 34463"/>
              <a:gd name="adj2" fmla="val 1753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 rot="2506200">
            <a:off x="2511000" y="3227400"/>
            <a:ext cx="2987640" cy="144360"/>
          </a:xfrm>
          <a:prstGeom prst="leftArrow">
            <a:avLst>
              <a:gd name="adj1" fmla="val 34463"/>
              <a:gd name="adj2" fmla="val 2085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5146560" y="3716280"/>
            <a:ext cx="2017800" cy="2913120"/>
          </a:xfrm>
          <a:custGeom>
            <a:avLst/>
            <a:gdLst/>
            <a:ahLst/>
            <a:rect l="l" t="t" r="r" b="b"/>
            <a:pathLst>
              <a:path w="1271" h="1835">
                <a:moveTo>
                  <a:pt x="11" y="1685"/>
                </a:moveTo>
                <a:cubicBezTo>
                  <a:pt x="0" y="1559"/>
                  <a:pt x="7" y="1230"/>
                  <a:pt x="7" y="973"/>
                </a:cubicBezTo>
                <a:cubicBezTo>
                  <a:pt x="7" y="716"/>
                  <a:pt x="1" y="302"/>
                  <a:pt x="11" y="151"/>
                </a:cubicBezTo>
                <a:cubicBezTo>
                  <a:pt x="21" y="0"/>
                  <a:pt x="18" y="80"/>
                  <a:pt x="66" y="65"/>
                </a:cubicBezTo>
                <a:cubicBezTo>
                  <a:pt x="114" y="50"/>
                  <a:pt x="168" y="59"/>
                  <a:pt x="300" y="59"/>
                </a:cubicBezTo>
                <a:cubicBezTo>
                  <a:pt x="432" y="59"/>
                  <a:pt x="721" y="65"/>
                  <a:pt x="858" y="65"/>
                </a:cubicBezTo>
                <a:cubicBezTo>
                  <a:pt x="995" y="65"/>
                  <a:pt x="1057" y="58"/>
                  <a:pt x="1122" y="59"/>
                </a:cubicBezTo>
                <a:cubicBezTo>
                  <a:pt x="1187" y="60"/>
                  <a:pt x="1230" y="24"/>
                  <a:pt x="1248" y="71"/>
                </a:cubicBezTo>
                <a:cubicBezTo>
                  <a:pt x="1266" y="118"/>
                  <a:pt x="1271" y="293"/>
                  <a:pt x="1230" y="341"/>
                </a:cubicBezTo>
                <a:cubicBezTo>
                  <a:pt x="1189" y="389"/>
                  <a:pt x="1041" y="339"/>
                  <a:pt x="1002" y="359"/>
                </a:cubicBezTo>
                <a:cubicBezTo>
                  <a:pt x="963" y="379"/>
                  <a:pt x="996" y="384"/>
                  <a:pt x="996" y="461"/>
                </a:cubicBezTo>
                <a:cubicBezTo>
                  <a:pt x="996" y="538"/>
                  <a:pt x="1002" y="668"/>
                  <a:pt x="1002" y="821"/>
                </a:cubicBezTo>
                <a:cubicBezTo>
                  <a:pt x="1002" y="974"/>
                  <a:pt x="988" y="1244"/>
                  <a:pt x="996" y="1379"/>
                </a:cubicBezTo>
                <a:cubicBezTo>
                  <a:pt x="1004" y="1514"/>
                  <a:pt x="1044" y="1560"/>
                  <a:pt x="1050" y="1631"/>
                </a:cubicBezTo>
                <a:cubicBezTo>
                  <a:pt x="1056" y="1702"/>
                  <a:pt x="1076" y="1775"/>
                  <a:pt x="1032" y="1805"/>
                </a:cubicBezTo>
                <a:cubicBezTo>
                  <a:pt x="988" y="1835"/>
                  <a:pt x="865" y="1810"/>
                  <a:pt x="786" y="1811"/>
                </a:cubicBezTo>
                <a:cubicBezTo>
                  <a:pt x="707" y="1812"/>
                  <a:pt x="643" y="1811"/>
                  <a:pt x="558" y="1811"/>
                </a:cubicBezTo>
                <a:cubicBezTo>
                  <a:pt x="473" y="1811"/>
                  <a:pt x="358" y="1811"/>
                  <a:pt x="276" y="1811"/>
                </a:cubicBezTo>
                <a:cubicBezTo>
                  <a:pt x="194" y="1811"/>
                  <a:pt x="110" y="1832"/>
                  <a:pt x="66" y="1811"/>
                </a:cubicBezTo>
                <a:cubicBezTo>
                  <a:pt x="22" y="1790"/>
                  <a:pt x="22" y="1711"/>
                  <a:pt x="11" y="1685"/>
                </a:cubicBezTo>
                <a:close/>
              </a:path>
            </a:pathLst>
          </a:custGeom>
          <a:blipFill rotWithShape="0">
            <a:blip r:embed="rId44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317520" y="2341440"/>
            <a:ext cx="4778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–13,723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Н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6,902/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2,809/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324000" y="2711520"/>
            <a:ext cx="30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8" name=""/>
              <p:cNvSpPr txBox="1"/>
              <p:nvPr/>
            </p:nvSpPr>
            <p:spPr>
              <a:xfrm>
                <a:off x="6110280" y="2908440"/>
                <a:ext cx="267336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  <m:r>
                                  <m:t xml:space="preserve"> 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 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59" name=""/>
          <p:cNvSpPr/>
          <p:nvPr/>
        </p:nvSpPr>
        <p:spPr>
          <a:xfrm>
            <a:off x="6210360" y="322272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6716880" y="30211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7" dur="indefinite" restart="never" nodeType="tmRoot">
          <p:childTnLst>
            <p:seq>
              <p:cTn id="2578" dur="indefinite" nodeType="mainSeq">
                <p:childTnLst>
                  <p:par>
                    <p:cTn id="2579" fill="hold">
                      <p:stCondLst>
                        <p:cond delay="0"/>
                      </p:stCondLst>
                      <p:childTnLst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3" dur="10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4" dur="10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5" dur="10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7" dur="10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90" dur="10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2" fill="hold">
                      <p:stCondLst>
                        <p:cond delay="indefinite"/>
                      </p:stCondLst>
                      <p:childTnLst>
                        <p:par>
                          <p:cTn id="2593" fill="hold">
                            <p:stCondLst>
                              <p:cond delay="0"/>
                            </p:stCondLst>
                            <p:childTnLst>
                              <p:par>
                                <p:cTn id="25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6" dur="80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7" dur="80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8" dur="80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9" fill="hold">
                      <p:stCondLst>
                        <p:cond delay="indefinite"/>
                      </p:stCondLst>
                      <p:childTnLst>
                        <p:par>
                          <p:cTn id="2600" fill="hold">
                            <p:stCondLst>
                              <p:cond delay="0"/>
                            </p:stCondLst>
                            <p:childTnLst>
                              <p:par>
                                <p:cTn id="26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02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05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08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4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7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20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23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26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29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32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35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3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1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4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7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50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53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56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59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62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65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68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1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4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7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0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3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6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9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2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5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8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1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4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7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10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13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16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19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22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25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28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1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4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7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0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3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6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9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52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55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58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1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4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7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0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3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6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9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2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5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8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1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4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7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00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03" dur="1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06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09" dur="1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12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15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18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21" dur="1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24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27" dur="1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30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33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36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39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42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45" dur="1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48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1" dur="1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4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7" dur="1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0" dur="1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3" dur="1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6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9" dur="1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2" dur="1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5" dur="1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8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1" dur="1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4" dur="1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7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90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93" dur="1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96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99" dur="1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02" dur="1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05" dur="1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08" dur="1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1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4" dur="1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7" dur="1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0" dur="1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3" dur="10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6" dur="10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9" dur="10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32" dur="1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35" dur="1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38" dur="1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1" dur="1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4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7" dur="1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50" dur="1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53" dur="1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56" dur="10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59" dur="1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62" dur="1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65" dur="10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68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71" dur="1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74" dur="1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77" dur="1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1" dur="80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2" dur="80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3" dur="80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5" dur="1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>
            <a:hlinkClick r:id="" action="ppaction://hlinkshowjump?jump=nextslide"/>
          </p:cNvPr>
          <p:cNvSpPr/>
          <p:nvPr/>
        </p:nvSpPr>
        <p:spPr>
          <a:xfrm>
            <a:off x="324000" y="260280"/>
            <a:ext cx="849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 Narrow"/>
              </a:rPr>
              <a:t>РАСЧЁТ СТАТИЧЕСКИ НЕОПРЕДЕЛИМЫХ СИСТЕМ СМЕШАННЫМ МЕТ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3720960" y="58248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П р и м е 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5180040" y="1084320"/>
            <a:ext cx="1611360" cy="1670040"/>
          </a:xfrm>
          <a:custGeom>
            <a:avLst/>
            <a:gdLst/>
            <a:ahLst/>
            <a:rect l="l" t="t" r="r" b="b"/>
            <a:pathLst>
              <a:path w="962" h="1052">
                <a:moveTo>
                  <a:pt x="221" y="1004"/>
                </a:moveTo>
                <a:cubicBezTo>
                  <a:pt x="211" y="1032"/>
                  <a:pt x="199" y="1034"/>
                  <a:pt x="173" y="1040"/>
                </a:cubicBezTo>
                <a:cubicBezTo>
                  <a:pt x="147" y="1046"/>
                  <a:pt x="91" y="1052"/>
                  <a:pt x="64" y="1042"/>
                </a:cubicBezTo>
                <a:cubicBezTo>
                  <a:pt x="37" y="1032"/>
                  <a:pt x="21" y="1033"/>
                  <a:pt x="11" y="980"/>
                </a:cubicBezTo>
                <a:cubicBezTo>
                  <a:pt x="1" y="927"/>
                  <a:pt x="6" y="823"/>
                  <a:pt x="5" y="722"/>
                </a:cubicBezTo>
                <a:cubicBezTo>
                  <a:pt x="4" y="621"/>
                  <a:pt x="3" y="481"/>
                  <a:pt x="5" y="374"/>
                </a:cubicBezTo>
                <a:cubicBezTo>
                  <a:pt x="7" y="267"/>
                  <a:pt x="0" y="140"/>
                  <a:pt x="17" y="80"/>
                </a:cubicBezTo>
                <a:cubicBezTo>
                  <a:pt x="34" y="20"/>
                  <a:pt x="36" y="26"/>
                  <a:pt x="106" y="13"/>
                </a:cubicBezTo>
                <a:cubicBezTo>
                  <a:pt x="176" y="0"/>
                  <a:pt x="335" y="4"/>
                  <a:pt x="437" y="2"/>
                </a:cubicBezTo>
                <a:cubicBezTo>
                  <a:pt x="539" y="0"/>
                  <a:pt x="640" y="0"/>
                  <a:pt x="719" y="2"/>
                </a:cubicBezTo>
                <a:cubicBezTo>
                  <a:pt x="798" y="4"/>
                  <a:pt x="874" y="0"/>
                  <a:pt x="913" y="13"/>
                </a:cubicBezTo>
                <a:cubicBezTo>
                  <a:pt x="952" y="26"/>
                  <a:pt x="946" y="30"/>
                  <a:pt x="953" y="80"/>
                </a:cubicBezTo>
                <a:cubicBezTo>
                  <a:pt x="960" y="130"/>
                  <a:pt x="962" y="268"/>
                  <a:pt x="955" y="314"/>
                </a:cubicBezTo>
                <a:cubicBezTo>
                  <a:pt x="948" y="360"/>
                  <a:pt x="941" y="350"/>
                  <a:pt x="913" y="356"/>
                </a:cubicBezTo>
                <a:cubicBezTo>
                  <a:pt x="885" y="363"/>
                  <a:pt x="820" y="363"/>
                  <a:pt x="786" y="356"/>
                </a:cubicBezTo>
                <a:cubicBezTo>
                  <a:pt x="752" y="349"/>
                  <a:pt x="742" y="322"/>
                  <a:pt x="707" y="314"/>
                </a:cubicBezTo>
                <a:cubicBezTo>
                  <a:pt x="672" y="306"/>
                  <a:pt x="618" y="309"/>
                  <a:pt x="575" y="308"/>
                </a:cubicBezTo>
                <a:cubicBezTo>
                  <a:pt x="532" y="307"/>
                  <a:pt x="499" y="307"/>
                  <a:pt x="449" y="308"/>
                </a:cubicBezTo>
                <a:cubicBezTo>
                  <a:pt x="399" y="309"/>
                  <a:pt x="310" y="301"/>
                  <a:pt x="275" y="314"/>
                </a:cubicBezTo>
                <a:cubicBezTo>
                  <a:pt x="240" y="327"/>
                  <a:pt x="246" y="336"/>
                  <a:pt x="239" y="386"/>
                </a:cubicBezTo>
                <a:cubicBezTo>
                  <a:pt x="232" y="436"/>
                  <a:pt x="234" y="547"/>
                  <a:pt x="233" y="613"/>
                </a:cubicBezTo>
                <a:cubicBezTo>
                  <a:pt x="232" y="679"/>
                  <a:pt x="233" y="743"/>
                  <a:pt x="233" y="785"/>
                </a:cubicBezTo>
                <a:cubicBezTo>
                  <a:pt x="233" y="828"/>
                  <a:pt x="235" y="834"/>
                  <a:pt x="233" y="870"/>
                </a:cubicBezTo>
                <a:cubicBezTo>
                  <a:pt x="231" y="906"/>
                  <a:pt x="232" y="976"/>
                  <a:pt x="221" y="1004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507000" y="1512720"/>
            <a:ext cx="1949760" cy="1224000"/>
          </a:xfrm>
          <a:custGeom>
            <a:avLst/>
            <a:gdLst/>
            <a:ahLst/>
            <a:rect l="l" t="t" r="r" b="b"/>
            <a:pathLst>
              <a:path w="1157" h="707">
                <a:moveTo>
                  <a:pt x="7" y="554"/>
                </a:moveTo>
                <a:cubicBezTo>
                  <a:pt x="7" y="486"/>
                  <a:pt x="6" y="318"/>
                  <a:pt x="7" y="237"/>
                </a:cubicBezTo>
                <a:cubicBezTo>
                  <a:pt x="8" y="156"/>
                  <a:pt x="0" y="108"/>
                  <a:pt x="15" y="70"/>
                </a:cubicBezTo>
                <a:cubicBezTo>
                  <a:pt x="30" y="32"/>
                  <a:pt x="54" y="20"/>
                  <a:pt x="98" y="10"/>
                </a:cubicBezTo>
                <a:cubicBezTo>
                  <a:pt x="142" y="0"/>
                  <a:pt x="166" y="10"/>
                  <a:pt x="279" y="10"/>
                </a:cubicBezTo>
                <a:cubicBezTo>
                  <a:pt x="392" y="10"/>
                  <a:pt x="642" y="10"/>
                  <a:pt x="778" y="10"/>
                </a:cubicBezTo>
                <a:cubicBezTo>
                  <a:pt x="914" y="10"/>
                  <a:pt x="1035" y="2"/>
                  <a:pt x="1096" y="10"/>
                </a:cubicBezTo>
                <a:cubicBezTo>
                  <a:pt x="1157" y="18"/>
                  <a:pt x="1134" y="25"/>
                  <a:pt x="1141" y="55"/>
                </a:cubicBezTo>
                <a:cubicBezTo>
                  <a:pt x="1148" y="85"/>
                  <a:pt x="1155" y="164"/>
                  <a:pt x="1141" y="191"/>
                </a:cubicBezTo>
                <a:cubicBezTo>
                  <a:pt x="1127" y="218"/>
                  <a:pt x="1074" y="182"/>
                  <a:pt x="1059" y="220"/>
                </a:cubicBezTo>
                <a:cubicBezTo>
                  <a:pt x="1044" y="258"/>
                  <a:pt x="1051" y="355"/>
                  <a:pt x="1050" y="418"/>
                </a:cubicBezTo>
                <a:cubicBezTo>
                  <a:pt x="1049" y="481"/>
                  <a:pt x="1057" y="555"/>
                  <a:pt x="1050" y="600"/>
                </a:cubicBezTo>
                <a:cubicBezTo>
                  <a:pt x="1043" y="645"/>
                  <a:pt x="1080" y="673"/>
                  <a:pt x="1005" y="690"/>
                </a:cubicBezTo>
                <a:cubicBezTo>
                  <a:pt x="930" y="707"/>
                  <a:pt x="724" y="698"/>
                  <a:pt x="597" y="700"/>
                </a:cubicBezTo>
                <a:cubicBezTo>
                  <a:pt x="470" y="702"/>
                  <a:pt x="334" y="702"/>
                  <a:pt x="243" y="700"/>
                </a:cubicBezTo>
                <a:cubicBezTo>
                  <a:pt x="152" y="698"/>
                  <a:pt x="91" y="699"/>
                  <a:pt x="52" y="690"/>
                </a:cubicBezTo>
                <a:cubicBezTo>
                  <a:pt x="13" y="681"/>
                  <a:pt x="14" y="668"/>
                  <a:pt x="7" y="645"/>
                </a:cubicBezTo>
                <a:cubicBezTo>
                  <a:pt x="0" y="622"/>
                  <a:pt x="7" y="622"/>
                  <a:pt x="7" y="554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397480" y="1268280"/>
            <a:ext cx="1295280" cy="1295640"/>
          </a:xfrm>
          <a:custGeom>
            <a:avLst/>
            <a:gdLst/>
            <a:ahLst/>
            <a:rect l="l" t="t" r="r" b="b"/>
            <a:pathLst>
              <a:path w="953" h="862">
                <a:moveTo>
                  <a:pt x="0" y="862"/>
                </a:moveTo>
                <a:lnTo>
                  <a:pt x="0" y="0"/>
                </a:lnTo>
                <a:lnTo>
                  <a:pt x="953" y="0"/>
                </a:lnTo>
                <a:lnTo>
                  <a:pt x="953" y="86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6692760" y="1700280"/>
            <a:ext cx="1297080" cy="863640"/>
          </a:xfrm>
          <a:custGeom>
            <a:avLst/>
            <a:gdLst/>
            <a:ahLst/>
            <a:rect l="l" t="t" r="r" b="b"/>
            <a:pathLst>
              <a:path w="817" h="544">
                <a:moveTo>
                  <a:pt x="0" y="0"/>
                </a:moveTo>
                <a:lnTo>
                  <a:pt x="817" y="0"/>
                </a:lnTo>
                <a:lnTo>
                  <a:pt x="817" y="5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283360" y="2563920"/>
            <a:ext cx="215640" cy="73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5283360" y="25639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6578640" y="2563920"/>
            <a:ext cx="216000" cy="73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6578640" y="25639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7875720" y="2563920"/>
            <a:ext cx="215640" cy="73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7875720" y="25639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rot="5400000">
            <a:off x="8224200" y="1657080"/>
            <a:ext cx="216000" cy="73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8302680" y="15858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8037360" y="1658880"/>
            <a:ext cx="216000" cy="71640"/>
          </a:xfrm>
          <a:custGeom>
            <a:avLst/>
            <a:gdLst/>
            <a:ahLst/>
            <a:rect l="l" t="t" r="r" b="b"/>
            <a:pathLst>
              <a:path w="318" h="136">
                <a:moveTo>
                  <a:pt x="0" y="90"/>
                </a:moveTo>
                <a:lnTo>
                  <a:pt x="45" y="0"/>
                </a:lnTo>
                <a:lnTo>
                  <a:pt x="91" y="136"/>
                </a:lnTo>
                <a:lnTo>
                  <a:pt x="136" y="0"/>
                </a:lnTo>
                <a:lnTo>
                  <a:pt x="182" y="136"/>
                </a:lnTo>
                <a:lnTo>
                  <a:pt x="227" y="0"/>
                </a:lnTo>
                <a:lnTo>
                  <a:pt x="272" y="136"/>
                </a:lnTo>
                <a:lnTo>
                  <a:pt x="318" y="4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002280" y="1217520"/>
            <a:ext cx="90720" cy="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7947000" y="1647720"/>
            <a:ext cx="90360" cy="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8250120" y="1644480"/>
            <a:ext cx="90720" cy="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5181480" y="12700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5181480" y="127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5181480" y="1486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5181480" y="170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5181480" y="191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5181480" y="213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5181480" y="234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518148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349960" y="251316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7342200" y="133200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5129280" y="917640"/>
            <a:ext cx="3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7178760" y="1047600"/>
            <a:ext cx="3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7970760" y="1330200"/>
            <a:ext cx="43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6642000" y="1216080"/>
            <a:ext cx="90720" cy="90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 rot="5400000">
            <a:off x="6200640" y="1666800"/>
            <a:ext cx="215640" cy="73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6353280" y="159552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6353280" y="1700280"/>
            <a:ext cx="287280" cy="0"/>
          </a:xfrm>
          <a:prstGeom prst="line">
            <a:avLst/>
          </a:prstGeom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310440" y="1654200"/>
            <a:ext cx="9036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588000" y="1657440"/>
            <a:ext cx="90720" cy="9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 rot="3612600">
            <a:off x="6750360" y="1967760"/>
            <a:ext cx="179280" cy="73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699240" y="1704960"/>
            <a:ext cx="216000" cy="36036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6409080" y="1144440"/>
            <a:ext cx="215280" cy="22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13668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136687"/>
              </a:path>
            </a:pathLst>
          </a:custGeom>
          <a:noFill/>
          <a:ln w="19080">
            <a:solidFill>
              <a:srgbClr val="99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 flipH="1" rot="5184600">
            <a:off x="6594840" y="1323000"/>
            <a:ext cx="215280" cy="21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13668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136687"/>
              </a:path>
            </a:pathLst>
          </a:custGeom>
          <a:noFill/>
          <a:ln w="19080">
            <a:solidFill>
              <a:srgbClr val="99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6251400" y="1263600"/>
            <a:ext cx="4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6908760" y="1832040"/>
            <a:ext cx="4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6877080" y="1523880"/>
            <a:ext cx="0" cy="216000"/>
          </a:xfrm>
          <a:prstGeom prst="line">
            <a:avLst/>
          </a:prstGeom>
          <a:ln w="64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6702480" y="1571760"/>
            <a:ext cx="179280" cy="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6718320" y="1719360"/>
            <a:ext cx="360360" cy="144360"/>
          </a:xfrm>
          <a:prstGeom prst="line">
            <a:avLst/>
          </a:prstGeom>
          <a:ln w="64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891480" y="1847880"/>
            <a:ext cx="142560" cy="166680"/>
          </a:xfrm>
          <a:custGeom>
            <a:avLst/>
            <a:gdLst/>
            <a:ahLst/>
            <a:rect l="l" t="t" r="r" b="b"/>
            <a:pathLst>
              <a:path w="90" h="105">
                <a:moveTo>
                  <a:pt x="0" y="105"/>
                </a:moveTo>
                <a:cubicBezTo>
                  <a:pt x="9" y="97"/>
                  <a:pt x="39" y="77"/>
                  <a:pt x="54" y="60"/>
                </a:cubicBezTo>
                <a:cubicBezTo>
                  <a:pt x="69" y="43"/>
                  <a:pt x="83" y="12"/>
                  <a:pt x="90" y="0"/>
                </a:cubicBezTo>
              </a:path>
            </a:pathLst>
          </a:custGeom>
          <a:noFill/>
          <a:ln w="9360">
            <a:solidFill>
              <a:srgbClr val="990033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6827760" y="1357200"/>
            <a:ext cx="433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5668920" y="1835280"/>
            <a:ext cx="755640" cy="769680"/>
          </a:xfrm>
          <a:prstGeom prst="rect">
            <a:avLst/>
          </a:prstGeom>
          <a:solidFill>
            <a:srgbClr val="c8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5506920" y="736560"/>
            <a:ext cx="10810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Статиче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определим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6773760" y="2185920"/>
            <a:ext cx="11527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Кинематичес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определим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6948360" y="765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 Black"/>
              </a:rPr>
              <a:t>ОС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5048280" y="2708280"/>
            <a:ext cx="3809880" cy="2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Канонические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уравнения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 c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мешанного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 Narrow"/>
              </a:rPr>
              <a:t>метода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4213080" y="3587760"/>
            <a:ext cx="863640" cy="576360"/>
          </a:xfrm>
          <a:custGeom>
            <a:avLst/>
            <a:gdLst/>
            <a:ahLst/>
            <a:rect l="l" t="t" r="r" b="b"/>
            <a:pathLst>
              <a:path w="544" h="363">
                <a:moveTo>
                  <a:pt x="0" y="363"/>
                </a:moveTo>
                <a:lnTo>
                  <a:pt x="0" y="0"/>
                </a:lnTo>
                <a:lnTo>
                  <a:pt x="544" y="0"/>
                </a:lnTo>
                <a:lnTo>
                  <a:pt x="544" y="36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3349800" y="4441680"/>
            <a:ext cx="863280" cy="863640"/>
          </a:xfrm>
          <a:custGeom>
            <a:avLst/>
            <a:gdLst/>
            <a:ahLst/>
            <a:rect l="l" t="t" r="r" b="b"/>
            <a:pathLst>
              <a:path w="590" h="499">
                <a:moveTo>
                  <a:pt x="0" y="499"/>
                </a:moveTo>
                <a:lnTo>
                  <a:pt x="0" y="0"/>
                </a:lnTo>
                <a:lnTo>
                  <a:pt x="590" y="0"/>
                </a:lnTo>
                <a:lnTo>
                  <a:pt x="590" y="49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3348000" y="5592600"/>
            <a:ext cx="863640" cy="863640"/>
          </a:xfrm>
          <a:custGeom>
            <a:avLst/>
            <a:gdLst/>
            <a:ahLst/>
            <a:rect l="l" t="t" r="r" b="b"/>
            <a:pathLst>
              <a:path w="590" h="499">
                <a:moveTo>
                  <a:pt x="0" y="499"/>
                </a:moveTo>
                <a:lnTo>
                  <a:pt x="0" y="0"/>
                </a:lnTo>
                <a:lnTo>
                  <a:pt x="590" y="0"/>
                </a:lnTo>
                <a:lnTo>
                  <a:pt x="590" y="49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3995640" y="3300480"/>
            <a:ext cx="216000" cy="28728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136" y="181"/>
                </a:moveTo>
                <a:lnTo>
                  <a:pt x="0" y="181"/>
                </a:lnTo>
                <a:lnTo>
                  <a:pt x="45" y="0"/>
                </a:lnTo>
                <a:lnTo>
                  <a:pt x="136" y="0"/>
                </a:lnTo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3348000" y="3110040"/>
            <a:ext cx="863640" cy="368280"/>
          </a:xfrm>
          <a:custGeom>
            <a:avLst/>
            <a:gdLst/>
            <a:ahLst/>
            <a:rect l="l" t="t" r="r" b="b"/>
            <a:pathLst>
              <a:path w="544" h="232">
                <a:moveTo>
                  <a:pt x="543" y="123"/>
                </a:moveTo>
                <a:lnTo>
                  <a:pt x="544" y="232"/>
                </a:lnTo>
                <a:lnTo>
                  <a:pt x="0" y="0"/>
                </a:lnTo>
                <a:lnTo>
                  <a:pt x="0" y="120"/>
                </a:lnTo>
              </a:path>
            </a:pathLst>
          </a:custGeom>
          <a:blipFill rotWithShape="0">
            <a:blip r:embed="rId10">
              <a:alphaModFix amt="26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3157560" y="3305160"/>
            <a:ext cx="190440" cy="863640"/>
          </a:xfrm>
          <a:custGeom>
            <a:avLst/>
            <a:gdLst/>
            <a:ahLst/>
            <a:rect l="l" t="t" r="r" b="b"/>
            <a:pathLst>
              <a:path w="120" h="544">
                <a:moveTo>
                  <a:pt x="120" y="0"/>
                </a:moveTo>
                <a:lnTo>
                  <a:pt x="0" y="0"/>
                </a:lnTo>
                <a:lnTo>
                  <a:pt x="120" y="544"/>
                </a:lnTo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3349800" y="3300480"/>
            <a:ext cx="863280" cy="863640"/>
          </a:xfrm>
          <a:custGeom>
            <a:avLst/>
            <a:gdLst/>
            <a:ahLst/>
            <a:rect l="l" t="t" r="r" b="b"/>
            <a:pathLst>
              <a:path w="590" h="499">
                <a:moveTo>
                  <a:pt x="0" y="499"/>
                </a:moveTo>
                <a:lnTo>
                  <a:pt x="0" y="0"/>
                </a:lnTo>
                <a:lnTo>
                  <a:pt x="590" y="0"/>
                </a:lnTo>
                <a:lnTo>
                  <a:pt x="590" y="49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4086360" y="4727520"/>
            <a:ext cx="352440" cy="571680"/>
          </a:xfrm>
          <a:custGeom>
            <a:avLst/>
            <a:gdLst/>
            <a:ahLst/>
            <a:rect l="l" t="t" r="r" b="b"/>
            <a:pathLst>
              <a:path w="222" h="360">
                <a:moveTo>
                  <a:pt x="81" y="360"/>
                </a:moveTo>
                <a:lnTo>
                  <a:pt x="0" y="360"/>
                </a:lnTo>
                <a:lnTo>
                  <a:pt x="222" y="0"/>
                </a:lnTo>
                <a:lnTo>
                  <a:pt x="79" y="1"/>
                </a:lnTo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4211640" y="4513320"/>
            <a:ext cx="865080" cy="216000"/>
          </a:xfrm>
          <a:custGeom>
            <a:avLst/>
            <a:gdLst/>
            <a:ahLst/>
            <a:rect l="l" t="t" r="r" b="b"/>
            <a:pathLst>
              <a:path w="545" h="136">
                <a:moveTo>
                  <a:pt x="0" y="136"/>
                </a:moveTo>
                <a:lnTo>
                  <a:pt x="0" y="0"/>
                </a:lnTo>
                <a:lnTo>
                  <a:pt x="545" y="136"/>
                </a:lnTo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4213080" y="4729320"/>
            <a:ext cx="863640" cy="576000"/>
          </a:xfrm>
          <a:custGeom>
            <a:avLst/>
            <a:gdLst/>
            <a:ahLst/>
            <a:rect l="l" t="t" r="r" b="b"/>
            <a:pathLst>
              <a:path w="544" h="363">
                <a:moveTo>
                  <a:pt x="0" y="363"/>
                </a:moveTo>
                <a:lnTo>
                  <a:pt x="0" y="0"/>
                </a:lnTo>
                <a:lnTo>
                  <a:pt x="544" y="0"/>
                </a:lnTo>
                <a:lnTo>
                  <a:pt x="544" y="36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3995640" y="5880240"/>
            <a:ext cx="438120" cy="571320"/>
          </a:xfrm>
          <a:custGeom>
            <a:avLst/>
            <a:gdLst/>
            <a:ahLst/>
            <a:rect l="l" t="t" r="r" b="b"/>
            <a:pathLst>
              <a:path w="276" h="360">
                <a:moveTo>
                  <a:pt x="135" y="360"/>
                </a:moveTo>
                <a:lnTo>
                  <a:pt x="0" y="360"/>
                </a:lnTo>
                <a:lnTo>
                  <a:pt x="276" y="0"/>
                </a:lnTo>
                <a:lnTo>
                  <a:pt x="133" y="1"/>
                </a:lnTo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4932360" y="5875200"/>
            <a:ext cx="141120" cy="569880"/>
          </a:xfrm>
          <a:custGeom>
            <a:avLst/>
            <a:gdLst/>
            <a:ahLst/>
            <a:rect l="l" t="t" r="r" b="b"/>
            <a:pathLst>
              <a:path w="135" h="359">
                <a:moveTo>
                  <a:pt x="135" y="359"/>
                </a:moveTo>
                <a:lnTo>
                  <a:pt x="0" y="359"/>
                </a:lnTo>
                <a:lnTo>
                  <a:pt x="133" y="0"/>
                </a:lnTo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4211640" y="5880240"/>
            <a:ext cx="863640" cy="576000"/>
          </a:xfrm>
          <a:custGeom>
            <a:avLst/>
            <a:gdLst/>
            <a:ahLst/>
            <a:rect l="l" t="t" r="r" b="b"/>
            <a:pathLst>
              <a:path w="544" h="363">
                <a:moveTo>
                  <a:pt x="0" y="363"/>
                </a:moveTo>
                <a:lnTo>
                  <a:pt x="0" y="0"/>
                </a:lnTo>
                <a:lnTo>
                  <a:pt x="544" y="0"/>
                </a:lnTo>
                <a:lnTo>
                  <a:pt x="544" y="36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3559320" y="3736800"/>
            <a:ext cx="436320" cy="432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554280" y="3751200"/>
            <a:ext cx="517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3808440" y="3587760"/>
            <a:ext cx="431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3933720" y="3097080"/>
            <a:ext cx="2602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4149720" y="3365640"/>
            <a:ext cx="2602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3213000" y="2909880"/>
            <a:ext cx="2602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2963880" y="3189240"/>
            <a:ext cx="2602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3564000" y="4686480"/>
            <a:ext cx="436680" cy="43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3559320" y="4700520"/>
            <a:ext cx="517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168800" y="428004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4332240" y="4680000"/>
            <a:ext cx="69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3530520" y="5124600"/>
            <a:ext cx="69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3568680" y="5856120"/>
            <a:ext cx="436680" cy="432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3564000" y="5870520"/>
            <a:ext cx="517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4200480" y="5673600"/>
            <a:ext cx="7192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4313160" y="6305400"/>
            <a:ext cx="83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4" name=""/>
              <p:cNvSpPr txBox="1"/>
              <p:nvPr/>
            </p:nvSpPr>
            <p:spPr>
              <a:xfrm>
                <a:off x="5148360" y="3730680"/>
                <a:ext cx="18968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09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5" name=""/>
              <p:cNvSpPr txBox="1"/>
              <p:nvPr/>
            </p:nvSpPr>
            <p:spPr>
              <a:xfrm>
                <a:off x="5156280" y="4302000"/>
                <a:ext cx="130644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4/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6" name=""/>
              <p:cNvSpPr txBox="1"/>
              <p:nvPr/>
            </p:nvSpPr>
            <p:spPr>
              <a:xfrm>
                <a:off x="5183280" y="4562640"/>
                <a:ext cx="1157040" cy="30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/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7" name=""/>
              <p:cNvSpPr txBox="1"/>
              <p:nvPr/>
            </p:nvSpPr>
            <p:spPr>
              <a:xfrm>
                <a:off x="5203800" y="5003640"/>
                <a:ext cx="128124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EI</m:t>
                    </m:r>
                    <m:f>
                      <m:fPr>
                        <m:type m:val="lin"/>
                      </m:fPr>
                      <m:num>
                        <m:r>
                          <m:t xml:space="preserve"> </m:t>
                        </m:r>
                      </m:num>
                      <m:den>
                        <m:r>
                          <m:t xml:space="preserve"> </m:t>
                        </m:r>
                      </m:den>
                    </m:f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8" name=""/>
          <p:cNvSpPr/>
          <p:nvPr/>
        </p:nvSpPr>
        <p:spPr>
          <a:xfrm>
            <a:off x="7507440" y="5656320"/>
            <a:ext cx="214200" cy="280800"/>
          </a:xfrm>
          <a:custGeom>
            <a:avLst/>
            <a:gdLst/>
            <a:ahLst/>
            <a:rect l="l" t="t" r="r" b="b"/>
            <a:pathLst>
              <a:path w="135" h="359">
                <a:moveTo>
                  <a:pt x="135" y="359"/>
                </a:moveTo>
                <a:lnTo>
                  <a:pt x="0" y="359"/>
                </a:lnTo>
                <a:lnTo>
                  <a:pt x="133" y="0"/>
                </a:lnTo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7885080" y="6073920"/>
            <a:ext cx="541440" cy="360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7792920" y="6046920"/>
            <a:ext cx="7556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(кН</a:t>
            </a:r>
            <a:r>
              <a:rPr b="1" lang="ru-RU" sz="800" spc="-1" strike="noStrike" baseline="-25000">
                <a:solidFill>
                  <a:srgbClr val="000000"/>
                </a:solidFill>
                <a:latin typeface="Times New Roman"/>
              </a:rPr>
              <a:t> * 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853320" y="5662440"/>
            <a:ext cx="147600" cy="857520"/>
          </a:xfrm>
          <a:custGeom>
            <a:avLst/>
            <a:gdLst/>
            <a:ahLst/>
            <a:rect l="l" t="t" r="r" b="b"/>
            <a:pathLst>
              <a:path w="93" h="540">
                <a:moveTo>
                  <a:pt x="0" y="0"/>
                </a:moveTo>
                <a:cubicBezTo>
                  <a:pt x="8" y="16"/>
                  <a:pt x="37" y="67"/>
                  <a:pt x="51" y="99"/>
                </a:cubicBezTo>
                <a:cubicBezTo>
                  <a:pt x="65" y="131"/>
                  <a:pt x="77" y="167"/>
                  <a:pt x="84" y="195"/>
                </a:cubicBezTo>
                <a:cubicBezTo>
                  <a:pt x="91" y="223"/>
                  <a:pt x="93" y="246"/>
                  <a:pt x="93" y="270"/>
                </a:cubicBezTo>
                <a:cubicBezTo>
                  <a:pt x="93" y="294"/>
                  <a:pt x="93" y="313"/>
                  <a:pt x="87" y="342"/>
                </a:cubicBezTo>
                <a:cubicBezTo>
                  <a:pt x="81" y="371"/>
                  <a:pt x="68" y="411"/>
                  <a:pt x="54" y="444"/>
                </a:cubicBezTo>
                <a:cubicBezTo>
                  <a:pt x="40" y="477"/>
                  <a:pt x="11" y="520"/>
                  <a:pt x="0" y="540"/>
                </a:cubicBezTo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6851520" y="5656320"/>
            <a:ext cx="863640" cy="863640"/>
          </a:xfrm>
          <a:custGeom>
            <a:avLst/>
            <a:gdLst/>
            <a:ahLst/>
            <a:rect l="l" t="t" r="r" b="b"/>
            <a:pathLst>
              <a:path w="590" h="499">
                <a:moveTo>
                  <a:pt x="0" y="499"/>
                </a:moveTo>
                <a:lnTo>
                  <a:pt x="0" y="0"/>
                </a:lnTo>
                <a:lnTo>
                  <a:pt x="590" y="0"/>
                </a:lnTo>
                <a:lnTo>
                  <a:pt x="590" y="49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6858000" y="609768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7192800" y="5853240"/>
            <a:ext cx="4320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6939000" y="5996160"/>
            <a:ext cx="431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7715160" y="5838840"/>
            <a:ext cx="870120" cy="185760"/>
          </a:xfrm>
          <a:custGeom>
            <a:avLst/>
            <a:gdLst/>
            <a:ahLst/>
            <a:rect l="l" t="t" r="r" b="b"/>
            <a:pathLst>
              <a:path w="548" h="117">
                <a:moveTo>
                  <a:pt x="4" y="66"/>
                </a:moveTo>
                <a:lnTo>
                  <a:pt x="0" y="0"/>
                </a:lnTo>
                <a:lnTo>
                  <a:pt x="279" y="117"/>
                </a:lnTo>
                <a:lnTo>
                  <a:pt x="548" y="66"/>
                </a:lnTo>
              </a:path>
            </a:pathLst>
          </a:custGeom>
          <a:blipFill rotWithShape="0">
            <a:blip r:embed="rId18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8158320" y="5948280"/>
            <a:ext cx="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7715160" y="5943600"/>
            <a:ext cx="863640" cy="576360"/>
          </a:xfrm>
          <a:custGeom>
            <a:avLst/>
            <a:gdLst/>
            <a:ahLst/>
            <a:rect l="l" t="t" r="r" b="b"/>
            <a:pathLst>
              <a:path w="544" h="363">
                <a:moveTo>
                  <a:pt x="0" y="363"/>
                </a:moveTo>
                <a:lnTo>
                  <a:pt x="0" y="0"/>
                </a:lnTo>
                <a:lnTo>
                  <a:pt x="544" y="0"/>
                </a:lnTo>
                <a:lnTo>
                  <a:pt x="544" y="36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7674120" y="5641920"/>
            <a:ext cx="431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6831000" y="4640400"/>
            <a:ext cx="863640" cy="863640"/>
          </a:xfrm>
          <a:custGeom>
            <a:avLst/>
            <a:gdLst/>
            <a:ahLst/>
            <a:rect l="l" t="t" r="r" b="b"/>
            <a:pathLst>
              <a:path w="590" h="499">
                <a:moveTo>
                  <a:pt x="0" y="499"/>
                </a:moveTo>
                <a:lnTo>
                  <a:pt x="0" y="0"/>
                </a:lnTo>
                <a:lnTo>
                  <a:pt x="590" y="0"/>
                </a:lnTo>
                <a:lnTo>
                  <a:pt x="590" y="49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7694640" y="4927680"/>
            <a:ext cx="863640" cy="576360"/>
          </a:xfrm>
          <a:custGeom>
            <a:avLst/>
            <a:gdLst/>
            <a:ahLst/>
            <a:rect l="l" t="t" r="r" b="b"/>
            <a:pathLst>
              <a:path w="544" h="363">
                <a:moveTo>
                  <a:pt x="0" y="363"/>
                </a:moveTo>
                <a:lnTo>
                  <a:pt x="0" y="0"/>
                </a:lnTo>
                <a:lnTo>
                  <a:pt x="544" y="0"/>
                </a:lnTo>
                <a:lnTo>
                  <a:pt x="544" y="363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6724800" y="5484960"/>
            <a:ext cx="215640" cy="727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6726240" y="54831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7588080" y="5506920"/>
            <a:ext cx="216000" cy="730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7588080" y="55054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8451720" y="5505480"/>
            <a:ext cx="216000" cy="730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8451720" y="55054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6792840" y="5432400"/>
            <a:ext cx="79560" cy="7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7218360" y="4602240"/>
            <a:ext cx="79200" cy="79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 rot="5400000">
            <a:off x="8729640" y="4884840"/>
            <a:ext cx="216000" cy="7272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8807400" y="48132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8580600" y="4886280"/>
            <a:ext cx="215640" cy="71640"/>
          </a:xfrm>
          <a:custGeom>
            <a:avLst/>
            <a:gdLst/>
            <a:ahLst/>
            <a:rect l="l" t="t" r="r" b="b"/>
            <a:pathLst>
              <a:path w="318" h="136">
                <a:moveTo>
                  <a:pt x="0" y="90"/>
                </a:moveTo>
                <a:lnTo>
                  <a:pt x="45" y="0"/>
                </a:lnTo>
                <a:lnTo>
                  <a:pt x="91" y="136"/>
                </a:lnTo>
                <a:lnTo>
                  <a:pt x="136" y="0"/>
                </a:lnTo>
                <a:lnTo>
                  <a:pt x="182" y="136"/>
                </a:lnTo>
                <a:lnTo>
                  <a:pt x="227" y="0"/>
                </a:lnTo>
                <a:lnTo>
                  <a:pt x="272" y="136"/>
                </a:lnTo>
                <a:lnTo>
                  <a:pt x="318" y="4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8524800" y="4884840"/>
            <a:ext cx="79560" cy="79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8774280" y="4884840"/>
            <a:ext cx="712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 rot="5400000">
            <a:off x="7281720" y="4894200"/>
            <a:ext cx="215640" cy="730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7434360" y="482292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7434360" y="4932360"/>
            <a:ext cx="215640" cy="0"/>
          </a:xfrm>
          <a:prstGeom prst="line">
            <a:avLst/>
          </a:prstGeom>
          <a:ln w="158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7391520" y="4890960"/>
            <a:ext cx="79200" cy="79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7597800" y="4889520"/>
            <a:ext cx="79200" cy="79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 rot="3612600">
            <a:off x="7749720" y="5139360"/>
            <a:ext cx="144360" cy="5400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7704000" y="4929120"/>
            <a:ext cx="179640" cy="287280"/>
          </a:xfrm>
          <a:prstGeom prst="line">
            <a:avLst/>
          </a:prstGeom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6848640" y="4549680"/>
            <a:ext cx="936360" cy="876240"/>
          </a:xfrm>
          <a:custGeom>
            <a:avLst/>
            <a:gdLst/>
            <a:ahLst/>
            <a:rect l="l" t="t" r="r" b="b"/>
            <a:pathLst>
              <a:path w="590" h="552">
                <a:moveTo>
                  <a:pt x="0" y="552"/>
                </a:moveTo>
                <a:cubicBezTo>
                  <a:pt x="7" y="535"/>
                  <a:pt x="31" y="491"/>
                  <a:pt x="42" y="450"/>
                </a:cubicBezTo>
                <a:cubicBezTo>
                  <a:pt x="53" y="409"/>
                  <a:pt x="65" y="354"/>
                  <a:pt x="69" y="306"/>
                </a:cubicBezTo>
                <a:cubicBezTo>
                  <a:pt x="73" y="258"/>
                  <a:pt x="71" y="200"/>
                  <a:pt x="69" y="159"/>
                </a:cubicBezTo>
                <a:cubicBezTo>
                  <a:pt x="67" y="118"/>
                  <a:pt x="69" y="114"/>
                  <a:pt x="57" y="60"/>
                </a:cubicBezTo>
                <a:cubicBezTo>
                  <a:pt x="195" y="24"/>
                  <a:pt x="150" y="36"/>
                  <a:pt x="303" y="0"/>
                </a:cubicBezTo>
                <a:cubicBezTo>
                  <a:pt x="486" y="33"/>
                  <a:pt x="366" y="12"/>
                  <a:pt x="590" y="57"/>
                </a:cubicBezTo>
                <a:cubicBezTo>
                  <a:pt x="560" y="108"/>
                  <a:pt x="569" y="98"/>
                  <a:pt x="560" y="120"/>
                </a:cubicBezTo>
                <a:cubicBezTo>
                  <a:pt x="551" y="142"/>
                  <a:pt x="543" y="170"/>
                  <a:pt x="539" y="189"/>
                </a:cubicBezTo>
                <a:cubicBezTo>
                  <a:pt x="535" y="208"/>
                  <a:pt x="534" y="227"/>
                  <a:pt x="533" y="237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7651800" y="4602240"/>
            <a:ext cx="79200" cy="79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7783560" y="4405320"/>
            <a:ext cx="0" cy="233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 flipV="1">
            <a:off x="7780320" y="4433760"/>
            <a:ext cx="119160" cy="216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7783560" y="4429080"/>
            <a:ext cx="100080" cy="28800"/>
          </a:xfrm>
          <a:custGeom>
            <a:avLst/>
            <a:gdLst/>
            <a:ahLst/>
            <a:rect l="l" t="t" r="r" b="b"/>
            <a:pathLst>
              <a:path w="63" h="18">
                <a:moveTo>
                  <a:pt x="0" y="0"/>
                </a:moveTo>
                <a:cubicBezTo>
                  <a:pt x="5" y="1"/>
                  <a:pt x="23" y="3"/>
                  <a:pt x="33" y="6"/>
                </a:cubicBezTo>
                <a:cubicBezTo>
                  <a:pt x="43" y="9"/>
                  <a:pt x="57" y="16"/>
                  <a:pt x="63" y="18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 rot="2768400">
            <a:off x="7769160" y="5093280"/>
            <a:ext cx="214560" cy="22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279828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2798284"/>
              </a:path>
            </a:pathLst>
          </a:custGeom>
          <a:noFill/>
          <a:ln w="19080">
            <a:solidFill>
              <a:srgbClr val="99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7097760" y="4932360"/>
            <a:ext cx="287280" cy="0"/>
          </a:xfrm>
          <a:prstGeom prst="line">
            <a:avLst/>
          </a:prstGeom>
          <a:ln w="28440">
            <a:solidFill>
              <a:srgbClr val="99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7074000" y="5159520"/>
            <a:ext cx="372960" cy="358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7088040" y="5165640"/>
            <a:ext cx="3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7861320" y="5183280"/>
            <a:ext cx="527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6900840" y="4586400"/>
            <a:ext cx="527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7710480" y="4930920"/>
            <a:ext cx="819000" cy="71280"/>
          </a:xfrm>
          <a:custGeom>
            <a:avLst/>
            <a:gdLst/>
            <a:ahLst/>
            <a:rect l="l" t="t" r="r" b="b"/>
            <a:pathLst>
              <a:path w="516" h="45">
                <a:moveTo>
                  <a:pt x="0" y="0"/>
                </a:moveTo>
                <a:cubicBezTo>
                  <a:pt x="9" y="1"/>
                  <a:pt x="31" y="3"/>
                  <a:pt x="54" y="6"/>
                </a:cubicBezTo>
                <a:cubicBezTo>
                  <a:pt x="77" y="9"/>
                  <a:pt x="114" y="16"/>
                  <a:pt x="141" y="21"/>
                </a:cubicBezTo>
                <a:cubicBezTo>
                  <a:pt x="168" y="26"/>
                  <a:pt x="188" y="32"/>
                  <a:pt x="219" y="36"/>
                </a:cubicBezTo>
                <a:cubicBezTo>
                  <a:pt x="250" y="40"/>
                  <a:pt x="295" y="45"/>
                  <a:pt x="327" y="45"/>
                </a:cubicBezTo>
                <a:cubicBezTo>
                  <a:pt x="359" y="45"/>
                  <a:pt x="383" y="42"/>
                  <a:pt x="414" y="36"/>
                </a:cubicBezTo>
                <a:cubicBezTo>
                  <a:pt x="445" y="30"/>
                  <a:pt x="495" y="15"/>
                  <a:pt x="516" y="9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7561440" y="4483080"/>
            <a:ext cx="26640" cy="108000"/>
          </a:xfrm>
          <a:custGeom>
            <a:avLst/>
            <a:gdLst/>
            <a:ahLst/>
            <a:rect l="l" t="t" r="r" b="b"/>
            <a:pathLst>
              <a:path w="17" h="68">
                <a:moveTo>
                  <a:pt x="0" y="68"/>
                </a:moveTo>
                <a:cubicBezTo>
                  <a:pt x="1" y="61"/>
                  <a:pt x="6" y="37"/>
                  <a:pt x="9" y="26"/>
                </a:cubicBezTo>
                <a:cubicBezTo>
                  <a:pt x="12" y="15"/>
                  <a:pt x="15" y="5"/>
                  <a:pt x="17" y="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7556400" y="4648320"/>
            <a:ext cx="25560" cy="110880"/>
          </a:xfrm>
          <a:custGeom>
            <a:avLst/>
            <a:gdLst/>
            <a:ahLst/>
            <a:rect l="l" t="t" r="r" b="b"/>
            <a:pathLst>
              <a:path w="16" h="70">
                <a:moveTo>
                  <a:pt x="0" y="0"/>
                </a:moveTo>
                <a:cubicBezTo>
                  <a:pt x="1" y="8"/>
                  <a:pt x="3" y="34"/>
                  <a:pt x="6" y="46"/>
                </a:cubicBezTo>
                <a:cubicBezTo>
                  <a:pt x="9" y="58"/>
                  <a:pt x="14" y="65"/>
                  <a:pt x="16" y="70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7716960" y="4202280"/>
            <a:ext cx="40932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7426440" y="4265640"/>
            <a:ext cx="40932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8147160" y="46339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6678720" y="4645080"/>
            <a:ext cx="14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6672240" y="4788000"/>
            <a:ext cx="14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6675480" y="4932360"/>
            <a:ext cx="14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6675480" y="5076720"/>
            <a:ext cx="14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6675480" y="5364000"/>
            <a:ext cx="14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6675480" y="5221440"/>
            <a:ext cx="14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6672240" y="548316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6672240" y="464184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7866000" y="4570560"/>
            <a:ext cx="3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6588000" y="4365720"/>
            <a:ext cx="2732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7035840" y="3768840"/>
            <a:ext cx="194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Грузовое состояние ОСС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8058240" y="4206960"/>
            <a:ext cx="772920" cy="39528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1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1" name=""/>
              <p:cNvSpPr txBox="1"/>
              <p:nvPr/>
            </p:nvSpPr>
            <p:spPr>
              <a:xfrm>
                <a:off x="5003640" y="5445000"/>
                <a:ext cx="180036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  <m:e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I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ds</m:t>
                                </m:r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12" name=""/>
          <p:cNvSpPr/>
          <p:nvPr/>
        </p:nvSpPr>
        <p:spPr>
          <a:xfrm>
            <a:off x="5130720" y="6296040"/>
            <a:ext cx="172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7;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 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–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3367080" y="6359400"/>
            <a:ext cx="7192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6041880" y="2890800"/>
            <a:ext cx="2827440" cy="920880"/>
          </a:xfrm>
          <a:custGeom>
            <a:avLst/>
            <a:gdLst/>
            <a:ahLst/>
            <a:rect l="l" t="t" r="r" b="b"/>
            <a:pathLst>
              <a:path w="1781" h="529">
                <a:moveTo>
                  <a:pt x="20" y="492"/>
                </a:moveTo>
                <a:cubicBezTo>
                  <a:pt x="0" y="455"/>
                  <a:pt x="12" y="359"/>
                  <a:pt x="12" y="284"/>
                </a:cubicBezTo>
                <a:cubicBezTo>
                  <a:pt x="12" y="209"/>
                  <a:pt x="0" y="88"/>
                  <a:pt x="20" y="44"/>
                </a:cubicBezTo>
                <a:cubicBezTo>
                  <a:pt x="40" y="0"/>
                  <a:pt x="55" y="24"/>
                  <a:pt x="132" y="20"/>
                </a:cubicBezTo>
                <a:cubicBezTo>
                  <a:pt x="209" y="16"/>
                  <a:pt x="369" y="20"/>
                  <a:pt x="484" y="20"/>
                </a:cubicBezTo>
                <a:cubicBezTo>
                  <a:pt x="599" y="20"/>
                  <a:pt x="715" y="20"/>
                  <a:pt x="820" y="20"/>
                </a:cubicBezTo>
                <a:cubicBezTo>
                  <a:pt x="925" y="20"/>
                  <a:pt x="1020" y="20"/>
                  <a:pt x="1116" y="20"/>
                </a:cubicBezTo>
                <a:cubicBezTo>
                  <a:pt x="1212" y="20"/>
                  <a:pt x="1305" y="20"/>
                  <a:pt x="1396" y="20"/>
                </a:cubicBezTo>
                <a:cubicBezTo>
                  <a:pt x="1487" y="20"/>
                  <a:pt x="1599" y="13"/>
                  <a:pt x="1660" y="20"/>
                </a:cubicBezTo>
                <a:cubicBezTo>
                  <a:pt x="1721" y="27"/>
                  <a:pt x="1747" y="20"/>
                  <a:pt x="1764" y="60"/>
                </a:cubicBezTo>
                <a:cubicBezTo>
                  <a:pt x="1781" y="100"/>
                  <a:pt x="1765" y="193"/>
                  <a:pt x="1764" y="260"/>
                </a:cubicBezTo>
                <a:cubicBezTo>
                  <a:pt x="1763" y="327"/>
                  <a:pt x="1767" y="417"/>
                  <a:pt x="1756" y="460"/>
                </a:cubicBezTo>
                <a:cubicBezTo>
                  <a:pt x="1745" y="503"/>
                  <a:pt x="1761" y="505"/>
                  <a:pt x="1700" y="516"/>
                </a:cubicBezTo>
                <a:cubicBezTo>
                  <a:pt x="1639" y="527"/>
                  <a:pt x="1507" y="523"/>
                  <a:pt x="1388" y="524"/>
                </a:cubicBezTo>
                <a:cubicBezTo>
                  <a:pt x="1269" y="525"/>
                  <a:pt x="1140" y="524"/>
                  <a:pt x="988" y="524"/>
                </a:cubicBezTo>
                <a:cubicBezTo>
                  <a:pt x="836" y="524"/>
                  <a:pt x="619" y="524"/>
                  <a:pt x="476" y="524"/>
                </a:cubicBezTo>
                <a:cubicBezTo>
                  <a:pt x="333" y="524"/>
                  <a:pt x="208" y="529"/>
                  <a:pt x="132" y="524"/>
                </a:cubicBezTo>
                <a:cubicBezTo>
                  <a:pt x="56" y="519"/>
                  <a:pt x="43" y="499"/>
                  <a:pt x="20" y="492"/>
                </a:cubicBezTo>
                <a:close/>
              </a:path>
            </a:pathLst>
          </a:custGeom>
          <a:blipFill rotWithShape="0">
            <a:blip r:embed="rId25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5" name=""/>
              <p:cNvSpPr txBox="1"/>
              <p:nvPr/>
            </p:nvSpPr>
            <p:spPr>
              <a:xfrm>
                <a:off x="5202360" y="4807080"/>
                <a:ext cx="93636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EI</m:t>
                    </m:r>
                    <m:f>
                      <m:fPr>
                        <m:type m:val="lin"/>
                      </m:fPr>
                      <m:num>
                        <m:r>
                          <m:t xml:space="preserve"> </m:t>
                        </m:r>
                      </m:num>
                      <m:den>
                        <m:r>
                          <m:t xml:space="preserve"> </m:t>
                        </m:r>
                      </m:den>
                    </m:f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6" name=""/>
              <p:cNvSpPr txBox="1"/>
              <p:nvPr/>
            </p:nvSpPr>
            <p:spPr>
              <a:xfrm>
                <a:off x="5200560" y="5234040"/>
                <a:ext cx="113508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rPr>
                        <m:lit/>
                        <m:nor/>
                      </m:rPr>
                      <m:t xml:space="preserve">EI</m:t>
                    </m:r>
                    <m:f>
                      <m:fPr>
                        <m:type m:val="lin"/>
                      </m:fPr>
                      <m:num>
                        <m:r>
                          <m:t xml:space="preserve"> </m:t>
                        </m:r>
                      </m:num>
                      <m:den>
                        <m:r>
                          <m:t xml:space="preserve">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7" name=""/>
              <p:cNvSpPr txBox="1"/>
              <p:nvPr/>
            </p:nvSpPr>
            <p:spPr>
              <a:xfrm>
                <a:off x="611280" y="1052640"/>
                <a:ext cx="374328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09/27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  <m:r>
                                  <m:t xml:space="preserve"> 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50/3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EI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7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18" name=""/>
          <p:cNvSpPr/>
          <p:nvPr/>
        </p:nvSpPr>
        <p:spPr>
          <a:xfrm>
            <a:off x="5146560" y="3716280"/>
            <a:ext cx="2017800" cy="2913120"/>
          </a:xfrm>
          <a:custGeom>
            <a:avLst/>
            <a:gdLst/>
            <a:ahLst/>
            <a:rect l="l" t="t" r="r" b="b"/>
            <a:pathLst>
              <a:path w="1271" h="1835">
                <a:moveTo>
                  <a:pt x="11" y="1685"/>
                </a:moveTo>
                <a:cubicBezTo>
                  <a:pt x="0" y="1559"/>
                  <a:pt x="7" y="1230"/>
                  <a:pt x="7" y="973"/>
                </a:cubicBezTo>
                <a:cubicBezTo>
                  <a:pt x="7" y="716"/>
                  <a:pt x="1" y="302"/>
                  <a:pt x="11" y="151"/>
                </a:cubicBezTo>
                <a:cubicBezTo>
                  <a:pt x="21" y="0"/>
                  <a:pt x="18" y="80"/>
                  <a:pt x="66" y="65"/>
                </a:cubicBezTo>
                <a:cubicBezTo>
                  <a:pt x="114" y="50"/>
                  <a:pt x="168" y="59"/>
                  <a:pt x="300" y="59"/>
                </a:cubicBezTo>
                <a:cubicBezTo>
                  <a:pt x="432" y="59"/>
                  <a:pt x="721" y="65"/>
                  <a:pt x="858" y="65"/>
                </a:cubicBezTo>
                <a:cubicBezTo>
                  <a:pt x="995" y="65"/>
                  <a:pt x="1057" y="58"/>
                  <a:pt x="1122" y="59"/>
                </a:cubicBezTo>
                <a:cubicBezTo>
                  <a:pt x="1187" y="60"/>
                  <a:pt x="1230" y="24"/>
                  <a:pt x="1248" y="71"/>
                </a:cubicBezTo>
                <a:cubicBezTo>
                  <a:pt x="1266" y="118"/>
                  <a:pt x="1271" y="293"/>
                  <a:pt x="1230" y="341"/>
                </a:cubicBezTo>
                <a:cubicBezTo>
                  <a:pt x="1189" y="389"/>
                  <a:pt x="1041" y="339"/>
                  <a:pt x="1002" y="359"/>
                </a:cubicBezTo>
                <a:cubicBezTo>
                  <a:pt x="963" y="379"/>
                  <a:pt x="996" y="384"/>
                  <a:pt x="996" y="461"/>
                </a:cubicBezTo>
                <a:cubicBezTo>
                  <a:pt x="996" y="538"/>
                  <a:pt x="1002" y="668"/>
                  <a:pt x="1002" y="821"/>
                </a:cubicBezTo>
                <a:cubicBezTo>
                  <a:pt x="1002" y="974"/>
                  <a:pt x="988" y="1244"/>
                  <a:pt x="996" y="1379"/>
                </a:cubicBezTo>
                <a:cubicBezTo>
                  <a:pt x="1004" y="1514"/>
                  <a:pt x="1044" y="1560"/>
                  <a:pt x="1050" y="1631"/>
                </a:cubicBezTo>
                <a:cubicBezTo>
                  <a:pt x="1056" y="1702"/>
                  <a:pt x="1076" y="1775"/>
                  <a:pt x="1032" y="1805"/>
                </a:cubicBezTo>
                <a:cubicBezTo>
                  <a:pt x="988" y="1835"/>
                  <a:pt x="865" y="1810"/>
                  <a:pt x="786" y="1811"/>
                </a:cubicBezTo>
                <a:cubicBezTo>
                  <a:pt x="707" y="1812"/>
                  <a:pt x="643" y="1811"/>
                  <a:pt x="558" y="1811"/>
                </a:cubicBezTo>
                <a:cubicBezTo>
                  <a:pt x="473" y="1811"/>
                  <a:pt x="358" y="1811"/>
                  <a:pt x="276" y="1811"/>
                </a:cubicBezTo>
                <a:cubicBezTo>
                  <a:pt x="194" y="1811"/>
                  <a:pt x="110" y="1832"/>
                  <a:pt x="66" y="1811"/>
                </a:cubicBezTo>
                <a:cubicBezTo>
                  <a:pt x="22" y="1790"/>
                  <a:pt x="22" y="1711"/>
                  <a:pt x="11" y="1685"/>
                </a:cubicBezTo>
                <a:close/>
              </a:path>
            </a:pathLst>
          </a:custGeom>
          <a:blipFill rotWithShape="0">
            <a:blip r:embed="rId26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17520" y="2341440"/>
            <a:ext cx="4778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–13,723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Н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6,902/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2,809/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598320" y="3544920"/>
            <a:ext cx="582840" cy="1298520"/>
          </a:xfrm>
          <a:custGeom>
            <a:avLst/>
            <a:gdLst/>
            <a:ahLst/>
            <a:rect l="l" t="t" r="r" b="b"/>
            <a:pathLst>
              <a:path w="367" h="818">
                <a:moveTo>
                  <a:pt x="0" y="1"/>
                </a:moveTo>
                <a:cubicBezTo>
                  <a:pt x="18" y="0"/>
                  <a:pt x="64" y="1"/>
                  <a:pt x="110" y="1"/>
                </a:cubicBezTo>
                <a:cubicBezTo>
                  <a:pt x="159" y="37"/>
                  <a:pt x="190" y="67"/>
                  <a:pt x="224" y="105"/>
                </a:cubicBezTo>
                <a:cubicBezTo>
                  <a:pt x="258" y="143"/>
                  <a:pt x="292" y="185"/>
                  <a:pt x="315" y="229"/>
                </a:cubicBezTo>
                <a:cubicBezTo>
                  <a:pt x="338" y="273"/>
                  <a:pt x="361" y="320"/>
                  <a:pt x="364" y="369"/>
                </a:cubicBezTo>
                <a:cubicBezTo>
                  <a:pt x="367" y="418"/>
                  <a:pt x="358" y="471"/>
                  <a:pt x="334" y="521"/>
                </a:cubicBezTo>
                <a:cubicBezTo>
                  <a:pt x="310" y="571"/>
                  <a:pt x="258" y="629"/>
                  <a:pt x="219" y="669"/>
                </a:cubicBezTo>
                <a:cubicBezTo>
                  <a:pt x="181" y="709"/>
                  <a:pt x="137" y="736"/>
                  <a:pt x="101" y="761"/>
                </a:cubicBezTo>
                <a:cubicBezTo>
                  <a:pt x="64" y="786"/>
                  <a:pt x="24" y="806"/>
                  <a:pt x="3" y="818"/>
                </a:cubicBezTo>
              </a:path>
            </a:pathLst>
          </a:custGeom>
          <a:blipFill rotWithShape="0">
            <a:blip r:embed="rId27">
              <a:alphaModFix amt="55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603360" y="3370320"/>
            <a:ext cx="1295280" cy="360360"/>
          </a:xfrm>
          <a:custGeom>
            <a:avLst/>
            <a:gdLst/>
            <a:ahLst/>
            <a:rect l="l" t="t" r="r" b="b"/>
            <a:pathLst>
              <a:path w="816" h="272">
                <a:moveTo>
                  <a:pt x="0" y="136"/>
                </a:moveTo>
                <a:lnTo>
                  <a:pt x="0" y="272"/>
                </a:lnTo>
                <a:lnTo>
                  <a:pt x="816" y="0"/>
                </a:lnTo>
                <a:lnTo>
                  <a:pt x="816" y="136"/>
                </a:lnTo>
              </a:path>
            </a:pathLst>
          </a:custGeom>
          <a:blipFill rotWithShape="0">
            <a:blip r:embed="rId28">
              <a:alphaModFix amt="55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1411200" y="3552840"/>
            <a:ext cx="663840" cy="431640"/>
          </a:xfrm>
          <a:custGeom>
            <a:avLst/>
            <a:gdLst/>
            <a:ahLst/>
            <a:rect l="l" t="t" r="r" b="b"/>
            <a:pathLst>
              <a:path w="418" h="272">
                <a:moveTo>
                  <a:pt x="308" y="0"/>
                </a:moveTo>
                <a:lnTo>
                  <a:pt x="418" y="0"/>
                </a:lnTo>
                <a:lnTo>
                  <a:pt x="0" y="272"/>
                </a:lnTo>
                <a:lnTo>
                  <a:pt x="304" y="272"/>
                </a:lnTo>
              </a:path>
            </a:pathLst>
          </a:custGeom>
          <a:blipFill rotWithShape="0">
            <a:blip r:embed="rId29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1722600" y="3984480"/>
            <a:ext cx="179280" cy="865440"/>
          </a:xfrm>
          <a:custGeom>
            <a:avLst/>
            <a:gdLst/>
            <a:ahLst/>
            <a:rect l="l" t="t" r="r" b="b"/>
            <a:pathLst>
              <a:path w="91" h="545">
                <a:moveTo>
                  <a:pt x="91" y="0"/>
                </a:moveTo>
                <a:lnTo>
                  <a:pt x="0" y="0"/>
                </a:lnTo>
                <a:lnTo>
                  <a:pt x="46" y="545"/>
                </a:lnTo>
                <a:lnTo>
                  <a:pt x="91" y="545"/>
                </a:lnTo>
              </a:path>
            </a:pathLst>
          </a:custGeom>
          <a:blipFill rotWithShape="0">
            <a:blip r:embed="rId30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1898640" y="3978360"/>
            <a:ext cx="1295280" cy="571320"/>
          </a:xfrm>
          <a:custGeom>
            <a:avLst/>
            <a:gdLst/>
            <a:ahLst/>
            <a:rect l="l" t="t" r="r" b="b"/>
            <a:pathLst>
              <a:path w="816" h="360">
                <a:moveTo>
                  <a:pt x="0" y="0"/>
                </a:moveTo>
                <a:lnTo>
                  <a:pt x="0" y="182"/>
                </a:lnTo>
                <a:lnTo>
                  <a:pt x="401" y="360"/>
                </a:lnTo>
                <a:lnTo>
                  <a:pt x="816" y="0"/>
                </a:lnTo>
              </a:path>
            </a:pathLst>
          </a:custGeom>
          <a:blipFill rotWithShape="0">
            <a:blip r:embed="rId31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3021120" y="3978360"/>
            <a:ext cx="179280" cy="865080"/>
          </a:xfrm>
          <a:custGeom>
            <a:avLst/>
            <a:gdLst/>
            <a:ahLst/>
            <a:rect l="l" t="t" r="r" b="b"/>
            <a:pathLst>
              <a:path w="136" h="545">
                <a:moveTo>
                  <a:pt x="136" y="0"/>
                </a:moveTo>
                <a:lnTo>
                  <a:pt x="0" y="545"/>
                </a:lnTo>
                <a:lnTo>
                  <a:pt x="136" y="545"/>
                </a:lnTo>
              </a:path>
            </a:pathLst>
          </a:custGeom>
          <a:blipFill rotWithShape="0">
            <a:blip r:embed="rId32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2533680" y="397188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03360" y="4194000"/>
            <a:ext cx="57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603360" y="3548160"/>
            <a:ext cx="1295280" cy="1295280"/>
          </a:xfrm>
          <a:custGeom>
            <a:avLst/>
            <a:gdLst/>
            <a:ahLst/>
            <a:rect l="l" t="t" r="r" b="b"/>
            <a:pathLst>
              <a:path w="953" h="862">
                <a:moveTo>
                  <a:pt x="0" y="862"/>
                </a:moveTo>
                <a:lnTo>
                  <a:pt x="0" y="0"/>
                </a:lnTo>
                <a:lnTo>
                  <a:pt x="953" y="0"/>
                </a:lnTo>
                <a:lnTo>
                  <a:pt x="953" y="8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1900080" y="3979800"/>
            <a:ext cx="1295640" cy="863640"/>
          </a:xfrm>
          <a:custGeom>
            <a:avLst/>
            <a:gdLst/>
            <a:ahLst/>
            <a:rect l="l" t="t" r="r" b="b"/>
            <a:pathLst>
              <a:path w="817" h="544">
                <a:moveTo>
                  <a:pt x="0" y="0"/>
                </a:moveTo>
                <a:lnTo>
                  <a:pt x="817" y="0"/>
                </a:lnTo>
                <a:lnTo>
                  <a:pt x="817" y="5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1166760" y="4057560"/>
            <a:ext cx="69372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3,34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328680" y="3267000"/>
            <a:ext cx="72072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3,72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525600" y="3475080"/>
            <a:ext cx="71280" cy="252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93720" y="3462480"/>
            <a:ext cx="71280" cy="75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1062000" y="4362480"/>
            <a:ext cx="68580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51,86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1177920" y="4200480"/>
            <a:ext cx="73080" cy="179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 flipH="1">
            <a:off x="1641240" y="3994200"/>
            <a:ext cx="73080" cy="84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1865160" y="3311640"/>
            <a:ext cx="72072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3,72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1028880" y="3691080"/>
            <a:ext cx="68580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41,70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335240" y="3902040"/>
            <a:ext cx="71280" cy="76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879560" y="4540320"/>
            <a:ext cx="72072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8,35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421000" y="4586400"/>
            <a:ext cx="72072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50,17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905120" y="4267080"/>
            <a:ext cx="136440" cy="287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2527200" y="4551480"/>
            <a:ext cx="71640" cy="75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639880" y="4836960"/>
            <a:ext cx="72072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1,77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1498680" y="4836960"/>
            <a:ext cx="72072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5,10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295200" y="5170320"/>
            <a:ext cx="611280" cy="1295640"/>
          </a:xfrm>
          <a:custGeom>
            <a:avLst/>
            <a:gdLst/>
            <a:ahLst/>
            <a:rect l="l" t="t" r="r" b="b"/>
            <a:pathLst>
              <a:path w="363" h="816">
                <a:moveTo>
                  <a:pt x="182" y="816"/>
                </a:moveTo>
                <a:lnTo>
                  <a:pt x="0" y="816"/>
                </a:lnTo>
                <a:lnTo>
                  <a:pt x="363" y="0"/>
                </a:lnTo>
                <a:lnTo>
                  <a:pt x="182" y="0"/>
                </a:lnTo>
              </a:path>
            </a:pathLst>
          </a:custGeom>
          <a:blipFill rotWithShape="0">
            <a:blip r:embed="rId33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1598760" y="5170320"/>
            <a:ext cx="29988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898640" y="5602320"/>
            <a:ext cx="46080" cy="86364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1898640" y="5495760"/>
            <a:ext cx="1297080" cy="341640"/>
          </a:xfrm>
          <a:custGeom>
            <a:avLst/>
            <a:gdLst/>
            <a:ahLst/>
            <a:rect l="l" t="t" r="r" b="b"/>
            <a:pathLst>
              <a:path w="817" h="273">
                <a:moveTo>
                  <a:pt x="0" y="91"/>
                </a:moveTo>
                <a:lnTo>
                  <a:pt x="0" y="0"/>
                </a:lnTo>
                <a:lnTo>
                  <a:pt x="409" y="0"/>
                </a:lnTo>
                <a:lnTo>
                  <a:pt x="409" y="273"/>
                </a:lnTo>
                <a:lnTo>
                  <a:pt x="817" y="273"/>
                </a:lnTo>
                <a:lnTo>
                  <a:pt x="817" y="91"/>
                </a:lnTo>
              </a:path>
            </a:pathLst>
          </a:custGeom>
          <a:blipFill rotWithShape="0">
            <a:blip r:embed="rId36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425520" y="6207120"/>
            <a:ext cx="144360" cy="142920"/>
          </a:xfrm>
          <a:prstGeom prst="flowChartOr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1670040" y="5321160"/>
            <a:ext cx="144360" cy="142920"/>
          </a:xfrm>
          <a:prstGeom prst="flowChartOr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2174760" y="5495760"/>
            <a:ext cx="108000" cy="108000"/>
          </a:xfrm>
          <a:prstGeom prst="flowChartOr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615960" y="5302080"/>
            <a:ext cx="144360" cy="144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2800440" y="5640480"/>
            <a:ext cx="144360" cy="144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2817720" y="5713560"/>
            <a:ext cx="10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633240" y="5380200"/>
            <a:ext cx="10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2333520" y="5824440"/>
            <a:ext cx="72072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6,72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2224080" y="5283360"/>
            <a:ext cx="57780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,27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1270080" y="5583240"/>
            <a:ext cx="64764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7,7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603360" y="5170320"/>
            <a:ext cx="1295280" cy="90720"/>
          </a:xfrm>
          <a:prstGeom prst="rect">
            <a:avLst/>
          </a:prstGeom>
          <a:blipFill rotWithShape="0">
            <a:blip r:embed="rId37">
              <a:alphaModFix amt="30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1192320" y="5170320"/>
            <a:ext cx="108000" cy="108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1212840" y="5222880"/>
            <a:ext cx="7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3141720" y="5602320"/>
            <a:ext cx="54000" cy="863640"/>
          </a:xfrm>
          <a:prstGeom prst="rect">
            <a:avLst/>
          </a:prstGeom>
          <a:blipFill rotWithShape="0">
            <a:blip r:embed="rId38">
              <a:alphaModFix amt="30000"/>
            </a:blip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603360" y="5170320"/>
            <a:ext cx="1295280" cy="1295640"/>
          </a:xfrm>
          <a:custGeom>
            <a:avLst/>
            <a:gdLst/>
            <a:ahLst/>
            <a:rect l="l" t="t" r="r" b="b"/>
            <a:pathLst>
              <a:path w="953" h="862">
                <a:moveTo>
                  <a:pt x="0" y="862"/>
                </a:moveTo>
                <a:lnTo>
                  <a:pt x="0" y="0"/>
                </a:lnTo>
                <a:lnTo>
                  <a:pt x="953" y="0"/>
                </a:lnTo>
                <a:lnTo>
                  <a:pt x="953" y="8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1900080" y="5602320"/>
            <a:ext cx="1295640" cy="863640"/>
          </a:xfrm>
          <a:custGeom>
            <a:avLst/>
            <a:gdLst/>
            <a:ahLst/>
            <a:rect l="l" t="t" r="r" b="b"/>
            <a:pathLst>
              <a:path w="817" h="544">
                <a:moveTo>
                  <a:pt x="0" y="0"/>
                </a:moveTo>
                <a:lnTo>
                  <a:pt x="817" y="0"/>
                </a:lnTo>
                <a:lnTo>
                  <a:pt x="817" y="5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3094200" y="6008760"/>
            <a:ext cx="107640" cy="108000"/>
          </a:xfrm>
          <a:prstGeom prst="flowChartOr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90400" y="4954680"/>
            <a:ext cx="64800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7,7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611280" y="6362640"/>
            <a:ext cx="64764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2,28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2643120" y="6362640"/>
            <a:ext cx="57780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,94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1892160" y="6362640"/>
            <a:ext cx="57816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,06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950760" y="5254560"/>
            <a:ext cx="57816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4,57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289080" y="6465960"/>
            <a:ext cx="384120" cy="63360"/>
          </a:xfrm>
          <a:custGeom>
            <a:avLst/>
            <a:gdLst/>
            <a:ahLst/>
            <a:rect l="l" t="t" r="r" b="b"/>
            <a:pathLst>
              <a:path w="242" h="40">
                <a:moveTo>
                  <a:pt x="0" y="0"/>
                </a:moveTo>
                <a:cubicBezTo>
                  <a:pt x="12" y="6"/>
                  <a:pt x="47" y="28"/>
                  <a:pt x="74" y="34"/>
                </a:cubicBezTo>
                <a:cubicBezTo>
                  <a:pt x="101" y="40"/>
                  <a:pt x="134" y="40"/>
                  <a:pt x="162" y="38"/>
                </a:cubicBezTo>
                <a:cubicBezTo>
                  <a:pt x="190" y="36"/>
                  <a:pt x="225" y="25"/>
                  <a:pt x="242" y="22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1027080" y="5818320"/>
            <a:ext cx="436680" cy="43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1057320" y="5832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1889280" y="5973840"/>
            <a:ext cx="107640" cy="108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1906560" y="6027840"/>
            <a:ext cx="7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 flipV="1">
            <a:off x="1203480" y="3178080"/>
            <a:ext cx="720720" cy="1447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2987640" y="2852640"/>
            <a:ext cx="2162160" cy="3745080"/>
          </a:xfrm>
          <a:custGeom>
            <a:avLst/>
            <a:gdLst/>
            <a:ahLst/>
            <a:rect l="l" t="t" r="r" b="b"/>
            <a:pathLst>
              <a:path w="1362" h="2359">
                <a:moveTo>
                  <a:pt x="136" y="2313"/>
                </a:moveTo>
                <a:lnTo>
                  <a:pt x="136" y="681"/>
                </a:lnTo>
                <a:lnTo>
                  <a:pt x="0" y="318"/>
                </a:lnTo>
                <a:lnTo>
                  <a:pt x="138" y="79"/>
                </a:lnTo>
                <a:lnTo>
                  <a:pt x="454" y="0"/>
                </a:lnTo>
                <a:lnTo>
                  <a:pt x="1361" y="408"/>
                </a:lnTo>
                <a:lnTo>
                  <a:pt x="1362" y="1691"/>
                </a:lnTo>
                <a:lnTo>
                  <a:pt x="1266" y="1719"/>
                </a:lnTo>
                <a:lnTo>
                  <a:pt x="1266" y="1871"/>
                </a:lnTo>
                <a:lnTo>
                  <a:pt x="1354" y="1903"/>
                </a:lnTo>
                <a:lnTo>
                  <a:pt x="1361" y="2359"/>
                </a:lnTo>
                <a:lnTo>
                  <a:pt x="136" y="2359"/>
                </a:lnTo>
                <a:lnTo>
                  <a:pt x="136" y="2313"/>
                </a:lnTo>
                <a:close/>
              </a:path>
            </a:pathLst>
          </a:custGeom>
          <a:solidFill>
            <a:srgbClr val="ffff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324000" y="2711520"/>
            <a:ext cx="30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0" name=""/>
              <p:cNvSpPr txBox="1"/>
              <p:nvPr/>
            </p:nvSpPr>
            <p:spPr>
              <a:xfrm>
                <a:off x="6110280" y="2908440"/>
                <a:ext cx="267336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  <m:r>
                                  <m:t xml:space="preserve"> 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 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81" name=""/>
          <p:cNvSpPr/>
          <p:nvPr/>
        </p:nvSpPr>
        <p:spPr>
          <a:xfrm>
            <a:off x="6210360" y="322272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6716880" y="30211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7" dur="indefinite" restart="never" nodeType="tmRoot">
          <p:childTnLst>
            <p:seq>
              <p:cTn id="2988" dur="indefinite" nodeType="mainSeq">
                <p:childTnLst>
                  <p:par>
                    <p:cTn id="2989" fill="hold">
                      <p:stCondLst>
                        <p:cond delay="indefinite"/>
                      </p:stCondLst>
                      <p:childTnLst>
                        <p:par>
                          <p:cTn id="2990" fill="hold">
                            <p:stCondLst>
                              <p:cond delay="0"/>
                            </p:stCondLst>
                            <p:childTnLst>
                              <p:par>
                                <p:cTn id="29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3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4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5" dur="1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8" dur="1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9" dur="1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0" dur="1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3" dur="1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4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5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8" dur="1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9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0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3" dur="1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4" dur="10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5" dur="10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8" dur="10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9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0" dur="10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3" dur="1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4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5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8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9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0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3" dur="1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4" dur="1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5" dur="1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8" dur="10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9" dur="10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0" dur="10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3" dur="10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4" dur="1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5" dur="1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8" dur="10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9" dur="10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0" dur="10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3" dur="10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4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5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8" dur="10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9" dur="1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0" dur="1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3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4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5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8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9" dur="1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0" dur="1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3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4" dur="1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5" dur="1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8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9" dur="10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0" dur="10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3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4" dur="10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5" dur="10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8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9" dur="1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0" dur="1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3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4" dur="10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5" dur="10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8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9" dur="10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0" dur="10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3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4" dur="10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5" dur="10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8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9" dur="1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0" dur="1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3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4" dur="10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5" dur="10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8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9" dur="10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0" dur="10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3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4" dur="1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5" dur="1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8" dur="10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9" dur="10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0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1" fill="hold">
                      <p:stCondLst>
                        <p:cond delay="indefinite"/>
                      </p:stCondLst>
                      <p:childTnLst>
                        <p:par>
                          <p:cTn id="3132" fill="hold">
                            <p:stCondLst>
                              <p:cond delay="0"/>
                            </p:stCondLst>
                            <p:childTnLst>
                              <p:par>
                                <p:cTn id="3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5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6" dur="1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7" dur="1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0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1" dur="10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2" dur="10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5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6" dur="10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7" dur="10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0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1" dur="1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2" dur="1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5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6" dur="10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7" dur="10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0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1" dur="10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2" dur="10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5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6" dur="10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7" dur="10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0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1" dur="10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2" dur="10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5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6" dur="10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7" dur="10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0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1" dur="10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2" dur="10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5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6" dur="1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7" dur="1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0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1" dur="1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2" dur="1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5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6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7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0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1" dur="1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2" dur="1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5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6" dur="1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7" dur="1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0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1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2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5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6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7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0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1" dur="1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2" dur="1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5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6" dur="1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7" dur="1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0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1" dur="1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2" dur="1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5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6" dur="10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7" dur="10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0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1" dur="10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2" dur="10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5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6" dur="10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7" dur="10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0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1" dur="10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2" dur="10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5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6" dur="10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7" dur="10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0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1" dur="10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2" dur="10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5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6" dur="10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7" dur="10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0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1" dur="10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2" dur="10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5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6" dur="1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7" dur="1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0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1" dur="10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2" dur="10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5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6" dur="10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7" dur="10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06:55:03Z</dcterms:created>
  <dc:creator>User</dc:creator>
  <dc:description/>
  <dc:language>en-US</dc:language>
  <cp:lastModifiedBy>user</cp:lastModifiedBy>
  <dcterms:modified xsi:type="dcterms:W3CDTF">2011-02-10T14:03:02Z</dcterms:modified>
  <cp:revision>84</cp:revision>
  <dc:subject/>
  <dc:title>Слайд 1</dc:title>
</cp:coreProperties>
</file>